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389-7084-4FCA-9396-D8CDC8DC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07A-25F4-437A-9B7A-57502AF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ACD-9495-4318-846C-9370EB63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5AC-5BB7-467D-B9AB-BB7067E1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C7F-138D-4238-B9C0-7F1F8D5C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DE6-3949-4F80-AF1B-420DD4E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05F-EAE8-4279-A73F-F499F68F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173-7213-47E7-B442-8ADE70E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CBF-39A3-4FF0-91DC-3631417D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708-1BAB-4671-A60C-6D9B9668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CD8-B570-4D54-A65A-0ED40E0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7F1-B251-4D6A-9226-B6ED56E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E8A-E900-484F-B78B-5827B348B6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SSW-Logo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1.png"/><Relationship Id="rId8" Type="http://schemas.openxmlformats.org/officeDocument/2006/relationships/image" Target="../media/image70.png"/><Relationship Id="rId9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0000"/>
                </a:solidFill>
                <a:latin typeface="Times New Roman"/>
              </a:rPr>
              <a:t>Dynamic Web Pages</a:t>
            </a:r>
            <a:br>
              <a:rPr sz="3600"/>
            </a:br>
            <a:r>
              <a:rPr b="0" i="1" lang="de-DE" sz="3600" spc="-1" strike="noStrike">
                <a:solidFill>
                  <a:srgbClr val="ff0000"/>
                </a:solidFill>
                <a:latin typeface="Times New Roman"/>
              </a:rPr>
              <a:t>with ASP.NET</a:t>
            </a:r>
            <a:br>
              <a:rPr sz="3600"/>
            </a:br>
            <a:br>
              <a:rPr sz="3600"/>
            </a:br>
            <a:r>
              <a:rPr b="0" i="1" lang="de-DE" sz="2400" spc="-1" strike="noStrike">
                <a:solidFill>
                  <a:srgbClr val="3333cc"/>
                </a:solidFill>
                <a:latin typeface="Times New Roman"/>
              </a:rPr>
              <a:t>Prof. Dr. Hanspeter Mössenböck</a:t>
            </a:r>
            <a:br>
              <a:rPr sz="2400"/>
            </a:b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Institute for System Software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Johannes Kepler University Linz</a:t>
            </a:r>
            <a:br>
              <a:rPr sz="2000"/>
            </a:br>
            <a:endParaRPr b="0" i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" name="Picture 6" descr="quickstart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833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717840" y="5945040"/>
            <a:ext cx="487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University of Linz, Institute for System Software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blished under the Microsoft Curriculum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96FC-8981-4A74-94D4-04EDCE4C24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85800" y="1403280"/>
            <a:ext cx="77724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Behind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5800" y="3733920"/>
            <a:ext cx="777240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Page Language="C#"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Inherits="CounterPage" Src="CounterPage.cs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 &lt;title&gt;Page counter&lt;/title&gt; 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1&gt;Welcome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ou are visitor number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%=CounterValue()%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.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Counter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 System.Web.UI.Pag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ounterValu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leStream s = new FileStream("c:\\Data\\Counter.dat", FileMode.OpenOrCre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 = r.ReadInt32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047000" y="342900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Page.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7261200" y="111132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5B4-4D07-41B7-83DC-CC66FC13ED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Navigation With SiteMapPath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4" name="Text Box 3"/>
          <p:cNvSpPr/>
          <p:nvPr/>
        </p:nvSpPr>
        <p:spPr>
          <a:xfrm>
            <a:off x="795960" y="1511280"/>
            <a:ext cx="29833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Pa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"/>
          <p:cNvSpPr/>
          <p:nvPr/>
        </p:nvSpPr>
        <p:spPr>
          <a:xfrm>
            <a:off x="731520" y="2224080"/>
            <a:ext cx="56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ws the path to the current page if this page belongs to a Site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6" name="Picture 5" descr=""/>
          <p:cNvPicPr/>
          <p:nvPr/>
        </p:nvPicPr>
        <p:blipFill>
          <a:blip r:embed="rId1"/>
          <a:stretch/>
        </p:blipFill>
        <p:spPr>
          <a:xfrm>
            <a:off x="1111320" y="2797200"/>
            <a:ext cx="1724040" cy="21888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6" descr=""/>
          <p:cNvPicPr/>
          <p:nvPr/>
        </p:nvPicPr>
        <p:blipFill>
          <a:blip r:embed="rId2"/>
          <a:stretch/>
        </p:blipFill>
        <p:spPr>
          <a:xfrm>
            <a:off x="1166760" y="3160800"/>
            <a:ext cx="1219320" cy="1305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2"/>
          <p:cNvSpPr/>
          <p:nvPr/>
        </p:nvSpPr>
        <p:spPr>
          <a:xfrm>
            <a:off x="723960" y="3352680"/>
            <a:ext cx="4927680" cy="3556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New Features in ASP.NET 2.0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0" name="Text Box 4"/>
          <p:cNvSpPr/>
          <p:nvPr/>
        </p:nvSpPr>
        <p:spPr>
          <a:xfrm>
            <a:off x="737640" y="2604960"/>
            <a:ext cx="44082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Mas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5050"/>
                </a:solidFill>
                <a:latin typeface="Times New Roman"/>
              </a:rPr>
              <a:t>Themes and s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Person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Authentication and membership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ew Controls for databas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836A-3407-45D8-A257-B1948108D1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mes and Ski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3" name="Text Box 1027"/>
          <p:cNvSpPr/>
          <p:nvPr/>
        </p:nvSpPr>
        <p:spPr>
          <a:xfrm>
            <a:off x="719640" y="1224000"/>
            <a:ext cx="58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Allow users to define standard settings for web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028"/>
          <p:cNvSpPr/>
          <p:nvPr/>
        </p:nvSpPr>
        <p:spPr>
          <a:xfrm>
            <a:off x="757080" y="174132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Ski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settings for a specifi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029"/>
          <p:cNvSpPr/>
          <p:nvPr/>
        </p:nvSpPr>
        <p:spPr>
          <a:xfrm>
            <a:off x="1118160" y="2246400"/>
            <a:ext cx="6415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Label ForeColor="#585880" Font-Size="0.9em" Font-Name="Verdana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030"/>
          <p:cNvSpPr/>
          <p:nvPr/>
        </p:nvSpPr>
        <p:spPr>
          <a:xfrm>
            <a:off x="1039320" y="268596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given a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1031"/>
          <p:cNvSpPr/>
          <p:nvPr/>
        </p:nvSpPr>
        <p:spPr>
          <a:xfrm>
            <a:off x="1103040" y="3035160"/>
            <a:ext cx="7003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Label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kinID="re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oreColor="#FF0000" Font-Name="Arial" Font-Bold="tru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032"/>
          <p:cNvSpPr/>
          <p:nvPr/>
        </p:nvSpPr>
        <p:spPr>
          <a:xfrm>
            <a:off x="858240" y="3416400"/>
            <a:ext cx="47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other attributes of the control remain un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Group 1033"/>
          <p:cNvGrpSpPr/>
          <p:nvPr/>
        </p:nvGrpSpPr>
        <p:grpSpPr>
          <a:xfrm>
            <a:off x="763200" y="3933720"/>
            <a:ext cx="7628400" cy="2530440"/>
            <a:chOff x="763200" y="3933720"/>
            <a:chExt cx="7628400" cy="2530440"/>
          </a:xfrm>
        </p:grpSpPr>
        <p:sp>
          <p:nvSpPr>
            <p:cNvPr id="1370" name="Text Box 1034"/>
            <p:cNvSpPr/>
            <p:nvPr/>
          </p:nvSpPr>
          <p:spPr>
            <a:xfrm>
              <a:off x="763200" y="3933720"/>
              <a:ext cx="76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Them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collection of skins; stored in a file with the ending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.ski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hem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sub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1" name="Picture 1035" descr=""/>
            <p:cNvPicPr/>
            <p:nvPr/>
          </p:nvPicPr>
          <p:blipFill>
            <a:blip r:embed="rId1"/>
            <a:stretch/>
          </p:blipFill>
          <p:spPr>
            <a:xfrm>
              <a:off x="1563840" y="4992840"/>
              <a:ext cx="203040" cy="1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Text Box 1036"/>
            <p:cNvSpPr/>
            <p:nvPr/>
          </p:nvSpPr>
          <p:spPr>
            <a:xfrm>
              <a:off x="1794240" y="495468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he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3" name="Picture 1037" descr=""/>
            <p:cNvPicPr/>
            <p:nvPr/>
          </p:nvPicPr>
          <p:blipFill>
            <a:blip r:embed="rId2"/>
            <a:stretch/>
          </p:blipFill>
          <p:spPr>
            <a:xfrm>
              <a:off x="1900080" y="5246640"/>
              <a:ext cx="20340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Text Box 1038"/>
            <p:cNvSpPr/>
            <p:nvPr/>
          </p:nvSpPr>
          <p:spPr>
            <a:xfrm>
              <a:off x="2131200" y="520848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a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5" name="Picture 1039" descr=""/>
            <p:cNvPicPr/>
            <p:nvPr/>
          </p:nvPicPr>
          <p:blipFill>
            <a:blip r:embed="rId3"/>
            <a:stretch/>
          </p:blipFill>
          <p:spPr>
            <a:xfrm>
              <a:off x="2230560" y="5494320"/>
              <a:ext cx="2030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Text Box 1040"/>
            <p:cNvSpPr/>
            <p:nvPr/>
          </p:nvSpPr>
          <p:spPr>
            <a:xfrm>
              <a:off x="2460600" y="545616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7" name="Picture 1041" descr=""/>
            <p:cNvPicPr/>
            <p:nvPr/>
          </p:nvPicPr>
          <p:blipFill>
            <a:blip r:embed="rId4"/>
            <a:stretch/>
          </p:blipFill>
          <p:spPr>
            <a:xfrm>
              <a:off x="2257560" y="5729400"/>
              <a:ext cx="169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8" name="Text Box 1042"/>
            <p:cNvSpPr/>
            <p:nvPr/>
          </p:nvSpPr>
          <p:spPr>
            <a:xfrm>
              <a:off x="2460600" y="5684760"/>
              <a:ext cx="91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ancy.sk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Line 1043"/>
            <p:cNvSpPr/>
            <p:nvPr/>
          </p:nvSpPr>
          <p:spPr>
            <a:xfrm flipH="1">
              <a:off x="2019240" y="5600880"/>
              <a:ext cx="2224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Line 1044"/>
            <p:cNvSpPr/>
            <p:nvPr/>
          </p:nvSpPr>
          <p:spPr>
            <a:xfrm>
              <a:off x="2013120" y="5423040"/>
              <a:ext cx="0" cy="412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Line 1045"/>
            <p:cNvSpPr/>
            <p:nvPr/>
          </p:nvSpPr>
          <p:spPr>
            <a:xfrm flipH="1">
              <a:off x="2019240" y="5829480"/>
              <a:ext cx="2224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2" name="Picture 1046" descr=""/>
            <p:cNvPicPr/>
            <p:nvPr/>
          </p:nvPicPr>
          <p:blipFill>
            <a:blip r:embed="rId5"/>
            <a:stretch/>
          </p:blipFill>
          <p:spPr>
            <a:xfrm>
              <a:off x="1900080" y="6008760"/>
              <a:ext cx="20340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3" name="Text Box 1047"/>
            <p:cNvSpPr/>
            <p:nvPr/>
          </p:nvSpPr>
          <p:spPr>
            <a:xfrm>
              <a:off x="2130480" y="59706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l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4" name="Picture 1048" descr=""/>
            <p:cNvPicPr/>
            <p:nvPr/>
          </p:nvPicPr>
          <p:blipFill>
            <a:blip r:embed="rId6"/>
            <a:stretch/>
          </p:blipFill>
          <p:spPr>
            <a:xfrm>
              <a:off x="2257560" y="6230880"/>
              <a:ext cx="169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Text Box 1049"/>
            <p:cNvSpPr/>
            <p:nvPr/>
          </p:nvSpPr>
          <p:spPr>
            <a:xfrm>
              <a:off x="2460240" y="618660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lain.sk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Line 1050"/>
            <p:cNvSpPr/>
            <p:nvPr/>
          </p:nvSpPr>
          <p:spPr>
            <a:xfrm>
              <a:off x="2013120" y="6184800"/>
              <a:ext cx="0" cy="152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Line 1051"/>
            <p:cNvSpPr/>
            <p:nvPr/>
          </p:nvSpPr>
          <p:spPr>
            <a:xfrm flipH="1">
              <a:off x="2019240" y="6330960"/>
              <a:ext cx="2224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Line 1052"/>
            <p:cNvSpPr/>
            <p:nvPr/>
          </p:nvSpPr>
          <p:spPr>
            <a:xfrm>
              <a:off x="1682640" y="5162400"/>
              <a:ext cx="0" cy="959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Line 1053"/>
            <p:cNvSpPr/>
            <p:nvPr/>
          </p:nvSpPr>
          <p:spPr>
            <a:xfrm flipH="1">
              <a:off x="1690560" y="5353200"/>
              <a:ext cx="2224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Line 1054"/>
            <p:cNvSpPr/>
            <p:nvPr/>
          </p:nvSpPr>
          <p:spPr>
            <a:xfrm flipH="1">
              <a:off x="1690560" y="6114960"/>
              <a:ext cx="2224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1" name="Picture 1055" descr=""/>
            <p:cNvPicPr/>
            <p:nvPr/>
          </p:nvPicPr>
          <p:blipFill>
            <a:blip r:embed="rId7"/>
            <a:stretch/>
          </p:blipFill>
          <p:spPr>
            <a:xfrm>
              <a:off x="1590840" y="4700520"/>
              <a:ext cx="169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2" name="Text Box 1056"/>
            <p:cNvSpPr/>
            <p:nvPr/>
          </p:nvSpPr>
          <p:spPr>
            <a:xfrm>
              <a:off x="1794600" y="46562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y.asp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Line 1057"/>
            <p:cNvSpPr/>
            <p:nvPr/>
          </p:nvSpPr>
          <p:spPr>
            <a:xfrm flipH="1">
              <a:off x="1352160" y="4800600"/>
              <a:ext cx="222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Line 1058"/>
            <p:cNvSpPr/>
            <p:nvPr/>
          </p:nvSpPr>
          <p:spPr>
            <a:xfrm flipH="1">
              <a:off x="1352160" y="5099040"/>
              <a:ext cx="222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1059"/>
            <p:cNvSpPr/>
            <p:nvPr/>
          </p:nvSpPr>
          <p:spPr>
            <a:xfrm>
              <a:off x="1352520" y="4622760"/>
              <a:ext cx="0" cy="482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6" name="Picture 1060" descr=""/>
            <p:cNvPicPr/>
            <p:nvPr/>
          </p:nvPicPr>
          <p:blipFill>
            <a:blip r:embed="rId8"/>
            <a:stretch/>
          </p:blipFill>
          <p:spPr>
            <a:xfrm>
              <a:off x="1258920" y="4446720"/>
              <a:ext cx="2030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Text Box 1061"/>
            <p:cNvSpPr/>
            <p:nvPr/>
          </p:nvSpPr>
          <p:spPr>
            <a:xfrm>
              <a:off x="1489320" y="440856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yA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062"/>
            <p:cNvSpPr/>
            <p:nvPr/>
          </p:nvSpPr>
          <p:spPr>
            <a:xfrm>
              <a:off x="4168440" y="4672080"/>
              <a:ext cx="16329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abel ...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Button ...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...&gt;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063"/>
            <p:cNvSpPr/>
            <p:nvPr/>
          </p:nvSpPr>
          <p:spPr>
            <a:xfrm>
              <a:off x="4168440" y="5730840"/>
              <a:ext cx="16329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abel ...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Button ...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...&gt;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064"/>
            <p:cNvSpPr/>
            <p:nvPr/>
          </p:nvSpPr>
          <p:spPr>
            <a:xfrm>
              <a:off x="4742640" y="437184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ancy.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065"/>
            <p:cNvSpPr/>
            <p:nvPr/>
          </p:nvSpPr>
          <p:spPr>
            <a:xfrm>
              <a:off x="4814640" y="5445000"/>
              <a:ext cx="99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lain.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A328-D74E-44B3-9809-4051A8DA8D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tting a Them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4" name="Text Box 3"/>
          <p:cNvSpPr/>
          <p:nvPr/>
        </p:nvSpPr>
        <p:spPr>
          <a:xfrm>
            <a:off x="669600" y="129384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Globally for the whol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4"/>
          <p:cNvSpPr/>
          <p:nvPr/>
        </p:nvSpPr>
        <p:spPr>
          <a:xfrm>
            <a:off x="1162440" y="1760400"/>
            <a:ext cx="261288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pages theme="Fancy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5"/>
          <p:cNvSpPr/>
          <p:nvPr/>
        </p:nvSpPr>
        <p:spPr>
          <a:xfrm>
            <a:off x="3740400" y="170496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6"/>
          <p:cNvSpPr/>
          <p:nvPr/>
        </p:nvSpPr>
        <p:spPr>
          <a:xfrm>
            <a:off x="675360" y="334476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For a sing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7"/>
          <p:cNvSpPr/>
          <p:nvPr/>
        </p:nvSpPr>
        <p:spPr>
          <a:xfrm>
            <a:off x="1297080" y="4122720"/>
            <a:ext cx="467676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Page Language="C#"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Theme="Fancy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8"/>
          <p:cNvSpPr/>
          <p:nvPr/>
        </p:nvSpPr>
        <p:spPr>
          <a:xfrm>
            <a:off x="1032480" y="376704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ither i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9"/>
          <p:cNvSpPr/>
          <p:nvPr/>
        </p:nvSpPr>
        <p:spPr>
          <a:xfrm>
            <a:off x="1281600" y="5254560"/>
            <a:ext cx="4718880" cy="1226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geB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Pag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ge_PreI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Theme = "Fancy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10"/>
          <p:cNvSpPr/>
          <p:nvPr/>
        </p:nvSpPr>
        <p:spPr>
          <a:xfrm>
            <a:off x="1028880" y="489888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 in the code beh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11"/>
          <p:cNvSpPr/>
          <p:nvPr/>
        </p:nvSpPr>
        <p:spPr>
          <a:xfrm>
            <a:off x="6183000" y="5229360"/>
            <a:ext cx="239796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SP.NET 2.0 has a new</a:t>
            </a:r>
            <a:br>
              <a:rPr sz="1600"/>
            </a:b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eIni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has a property with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nam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4BF7-5B25-40E6-B095-CE86764CC2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plicitly Selecting a Ski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5" name="Text Box 3"/>
          <p:cNvSpPr/>
          <p:nvPr/>
        </p:nvSpPr>
        <p:spPr>
          <a:xfrm>
            <a:off x="717120" y="1192320"/>
            <a:ext cx="277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Selecting a ski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"/>
          <p:cNvSpPr/>
          <p:nvPr/>
        </p:nvSpPr>
        <p:spPr>
          <a:xfrm>
            <a:off x="1200240" y="1643040"/>
            <a:ext cx="57420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Label ForeColor="#585880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Label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kinID="Re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oreColor="#FF0000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5868360" y="132732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ncy.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7130880" y="1643040"/>
            <a:ext cx="14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ncy.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1183320" y="2502000"/>
            <a:ext cx="579528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Page Language="C#"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Theme="Fancy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Label Runat="server"&gt;color #585880"&lt;/asp:Lab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Label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kinID="Re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&gt;color #FF0000"&lt;/asp:Lab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Group 15"/>
          <p:cNvGrpSpPr/>
          <p:nvPr/>
        </p:nvGrpSpPr>
        <p:grpSpPr>
          <a:xfrm>
            <a:off x="717480" y="3852720"/>
            <a:ext cx="7823880" cy="2781720"/>
            <a:chOff x="717480" y="3852720"/>
            <a:chExt cx="7823880" cy="2781720"/>
          </a:xfrm>
        </p:grpSpPr>
        <p:sp>
          <p:nvSpPr>
            <p:cNvPr id="1421" name="Text Box 8"/>
            <p:cNvSpPr/>
            <p:nvPr/>
          </p:nvSpPr>
          <p:spPr>
            <a:xfrm>
              <a:off x="717480" y="385272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Selecting a ski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9"/>
            <p:cNvSpPr/>
            <p:nvPr/>
          </p:nvSpPr>
          <p:spPr>
            <a:xfrm>
              <a:off x="1200240" y="4314960"/>
              <a:ext cx="57560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abel ForeColor="#585880"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10"/>
            <p:cNvSpPr/>
            <p:nvPr/>
          </p:nvSpPr>
          <p:spPr>
            <a:xfrm>
              <a:off x="5868360" y="399888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ancy.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11"/>
            <p:cNvSpPr/>
            <p:nvPr/>
          </p:nvSpPr>
          <p:spPr>
            <a:xfrm>
              <a:off x="7130880" y="4314960"/>
              <a:ext cx="1410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e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ncy.sk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.sk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12"/>
            <p:cNvSpPr/>
            <p:nvPr/>
          </p:nvSpPr>
          <p:spPr>
            <a:xfrm>
              <a:off x="1183320" y="5688000"/>
              <a:ext cx="579528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@ Page Language="C#" 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</a:rPr>
                <a:t>Theme="Fancy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%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abel Runat="server"&gt;color #585880"&lt;/asp:Labe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abel 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</a:rPr>
                <a:t>SkinID="Red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&gt;color #FF0000"&lt;/asp:Labe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13"/>
            <p:cNvSpPr/>
            <p:nvPr/>
          </p:nvSpPr>
          <p:spPr>
            <a:xfrm>
              <a:off x="1200240" y="5067360"/>
              <a:ext cx="57704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abel ForeColor="#FF0000"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14"/>
            <p:cNvSpPr/>
            <p:nvPr/>
          </p:nvSpPr>
          <p:spPr>
            <a:xfrm>
              <a:off x="6068520" y="47829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d.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2"/>
          <p:cNvSpPr/>
          <p:nvPr/>
        </p:nvSpPr>
        <p:spPr>
          <a:xfrm>
            <a:off x="723960" y="3720960"/>
            <a:ext cx="4927680" cy="3556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New Features in ASP.NET 2.0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0" name="Text Box 4"/>
          <p:cNvSpPr/>
          <p:nvPr/>
        </p:nvSpPr>
        <p:spPr>
          <a:xfrm>
            <a:off x="737640" y="2604960"/>
            <a:ext cx="44082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Mas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Themes and s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5050"/>
                </a:solidFill>
                <a:latin typeface="Times New Roman"/>
              </a:rPr>
              <a:t>Person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Authentication and membership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ew Controls for databas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4847-BDD5-4172-B24D-CBF9847F3C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ersonalis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3" name="Text Box 1027"/>
          <p:cNvSpPr/>
          <p:nvPr/>
        </p:nvSpPr>
        <p:spPr>
          <a:xfrm>
            <a:off x="655920" y="1217520"/>
            <a:ext cx="39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Allows the creation of user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1028"/>
          <p:cNvSpPr/>
          <p:nvPr/>
        </p:nvSpPr>
        <p:spPr>
          <a:xfrm>
            <a:off x="713160" y="1646280"/>
            <a:ext cx="254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d as name/value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fin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1029"/>
          <p:cNvSpPr/>
          <p:nvPr/>
        </p:nvSpPr>
        <p:spPr>
          <a:xfrm>
            <a:off x="1098360" y="2368440"/>
            <a:ext cx="516276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personal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pro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property name="User" type="System.String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property name="LastVisit" type="System.DateTim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/pro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personal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1030"/>
          <p:cNvSpPr/>
          <p:nvPr/>
        </p:nvSpPr>
        <p:spPr>
          <a:xfrm>
            <a:off x="716040" y="4245120"/>
            <a:ext cx="54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accessed through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property of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1031"/>
          <p:cNvSpPr/>
          <p:nvPr/>
        </p:nvSpPr>
        <p:spPr>
          <a:xfrm>
            <a:off x="1112760" y="4633920"/>
            <a:ext cx="5121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el.Text = "Welcome " +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Profile.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Profile.LastVis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DateTime.No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1032"/>
          <p:cNvSpPr/>
          <p:nvPr/>
        </p:nvSpPr>
        <p:spPr>
          <a:xfrm>
            <a:off x="716400" y="5348160"/>
            <a:ext cx="43959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statically typ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stored in a database (i.e. persist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only loaded o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are identified via cookies or URL re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AutoShape 1033"/>
          <p:cNvSpPr/>
          <p:nvPr/>
        </p:nvSpPr>
        <p:spPr>
          <a:xfrm>
            <a:off x="5457960" y="5457960"/>
            <a:ext cx="101520" cy="769680"/>
          </a:xfrm>
          <a:custGeom>
            <a:avLst/>
            <a:gdLst>
              <a:gd name="textAreaLeft" fmla="*/ 0 w 101520"/>
              <a:gd name="textAreaRight" fmla="*/ 36720 w 101520"/>
              <a:gd name="textAreaTop" fmla="*/ 19800 h 769680"/>
              <a:gd name="textAreaBottom" fmla="*/ 749880 h 76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1034"/>
          <p:cNvSpPr/>
          <p:nvPr/>
        </p:nvSpPr>
        <p:spPr>
          <a:xfrm>
            <a:off x="5720400" y="5560920"/>
            <a:ext cx="15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difference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session stat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993C-C845-48C2-895B-17DC8EEED7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lecting a Personalisation Databas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3" name="Text Box 3"/>
          <p:cNvSpPr/>
          <p:nvPr/>
        </p:nvSpPr>
        <p:spPr>
          <a:xfrm>
            <a:off x="716760" y="1204920"/>
            <a:ext cx="29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Done via Provid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4"/>
          <p:cNvSpPr/>
          <p:nvPr/>
        </p:nvSpPr>
        <p:spPr>
          <a:xfrm>
            <a:off x="762840" y="1803240"/>
            <a:ext cx="604944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specifi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viders for MS Access and MS SQL Server are available by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ndard provider is MS Acces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s to the fi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pplicationDi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/DATA/AspNetDB.m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can write and install their own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5"/>
          <p:cNvSpPr/>
          <p:nvPr/>
        </p:nvSpPr>
        <p:spPr>
          <a:xfrm>
            <a:off x="1034280" y="2151000"/>
            <a:ext cx="5138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&lt;personalization defaultProvider="AspNetAccessProvide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612-A1FA-46E6-928D-BFE03D4990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Personalized Them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8" name="Text Box 3"/>
          <p:cNvSpPr/>
          <p:nvPr/>
        </p:nvSpPr>
        <p:spPr>
          <a:xfrm>
            <a:off x="916200" y="1720800"/>
            <a:ext cx="4481280" cy="1159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personal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pro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property name="Theme" type="System.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pro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personal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8"/>
          <p:cNvSpPr/>
          <p:nvPr/>
        </p:nvSpPr>
        <p:spPr>
          <a:xfrm>
            <a:off x="712440" y="127620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Defining a profile property for t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Group 11"/>
          <p:cNvGrpSpPr/>
          <p:nvPr/>
        </p:nvGrpSpPr>
        <p:grpSpPr>
          <a:xfrm>
            <a:off x="707760" y="3290760"/>
            <a:ext cx="8256240" cy="1171440"/>
            <a:chOff x="707760" y="3290760"/>
            <a:chExt cx="8256240" cy="1171440"/>
          </a:xfrm>
        </p:grpSpPr>
        <p:sp>
          <p:nvSpPr>
            <p:cNvPr id="1451" name="Text Box 4"/>
            <p:cNvSpPr/>
            <p:nvPr/>
          </p:nvSpPr>
          <p:spPr>
            <a:xfrm>
              <a:off x="5178960" y="3728880"/>
              <a:ext cx="37850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etThem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object sender, EventArgs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file.Theme = textBox.Tex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2" name="Picture 5" descr=""/>
            <p:cNvPicPr/>
            <p:nvPr/>
          </p:nvPicPr>
          <p:blipFill>
            <a:blip r:embed="rId1"/>
            <a:stretch/>
          </p:blipFill>
          <p:spPr>
            <a:xfrm>
              <a:off x="885960" y="3913200"/>
              <a:ext cx="3860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3" name="Line 6"/>
            <p:cNvSpPr/>
            <p:nvPr/>
          </p:nvSpPr>
          <p:spPr>
            <a:xfrm flipV="1">
              <a:off x="4818240" y="4003200"/>
              <a:ext cx="363240" cy="8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Text Box 9"/>
            <p:cNvSpPr/>
            <p:nvPr/>
          </p:nvSpPr>
          <p:spPr>
            <a:xfrm>
              <a:off x="707760" y="3290760"/>
              <a:ext cx="674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Users can set their preferred theme during one of their vis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Group 12"/>
          <p:cNvGrpSpPr/>
          <p:nvPr/>
        </p:nvGrpSpPr>
        <p:grpSpPr>
          <a:xfrm>
            <a:off x="712440" y="4884840"/>
            <a:ext cx="4716000" cy="1226880"/>
            <a:chOff x="712440" y="4884840"/>
            <a:chExt cx="4716000" cy="1226880"/>
          </a:xfrm>
        </p:grpSpPr>
        <p:sp>
          <p:nvSpPr>
            <p:cNvPr id="1456" name="Text Box 7"/>
            <p:cNvSpPr/>
            <p:nvPr/>
          </p:nvSpPr>
          <p:spPr>
            <a:xfrm>
              <a:off x="896040" y="5378400"/>
              <a:ext cx="40150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age_PreI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object sender, EventArgs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eme = Profile.Them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Text Box 10"/>
            <p:cNvSpPr/>
            <p:nvPr/>
          </p:nvSpPr>
          <p:spPr>
            <a:xfrm>
              <a:off x="712440" y="4884840"/>
              <a:ext cx="47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This theme is then used during later vis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2"/>
          <p:cNvSpPr/>
          <p:nvPr/>
        </p:nvSpPr>
        <p:spPr>
          <a:xfrm>
            <a:off x="723960" y="4089240"/>
            <a:ext cx="4927680" cy="3556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New Features in ASP.NET 2.0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737640" y="2604960"/>
            <a:ext cx="44082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Mas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Themes and s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Person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5050"/>
                </a:solidFill>
                <a:latin typeface="Times New Roman"/>
              </a:rPr>
              <a:t>Authentication and membership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ew Controls for databas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E532-E2A6-4C3F-8C28-6B1E19CB9E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ge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146640" y="144792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23680" y="1486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stem.Web.UI.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124760" y="190512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7277040" y="2133720"/>
            <a:ext cx="0" cy="26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51560" y="47242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514200" y="47624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unter_as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85800" y="4343400"/>
            <a:ext cx="426708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603600" y="40068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758160" y="4419720"/>
            <a:ext cx="2654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Page Language="C#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&lt;%= ... %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687600" y="4006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px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509160" y="52578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33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454800" y="5181480"/>
            <a:ext cx="166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5235480" y="4956120"/>
            <a:ext cx="739800" cy="319320"/>
          </a:xfrm>
          <a:prstGeom prst="rightArrow">
            <a:avLst>
              <a:gd name="adj1" fmla="val 50000"/>
              <a:gd name="adj2" fmla="val 579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7D01-1D54-415B-9FF3-CFD28D789C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gin Controls 1/2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3" name="Text Box 1027"/>
          <p:cNvSpPr/>
          <p:nvPr/>
        </p:nvSpPr>
        <p:spPr>
          <a:xfrm>
            <a:off x="733320" y="12207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Login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028"/>
          <p:cNvSpPr/>
          <p:nvPr/>
        </p:nvSpPr>
        <p:spPr>
          <a:xfrm>
            <a:off x="1204920" y="1689120"/>
            <a:ext cx="30747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Courier New"/>
              </a:rPr>
              <a:t>&lt;asp:</a:t>
            </a:r>
            <a:r>
              <a:rPr b="0" lang="de-DE" sz="1400" spc="-1" strike="noStrike">
                <a:solidFill>
                  <a:srgbClr val="ff5050"/>
                </a:solidFill>
                <a:latin typeface="Arial"/>
                <a:ea typeface="Courier New"/>
              </a:rPr>
              <a:t>LoginStatu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Courier New"/>
              </a:rPr>
              <a:t> Runat="server" /&gt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029"/>
          <p:cNvSpPr/>
          <p:nvPr/>
        </p:nvSpPr>
        <p:spPr>
          <a:xfrm>
            <a:off x="4292640" y="1546200"/>
            <a:ext cx="39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3333cc"/>
                </a:solidFill>
                <a:uFillTx/>
                <a:latin typeface="Times New Roman"/>
              </a:rPr>
              <a:t>Logi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user is not yet logg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3333cc"/>
                </a:solidFill>
                <a:uFillTx/>
                <a:latin typeface="Times New Roman"/>
              </a:rPr>
              <a:t>Logou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user is logg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1030"/>
          <p:cNvSpPr/>
          <p:nvPr/>
        </p:nvSpPr>
        <p:spPr>
          <a:xfrm>
            <a:off x="4556520" y="12700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1031"/>
          <p:cNvSpPr/>
          <p:nvPr/>
        </p:nvSpPr>
        <p:spPr>
          <a:xfrm>
            <a:off x="1179000" y="2255760"/>
            <a:ext cx="514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gin link leads to a page that can be specifi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1032"/>
          <p:cNvSpPr/>
          <p:nvPr/>
        </p:nvSpPr>
        <p:spPr>
          <a:xfrm>
            <a:off x="1241280" y="2657520"/>
            <a:ext cx="2812320" cy="733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authentication mode="Forms"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rms loginUrl="</a:t>
            </a: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Arial Unicode MS"/>
              </a:rPr>
              <a:t>login.asp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" 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/authenti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Group 1033"/>
          <p:cNvGrpSpPr/>
          <p:nvPr/>
        </p:nvGrpSpPr>
        <p:grpSpPr>
          <a:xfrm>
            <a:off x="731880" y="3774960"/>
            <a:ext cx="7789680" cy="2720160"/>
            <a:chOff x="731880" y="3774960"/>
            <a:chExt cx="7789680" cy="2720160"/>
          </a:xfrm>
        </p:grpSpPr>
        <p:sp>
          <p:nvSpPr>
            <p:cNvPr id="1470" name="Rectangle 1034"/>
            <p:cNvSpPr/>
            <p:nvPr/>
          </p:nvSpPr>
          <p:spPr>
            <a:xfrm>
              <a:off x="1204920" y="4254480"/>
              <a:ext cx="4543560" cy="2235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Rectangle 1035"/>
            <p:cNvSpPr/>
            <p:nvPr/>
          </p:nvSpPr>
          <p:spPr>
            <a:xfrm>
              <a:off x="1393920" y="4559400"/>
              <a:ext cx="4295520" cy="65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Rectangle 1036"/>
            <p:cNvSpPr/>
            <p:nvPr/>
          </p:nvSpPr>
          <p:spPr>
            <a:xfrm>
              <a:off x="1393920" y="5270400"/>
              <a:ext cx="429552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Text Box 1037"/>
            <p:cNvSpPr/>
            <p:nvPr/>
          </p:nvSpPr>
          <p:spPr>
            <a:xfrm>
              <a:off x="1195560" y="4268880"/>
              <a:ext cx="4538160" cy="22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asp:</a:t>
              </a:r>
              <a:r>
                <a:rPr b="0" lang="de-DE" sz="1400" spc="-1" strike="noStrike">
                  <a:solidFill>
                    <a:srgbClr val="ff5050"/>
                  </a:solidFill>
                  <a:latin typeface="Arial"/>
                  <a:ea typeface="Courier New"/>
                </a:rPr>
                <a:t>LoginVie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Runat="server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AnonymousTemplat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You are not logged in. Click the Login link to sign i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/AnonymousTemplat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LoggedInTemplat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You are logged in. Welcom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asp:</a:t>
              </a:r>
              <a:r>
                <a:rPr b="0" lang="de-DE" sz="1400" spc="-1" strike="noStrike">
                  <a:solidFill>
                    <a:srgbClr val="ff5050"/>
                  </a:solidFill>
                  <a:latin typeface="Arial"/>
                  <a:ea typeface="Courier New"/>
                </a:rPr>
                <a:t>LoginNam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Runat="server" /&gt;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/LoggedInTemplat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/asp:LoginView&gt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1038"/>
            <p:cNvSpPr/>
            <p:nvPr/>
          </p:nvSpPr>
          <p:spPr>
            <a:xfrm>
              <a:off x="731880" y="37749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LoginView and Login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1039"/>
            <p:cNvSpPr/>
            <p:nvPr/>
          </p:nvSpPr>
          <p:spPr>
            <a:xfrm>
              <a:off x="6083640" y="4491000"/>
              <a:ext cx="232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xt that is displayed i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 is not yet logged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1040"/>
            <p:cNvSpPr/>
            <p:nvPr/>
          </p:nvSpPr>
          <p:spPr>
            <a:xfrm>
              <a:off x="6083640" y="5164200"/>
              <a:ext cx="232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xt that is displayed i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 is already logged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1041"/>
            <p:cNvSpPr/>
            <p:nvPr/>
          </p:nvSpPr>
          <p:spPr>
            <a:xfrm>
              <a:off x="5602320" y="468936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Line 1042"/>
            <p:cNvSpPr/>
            <p:nvPr/>
          </p:nvSpPr>
          <p:spPr>
            <a:xfrm>
              <a:off x="5602320" y="53722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1043"/>
            <p:cNvSpPr/>
            <p:nvPr/>
          </p:nvSpPr>
          <p:spPr>
            <a:xfrm>
              <a:off x="6124680" y="5842080"/>
              <a:ext cx="23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oginNam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name that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 used for his lo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AE4F-1C50-4EC8-8A53-1E7E8E4B36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gin Controls 2/2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482" name="Object 3"/>
          <p:cNvGraphicFramePr/>
          <p:nvPr/>
        </p:nvGraphicFramePr>
        <p:xfrm>
          <a:off x="4741920" y="1781280"/>
          <a:ext cx="32385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1920" y="1781280"/>
                    <a:ext cx="32385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Text Box 4"/>
          <p:cNvSpPr/>
          <p:nvPr/>
        </p:nvSpPr>
        <p:spPr>
          <a:xfrm>
            <a:off x="707040" y="13525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5"/>
          <p:cNvSpPr/>
          <p:nvPr/>
        </p:nvSpPr>
        <p:spPr>
          <a:xfrm>
            <a:off x="1018440" y="1803240"/>
            <a:ext cx="25675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Courier New"/>
              </a:rPr>
              <a:t>&lt;asp:</a:t>
            </a:r>
            <a:r>
              <a:rPr b="0" lang="de-DE" sz="1400" spc="-1" strike="noStrike">
                <a:solidFill>
                  <a:srgbClr val="ff5050"/>
                </a:solidFill>
                <a:latin typeface="Arial"/>
                <a:ea typeface="Courier New"/>
              </a:rPr>
              <a:t>Logi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Courier New"/>
              </a:rPr>
              <a:t> Runat="server" /&gt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6"/>
          <p:cNvSpPr/>
          <p:nvPr/>
        </p:nvSpPr>
        <p:spPr>
          <a:xfrm>
            <a:off x="1004040" y="2268360"/>
            <a:ext cx="3379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used on the login page that wa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pecifi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authentication succeed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user is redirected to the pag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was originally requested by hi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11"/>
          <p:cNvGrpSpPr/>
          <p:nvPr/>
        </p:nvGrpSpPr>
        <p:grpSpPr>
          <a:xfrm>
            <a:off x="704520" y="3805200"/>
            <a:ext cx="8261640" cy="2756520"/>
            <a:chOff x="704520" y="3805200"/>
            <a:chExt cx="8261640" cy="2756520"/>
          </a:xfrm>
        </p:grpSpPr>
        <p:sp>
          <p:nvSpPr>
            <p:cNvPr id="1488" name="Text Box 7"/>
            <p:cNvSpPr/>
            <p:nvPr/>
          </p:nvSpPr>
          <p:spPr>
            <a:xfrm>
              <a:off x="704520" y="3805200"/>
              <a:ext cx="22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PasswordRe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 Box 8"/>
            <p:cNvSpPr/>
            <p:nvPr/>
          </p:nvSpPr>
          <p:spPr>
            <a:xfrm>
              <a:off x="1015920" y="4267080"/>
              <a:ext cx="3518280" cy="1189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asp:</a:t>
              </a:r>
              <a:r>
                <a:rPr b="0" lang="de-DE" sz="1400" spc="-1" strike="noStrike">
                  <a:solidFill>
                    <a:srgbClr val="ff5050"/>
                  </a:solidFill>
                  <a:latin typeface="Arial"/>
                  <a:ea typeface="Courier New"/>
                </a:rPr>
                <a:t>PasswordRecovery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Runat="server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Mail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from="mailto:admin@dotnet.jku.at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cc="your password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&lt;/asp:PasswordRecovery&gt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0" name="Object 9"/>
            <p:cNvGraphicFramePr/>
            <p:nvPr/>
          </p:nvGraphicFramePr>
          <p:xfrm>
            <a:off x="4737240" y="4232160"/>
            <a:ext cx="4228920" cy="1295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7240" y="4232160"/>
                      <a:ext cx="4228920" cy="12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Text Box 10"/>
            <p:cNvSpPr/>
            <p:nvPr/>
          </p:nvSpPr>
          <p:spPr>
            <a:xfrm>
              <a:off x="1004760" y="5494320"/>
              <a:ext cx="3484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nds an email with the password to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mail address and password are stored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user data (see la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64B4-CF52-4DB5-A56C-4B5F0B788B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mbership Clas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5" name="Text Box 3"/>
          <p:cNvSpPr/>
          <p:nvPr/>
        </p:nvSpPr>
        <p:spPr>
          <a:xfrm>
            <a:off x="667080" y="1192320"/>
            <a:ext cx="36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Membership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Web.Securit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4"/>
          <p:cNvSpPr/>
          <p:nvPr/>
        </p:nvSpPr>
        <p:spPr>
          <a:xfrm>
            <a:off x="989280" y="1617840"/>
            <a:ext cx="22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tains a set of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5"/>
          <p:cNvSpPr/>
          <p:nvPr/>
        </p:nvSpPr>
        <p:spPr>
          <a:xfrm>
            <a:off x="1224720" y="1990800"/>
            <a:ext cx="573120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MembershipUs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reate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, string password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MembershipUs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Get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Update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MembershipUser user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lete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idate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, string password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6"/>
          <p:cNvSpPr/>
          <p:nvPr/>
        </p:nvSpPr>
        <p:spPr>
          <a:xfrm>
            <a:off x="997200" y="3166920"/>
            <a:ext cx="57096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are stored in a database (Access, SQL Server, user-defined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fault is MS Access: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pplicationDi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/data/AspNetDB.m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are identified via cookies or URL re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alidateUs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called from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gi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b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7"/>
          <p:cNvSpPr/>
          <p:nvPr/>
        </p:nvSpPr>
        <p:spPr>
          <a:xfrm>
            <a:off x="666720" y="4406760"/>
            <a:ext cx="41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MembershipUse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Web.Securit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8"/>
          <p:cNvSpPr/>
          <p:nvPr/>
        </p:nvSpPr>
        <p:spPr>
          <a:xfrm>
            <a:off x="988920" y="4822920"/>
            <a:ext cx="306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the data of a single use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mail addres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st login dat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word recovery question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9"/>
          <p:cNvSpPr/>
          <p:nvPr/>
        </p:nvSpPr>
        <p:spPr>
          <a:xfrm>
            <a:off x="5344920" y="4862520"/>
            <a:ext cx="3481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must be a web page on whic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 can enter this data. The data is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d in the database using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CreateUs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pdate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B983-AD32-4A16-BEEB-0862C3A434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tected Member P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4" name="Text Box 3"/>
          <p:cNvSpPr/>
          <p:nvPr/>
        </p:nvSpPr>
        <p:spPr>
          <a:xfrm>
            <a:off x="732960" y="1270080"/>
            <a:ext cx="67701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d in a subdirectory of the application directory (e.g. Members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mbers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xx.aspx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yy.asp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subdirectory must have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ile with an &lt;authorization&gt;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4"/>
          <p:cNvSpPr/>
          <p:nvPr/>
        </p:nvSpPr>
        <p:spPr>
          <a:xfrm>
            <a:off x="1004400" y="3119400"/>
            <a:ext cx="309492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author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deny users="?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allow users="Peter, Mik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/author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5"/>
          <p:cNvSpPr/>
          <p:nvPr/>
        </p:nvSpPr>
        <p:spPr>
          <a:xfrm>
            <a:off x="4443840" y="337356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nknown users must register at a login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6"/>
          <p:cNvSpPr/>
          <p:nvPr/>
        </p:nvSpPr>
        <p:spPr>
          <a:xfrm>
            <a:off x="4448160" y="4070520"/>
            <a:ext cx="38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Peter and Mike can access the m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s without 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Line 7"/>
          <p:cNvSpPr/>
          <p:nvPr/>
        </p:nvSpPr>
        <p:spPr>
          <a:xfrm flipV="1">
            <a:off x="3338640" y="3658680"/>
            <a:ext cx="1073160" cy="21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Line 8"/>
          <p:cNvSpPr/>
          <p:nvPr/>
        </p:nvSpPr>
        <p:spPr>
          <a:xfrm>
            <a:off x="3352680" y="4226040"/>
            <a:ext cx="1103400" cy="17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9"/>
          <p:cNvSpPr/>
          <p:nvPr/>
        </p:nvSpPr>
        <p:spPr>
          <a:xfrm>
            <a:off x="739440" y="5116680"/>
            <a:ext cx="7858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unknown users try to access a member page they are redirected to the login p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authenticated users (or Peter or Mike) try to access a member page they are pased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5B2D-E31C-4764-B913-A1B60F6656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"/>
          <p:cNvSpPr/>
          <p:nvPr/>
        </p:nvSpPr>
        <p:spPr>
          <a:xfrm>
            <a:off x="2104920" y="3193920"/>
            <a:ext cx="1697040" cy="739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uthent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4" name="Text Box 5"/>
          <p:cNvSpPr/>
          <p:nvPr/>
        </p:nvSpPr>
        <p:spPr>
          <a:xfrm>
            <a:off x="714600" y="124920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Access to protected memb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6"/>
          <p:cNvSpPr/>
          <p:nvPr/>
        </p:nvSpPr>
        <p:spPr>
          <a:xfrm>
            <a:off x="1176480" y="2003400"/>
            <a:ext cx="1363680" cy="78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7"/>
          <p:cNvSpPr/>
          <p:nvPr/>
        </p:nvSpPr>
        <p:spPr>
          <a:xfrm>
            <a:off x="1114560" y="1687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omewhere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8"/>
          <p:cNvSpPr/>
          <p:nvPr/>
        </p:nvSpPr>
        <p:spPr>
          <a:xfrm>
            <a:off x="5226120" y="2003400"/>
            <a:ext cx="1363680" cy="78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9"/>
          <p:cNvSpPr/>
          <p:nvPr/>
        </p:nvSpPr>
        <p:spPr>
          <a:xfrm>
            <a:off x="4808160" y="168768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tected member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10"/>
          <p:cNvSpPr/>
          <p:nvPr/>
        </p:nvSpPr>
        <p:spPr>
          <a:xfrm>
            <a:off x="5079960" y="2176560"/>
            <a:ext cx="0" cy="32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11"/>
          <p:cNvSpPr/>
          <p:nvPr/>
        </p:nvSpPr>
        <p:spPr>
          <a:xfrm>
            <a:off x="2308320" y="2278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12"/>
          <p:cNvSpPr/>
          <p:nvPr/>
        </p:nvSpPr>
        <p:spPr>
          <a:xfrm>
            <a:off x="4309200" y="310212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know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13"/>
          <p:cNvSpPr/>
          <p:nvPr/>
        </p:nvSpPr>
        <p:spPr>
          <a:xfrm>
            <a:off x="2110320" y="319392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Login ...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14"/>
          <p:cNvSpPr/>
          <p:nvPr/>
        </p:nvSpPr>
        <p:spPr>
          <a:xfrm flipH="1">
            <a:off x="4760640" y="2322360"/>
            <a:ext cx="27612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15"/>
          <p:cNvSpPr/>
          <p:nvPr/>
        </p:nvSpPr>
        <p:spPr>
          <a:xfrm>
            <a:off x="5240160" y="339552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16"/>
          <p:cNvSpPr/>
          <p:nvPr/>
        </p:nvSpPr>
        <p:spPr>
          <a:xfrm flipV="1">
            <a:off x="5994360" y="2801520"/>
            <a:ext cx="0" cy="59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17"/>
          <p:cNvSpPr/>
          <p:nvPr/>
        </p:nvSpPr>
        <p:spPr>
          <a:xfrm flipH="1">
            <a:off x="3801600" y="339552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Line 18"/>
          <p:cNvSpPr/>
          <p:nvPr/>
        </p:nvSpPr>
        <p:spPr>
          <a:xfrm flipV="1">
            <a:off x="3338640" y="27856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9"/>
          <p:cNvSpPr/>
          <p:nvPr/>
        </p:nvSpPr>
        <p:spPr>
          <a:xfrm>
            <a:off x="3338640" y="27860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20"/>
          <p:cNvSpPr/>
          <p:nvPr/>
        </p:nvSpPr>
        <p:spPr>
          <a:xfrm>
            <a:off x="4557600" y="278604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21"/>
          <p:cNvSpPr/>
          <p:nvPr/>
        </p:nvSpPr>
        <p:spPr>
          <a:xfrm>
            <a:off x="5221800" y="30942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22"/>
          <p:cNvSpPr/>
          <p:nvPr/>
        </p:nvSpPr>
        <p:spPr>
          <a:xfrm>
            <a:off x="3871440" y="3094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27"/>
          <p:cNvSpPr/>
          <p:nvPr/>
        </p:nvSpPr>
        <p:spPr>
          <a:xfrm>
            <a:off x="2044800" y="28782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gin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Group 40"/>
          <p:cNvGrpSpPr/>
          <p:nvPr/>
        </p:nvGrpSpPr>
        <p:grpSpPr>
          <a:xfrm>
            <a:off x="714240" y="4281480"/>
            <a:ext cx="5861160" cy="2346120"/>
            <a:chOff x="714240" y="4281480"/>
            <a:chExt cx="5861160" cy="2346120"/>
          </a:xfrm>
        </p:grpSpPr>
        <p:sp>
          <p:nvSpPr>
            <p:cNvPr id="1534" name="Rectangle 2"/>
            <p:cNvSpPr/>
            <p:nvPr/>
          </p:nvSpPr>
          <p:spPr>
            <a:xfrm>
              <a:off x="4210200" y="4992840"/>
              <a:ext cx="1697040" cy="739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Text Box 23"/>
            <p:cNvSpPr/>
            <p:nvPr/>
          </p:nvSpPr>
          <p:spPr>
            <a:xfrm>
              <a:off x="714240" y="4281480"/>
              <a:ext cx="343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Login via LoginStatus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Text Box 24"/>
            <p:cNvSpPr/>
            <p:nvPr/>
          </p:nvSpPr>
          <p:spPr>
            <a:xfrm>
              <a:off x="1239840" y="5048280"/>
              <a:ext cx="192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oginStatus ...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Rectangle 25"/>
            <p:cNvSpPr/>
            <p:nvPr/>
          </p:nvSpPr>
          <p:spPr>
            <a:xfrm>
              <a:off x="1206360" y="4989600"/>
              <a:ext cx="2206800" cy="73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Text Box 26"/>
            <p:cNvSpPr/>
            <p:nvPr/>
          </p:nvSpPr>
          <p:spPr>
            <a:xfrm>
              <a:off x="1146240" y="467532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Main.asp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Text Box 28"/>
            <p:cNvSpPr/>
            <p:nvPr/>
          </p:nvSpPr>
          <p:spPr>
            <a:xfrm>
              <a:off x="4215240" y="499284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ogin ...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Text Box 29"/>
            <p:cNvSpPr/>
            <p:nvPr/>
          </p:nvSpPr>
          <p:spPr>
            <a:xfrm>
              <a:off x="4150080" y="46767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ogin.asp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30"/>
            <p:cNvSpPr/>
            <p:nvPr/>
          </p:nvSpPr>
          <p:spPr>
            <a:xfrm>
              <a:off x="3178080" y="519444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Text Box 31"/>
            <p:cNvSpPr/>
            <p:nvPr/>
          </p:nvSpPr>
          <p:spPr>
            <a:xfrm>
              <a:off x="4585320" y="6046920"/>
              <a:ext cx="8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known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32"/>
            <p:cNvSpPr/>
            <p:nvPr/>
          </p:nvSpPr>
          <p:spPr>
            <a:xfrm>
              <a:off x="5021280" y="5730840"/>
              <a:ext cx="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Line 33"/>
            <p:cNvSpPr/>
            <p:nvPr/>
          </p:nvSpPr>
          <p:spPr>
            <a:xfrm flipH="1">
              <a:off x="2583000" y="6356520"/>
              <a:ext cx="19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Line 34"/>
            <p:cNvSpPr/>
            <p:nvPr/>
          </p:nvSpPr>
          <p:spPr>
            <a:xfrm flipV="1">
              <a:off x="2583000" y="57322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Line 35"/>
            <p:cNvSpPr/>
            <p:nvPr/>
          </p:nvSpPr>
          <p:spPr>
            <a:xfrm>
              <a:off x="5500800" y="635652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Line 36"/>
            <p:cNvSpPr/>
            <p:nvPr/>
          </p:nvSpPr>
          <p:spPr>
            <a:xfrm flipV="1">
              <a:off x="6575400" y="5354280"/>
              <a:ext cx="0" cy="10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37"/>
            <p:cNvSpPr/>
            <p:nvPr/>
          </p:nvSpPr>
          <p:spPr>
            <a:xfrm flipH="1">
              <a:off x="5920920" y="535464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Text Box 38"/>
            <p:cNvSpPr/>
            <p:nvPr/>
          </p:nvSpPr>
          <p:spPr>
            <a:xfrm>
              <a:off x="4120200" y="605304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Text Box 39"/>
            <p:cNvSpPr/>
            <p:nvPr/>
          </p:nvSpPr>
          <p:spPr>
            <a:xfrm>
              <a:off x="5482800" y="6067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156-6ECC-40B1-8C18-C7C25BCF39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o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3" name="Text Box 3"/>
          <p:cNvSpPr/>
          <p:nvPr/>
        </p:nvSpPr>
        <p:spPr>
          <a:xfrm>
            <a:off x="666720" y="1192320"/>
            <a:ext cx="35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i="1" lang="de-AT" sz="2000" spc="-1" strike="noStrike">
                <a:solidFill>
                  <a:srgbClr val="000000"/>
                </a:solidFill>
                <a:latin typeface="Times New Roman"/>
              </a:rPr>
              <a:t>Roles</a:t>
            </a: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Web.Securit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4"/>
          <p:cNvSpPr/>
          <p:nvPr/>
        </p:nvSpPr>
        <p:spPr>
          <a:xfrm>
            <a:off x="993960" y="1617840"/>
            <a:ext cx="45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aes user roles (e.g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mi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5"/>
          <p:cNvSpPr/>
          <p:nvPr/>
        </p:nvSpPr>
        <p:spPr>
          <a:xfrm>
            <a:off x="1227240" y="1990800"/>
            <a:ext cx="54784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reateRo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role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dUserToRo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userName, string role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6"/>
          <p:cNvSpPr/>
          <p:nvPr/>
        </p:nvSpPr>
        <p:spPr>
          <a:xfrm>
            <a:off x="995040" y="2792520"/>
            <a:ext cx="563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ccess to the pages of a directory can also be managed via roles.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 this directo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7"/>
          <p:cNvSpPr/>
          <p:nvPr/>
        </p:nvSpPr>
        <p:spPr>
          <a:xfrm>
            <a:off x="1237320" y="3424320"/>
            <a:ext cx="289944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roleManager enabled="tru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uthor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allow roles="Admin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deny users="*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uthor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8"/>
          <p:cNvSpPr/>
          <p:nvPr/>
        </p:nvSpPr>
        <p:spPr>
          <a:xfrm>
            <a:off x="4617360" y="3846600"/>
            <a:ext cx="365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users with the ro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mi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allow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access the pages in this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9"/>
          <p:cNvSpPr/>
          <p:nvPr/>
        </p:nvSpPr>
        <p:spPr>
          <a:xfrm>
            <a:off x="4618080" y="4557600"/>
            <a:ext cx="27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other users are deni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Line 10"/>
          <p:cNvSpPr/>
          <p:nvPr/>
        </p:nvSpPr>
        <p:spPr>
          <a:xfrm flipV="1">
            <a:off x="3686040" y="4063680"/>
            <a:ext cx="92880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Line 11"/>
          <p:cNvSpPr/>
          <p:nvPr/>
        </p:nvSpPr>
        <p:spPr>
          <a:xfrm flipH="1" flipV="1">
            <a:off x="3250800" y="4470120"/>
            <a:ext cx="1335240" cy="261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2"/>
          <p:cNvSpPr/>
          <p:nvPr/>
        </p:nvSpPr>
        <p:spPr>
          <a:xfrm>
            <a:off x="723960" y="4457880"/>
            <a:ext cx="4927680" cy="35532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New Features in ASP.NET 2.0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4" name="Text Box 4"/>
          <p:cNvSpPr/>
          <p:nvPr/>
        </p:nvSpPr>
        <p:spPr>
          <a:xfrm>
            <a:off x="737640" y="2604960"/>
            <a:ext cx="44082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Mas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Themes and s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Person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Authentication and membership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5050"/>
                </a:solidFill>
                <a:latin typeface="Times New Roman"/>
              </a:rPr>
              <a:t>New Controls for databas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840-DAB2-40F6-ADCD-7B1B2C6D33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Visualization of Database Tab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7" name="Text Box 3"/>
          <p:cNvSpPr/>
          <p:nvPr/>
        </p:nvSpPr>
        <p:spPr>
          <a:xfrm>
            <a:off x="696600" y="1322280"/>
            <a:ext cx="58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AccessDataSource, SqlDataSource, XmlData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"/>
          <p:cNvSpPr/>
          <p:nvPr/>
        </p:nvSpPr>
        <p:spPr>
          <a:xfrm>
            <a:off x="1011600" y="1887480"/>
            <a:ext cx="55936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  <a:ea typeface="Times New Roman"/>
              </a:rPr>
              <a:t>AccessDataSour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D="data" Runat="server"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taFile="db.mdb"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Command="SELECT id, name, subject FROM Students" /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5"/>
          <p:cNvSpPr/>
          <p:nvPr/>
        </p:nvSpPr>
        <p:spPr>
          <a:xfrm>
            <a:off x="978480" y="2746440"/>
            <a:ext cx="719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web control specifies the database name and the SQL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at can be displayed in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istBo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ropDownLis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idView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6"/>
          <p:cNvGrpSpPr/>
          <p:nvPr/>
        </p:nvGrpSpPr>
        <p:grpSpPr>
          <a:xfrm>
            <a:off x="706320" y="3557520"/>
            <a:ext cx="8233560" cy="2778120"/>
            <a:chOff x="706320" y="3557520"/>
            <a:chExt cx="8233560" cy="2778120"/>
          </a:xfrm>
        </p:grpSpPr>
        <p:sp>
          <p:nvSpPr>
            <p:cNvPr id="1571" name="Text Box 7"/>
            <p:cNvSpPr/>
            <p:nvPr/>
          </p:nvSpPr>
          <p:spPr>
            <a:xfrm>
              <a:off x="706320" y="355752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Grid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Text Box 8"/>
            <p:cNvSpPr/>
            <p:nvPr/>
          </p:nvSpPr>
          <p:spPr>
            <a:xfrm>
              <a:off x="1008000" y="3990960"/>
              <a:ext cx="61840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asp: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  <a:ea typeface="Times New Roman"/>
                </a:rPr>
                <a:t>GridView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ataSourceID="data" Runat="server" AllowSorting="true" /&gt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3" name="Picture 9" descr=""/>
            <p:cNvPicPr/>
            <p:nvPr/>
          </p:nvPicPr>
          <p:blipFill>
            <a:blip r:embed="rId1"/>
            <a:stretch/>
          </p:blipFill>
          <p:spPr>
            <a:xfrm>
              <a:off x="1208160" y="4570560"/>
              <a:ext cx="30988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4" name="Text Box 10"/>
            <p:cNvSpPr/>
            <p:nvPr/>
          </p:nvSpPr>
          <p:spPr>
            <a:xfrm>
              <a:off x="4543920" y="4603680"/>
              <a:ext cx="43959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ows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cessDataSour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with the nam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lumns can be sorted by clicking on th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lumn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lows various ways of format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9782-0CD1-4BF6-83A4-D7B046B223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ropDownList With AccessDataSour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7" name="Text Box 3"/>
          <p:cNvSpPr/>
          <p:nvPr/>
        </p:nvSpPr>
        <p:spPr>
          <a:xfrm>
            <a:off x="700200" y="1393920"/>
            <a:ext cx="6958080" cy="118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  <a:ea typeface="Times New Roman"/>
              </a:rPr>
              <a:t>AccessDataSour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D="data" Runat="server"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taFile="db.mdb"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Command="SELEC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DISTIN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ubject FROM Students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  <a:ea typeface="Times New Roman"/>
              </a:rPr>
              <a:t>DropDownLi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ataSourceID="data"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DataTextField="subjec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unat="server" /&gt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8" name="Picture 4" descr=""/>
          <p:cNvPicPr/>
          <p:nvPr/>
        </p:nvPicPr>
        <p:blipFill>
          <a:blip r:embed="rId1"/>
          <a:stretch/>
        </p:blipFill>
        <p:spPr>
          <a:xfrm>
            <a:off x="741240" y="2990880"/>
            <a:ext cx="20178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A8F9-E996-456C-9BFA-CDD9FA09F0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ameters of Select Comman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1" name="Text Box 3"/>
          <p:cNvSpPr/>
          <p:nvPr/>
        </p:nvSpPr>
        <p:spPr>
          <a:xfrm>
            <a:off x="704160" y="1495440"/>
            <a:ext cx="7261200" cy="204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  <a:ea typeface="Times New Roman"/>
              </a:rPr>
              <a:t>Tex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d="subj" AutoPostBack="true" Runat="server" /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  <a:ea typeface="Times New Roman"/>
              </a:rPr>
              <a:t>AccessDataSour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D="data" Runat="server"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taFile="db.mdb"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Command="SELECT id, name, subject FROM Students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WHERE subject=@pa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&lt;SelectParameters&gt;</a:t>
            </a:r>
            <a:br>
              <a:rPr sz="1400"/>
            </a:b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&lt;asp:ControlParameter name="par" ControlID="subj" PropertyName="Text" /&gt;</a:t>
            </a:r>
            <a:br>
              <a:rPr sz="1400"/>
            </a:b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&lt;/SelectParameters&gt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asp:AccessDataSource&gt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2" name="Picture 4" descr=""/>
          <p:cNvPicPr/>
          <p:nvPr/>
        </p:nvPicPr>
        <p:blipFill>
          <a:blip r:embed="rId1"/>
          <a:stretch/>
        </p:blipFill>
        <p:spPr>
          <a:xfrm>
            <a:off x="747720" y="4060800"/>
            <a:ext cx="35845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F0AE-410A-4A59-99F8-1595620DFE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ge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46640" y="144792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223680" y="14860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stem.Web.UI.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7124760" y="190512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438960" y="259092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500520" y="26290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Counter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509520" y="3138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3300"/>
                </a:solidFill>
                <a:latin typeface="Times New Roman"/>
              </a:rPr>
              <a:t>Counter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643896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727704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7137360" y="350532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728964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451560" y="47242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514200" y="47624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unter_as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685800" y="2470320"/>
            <a:ext cx="42670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354480" y="213372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Page.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750600" y="2546280"/>
            <a:ext cx="422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Counter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 System.Web.UI.Pag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CounterValu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687960" y="213372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de beh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685800" y="4343400"/>
            <a:ext cx="426708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3603600" y="40068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753120" y="4419720"/>
            <a:ext cx="3472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Page ...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herits="CounterPag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&lt;%=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CounterValue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&gt;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687600" y="4006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px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6509160" y="52578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6454800" y="5181480"/>
            <a:ext cx="166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5240160" y="2917800"/>
            <a:ext cx="739800" cy="318960"/>
          </a:xfrm>
          <a:prstGeom prst="rightArrow">
            <a:avLst>
              <a:gd name="adj1" fmla="val 50000"/>
              <a:gd name="adj2" fmla="val 579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5235480" y="4956120"/>
            <a:ext cx="739800" cy="319320"/>
          </a:xfrm>
          <a:prstGeom prst="rightArrow">
            <a:avLst>
              <a:gd name="adj1" fmla="val 50000"/>
              <a:gd name="adj2" fmla="val 579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205F-3E3C-4662-BC54-8E0F66989D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diting a GridView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5" name="Text Box 3"/>
          <p:cNvSpPr/>
          <p:nvPr/>
        </p:nvSpPr>
        <p:spPr>
          <a:xfrm>
            <a:off x="603720" y="1365120"/>
            <a:ext cx="7986240" cy="222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AccessDataSour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data" Runat="serve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File="db.md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lectCommand="SELECT id, name, subject FROM Student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UpdateCommand="UPDATE Students SET name=@name, subject=@subject  WHERE id=@i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eleteCommand="DELETE FROM Students WHERE id=@i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GridVi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grid" DataSource="data" Runat="serve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ataKeyNames="i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utoGenerateEditButton="tru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utoGenerateDeleteButton=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Picture 4" descr=""/>
          <p:cNvPicPr/>
          <p:nvPr/>
        </p:nvPicPr>
        <p:blipFill>
          <a:blip r:embed="rId1"/>
          <a:stretch/>
        </p:blipFill>
        <p:spPr>
          <a:xfrm>
            <a:off x="299880" y="3875040"/>
            <a:ext cx="3348360" cy="150192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5" descr=""/>
          <p:cNvPicPr/>
          <p:nvPr/>
        </p:nvPicPr>
        <p:blipFill>
          <a:blip r:embed="rId2"/>
          <a:stretch/>
        </p:blipFill>
        <p:spPr>
          <a:xfrm>
            <a:off x="3794040" y="3835440"/>
            <a:ext cx="5170680" cy="1536840"/>
          </a:xfrm>
          <a:prstGeom prst="rect">
            <a:avLst/>
          </a:prstGeom>
          <a:ln w="0">
            <a:noFill/>
          </a:ln>
        </p:spPr>
      </p:pic>
      <p:sp>
        <p:nvSpPr>
          <p:cNvPr id="1588" name="Text Box 6"/>
          <p:cNvSpPr/>
          <p:nvPr/>
        </p:nvSpPr>
        <p:spPr>
          <a:xfrm>
            <a:off x="597960" y="5664240"/>
            <a:ext cx="522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itionally, events are raised that can be caught and hand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7"/>
          <p:cNvSpPr/>
          <p:nvPr/>
        </p:nvSpPr>
        <p:spPr>
          <a:xfrm>
            <a:off x="6259320" y="154152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808080"/>
                </a:solidFill>
                <a:latin typeface="Times New Roman"/>
              </a:rPr>
              <a:t>column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Line 8"/>
          <p:cNvSpPr/>
          <p:nvPr/>
        </p:nvSpPr>
        <p:spPr>
          <a:xfrm flipH="1">
            <a:off x="6807240" y="1843200"/>
            <a:ext cx="101520" cy="21744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Line 9"/>
          <p:cNvSpPr/>
          <p:nvPr/>
        </p:nvSpPr>
        <p:spPr>
          <a:xfrm flipH="1">
            <a:off x="5559480" y="1814400"/>
            <a:ext cx="812880" cy="24624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Line 10"/>
          <p:cNvSpPr/>
          <p:nvPr/>
        </p:nvSpPr>
        <p:spPr>
          <a:xfrm>
            <a:off x="7373880" y="1843200"/>
            <a:ext cx="812880" cy="20304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A41A-8BF4-496C-A0FB-21E851E1FE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tailed View of a Database Record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5" name="Text Box 3"/>
          <p:cNvSpPr/>
          <p:nvPr/>
        </p:nvSpPr>
        <p:spPr>
          <a:xfrm>
            <a:off x="705960" y="1293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Details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4"/>
          <p:cNvSpPr/>
          <p:nvPr/>
        </p:nvSpPr>
        <p:spPr>
          <a:xfrm>
            <a:off x="851760" y="1873080"/>
            <a:ext cx="554328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AccessDataSour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data" Runat="serve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File="db.md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lectCommand="SELECT id, name, subject FROM Students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DetailsVi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ataSourceID="data" Runat="serve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KeyNames="i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llowPaging="tru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agerSettings-Mode="NextPrevFirstLas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7" name="Picture 5" descr=""/>
          <p:cNvPicPr/>
          <p:nvPr/>
        </p:nvPicPr>
        <p:blipFill>
          <a:blip r:embed="rId1"/>
          <a:stretch/>
        </p:blipFill>
        <p:spPr>
          <a:xfrm>
            <a:off x="907920" y="4084560"/>
            <a:ext cx="2355840" cy="1192320"/>
          </a:xfrm>
          <a:prstGeom prst="rect">
            <a:avLst/>
          </a:prstGeom>
          <a:ln w="0">
            <a:noFill/>
          </a:ln>
        </p:spPr>
      </p:pic>
      <p:sp>
        <p:nvSpPr>
          <p:cNvPr id="1598" name="Text Box 6"/>
          <p:cNvSpPr/>
          <p:nvPr/>
        </p:nvSpPr>
        <p:spPr>
          <a:xfrm>
            <a:off x="3820680" y="4024440"/>
            <a:ext cx="41428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d if the record is too big for a singl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view can also be edited (like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idView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ows various ways of forma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ff3300"/>
                </a:solidFill>
                <a:latin typeface="Times New Roman"/>
              </a:rPr>
              <a:t>Summa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4CA4-C52F-48EF-A393-B3EF16F0D4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dvantages of ASP.NET over 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event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redefined and user-defined web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eparation between layout (HTML) and business logic (e.g. C#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compiled code instead of interpreted server 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convenient stat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amples available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http://dotnet.jku.at/book/samples/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Examples from the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http://dotnet.jku.at/book/exercises/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Exercises from the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http://dotnet.jku.at/buch/solutions/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olutions to the exerc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EDE6-9BCB-40D3-8ACA-812515F2B5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Class Counter_aspx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53400" y="1144440"/>
            <a:ext cx="7188120" cy="556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mespace AS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ing System.I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DE" sz="1200" spc="-1" strike="noStrike">
                <a:solidFill>
                  <a:srgbClr val="ff5050"/>
                </a:solidFill>
                <a:latin typeface="Arial"/>
              </a:rPr>
              <a:t>Counter_aspx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: CounterPag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static bool __initialized =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static ArrayList __fileDependenc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unter_aspx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rrayList dependenc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((__initialized == false)) { 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override string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mplateSourceDirector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 { return "/Samples"; 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void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__BuildControlTre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ontrol __ctrl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__ctrl.SetRenderMethodDelegate(new RenderMethod(this.__Render__control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void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__Render__control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HtmlTextWriter __output, Control parameterContainer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__output.Write("</a:t>
            </a: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\r\n&lt;html&gt;\r\n\t&lt;head&gt; &lt;title&gt;Page counter&lt;/title&gt; &lt;/head&gt;\r\n\t&lt;body&gt;\r\n\t\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&lt;h1&gt;Welcome&lt;/h1&gt;\r\n\t\tYou are visitor numb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__output.Write(</a:t>
            </a: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CounterValue(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__output.Write("</a:t>
            </a: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 !\r\n\t&lt;/body&gt;\r\n&lt;/html&gt;\r\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tected override void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ameworkInitializ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__BuildControlTree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.FileDependencies = __fileDependenc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.EnableViewStateMac = true; this.Request.ValidateInpu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msdn.microsoft.com/en-us/library/ms178472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odeguru.com/csharp/.net/net_asp/article.php/c19393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F897-AF95-45B3-AA6B-25E7ED04B1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066680" y="205740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4DB8-162B-477C-8C25-88DAA12910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TML Forms (With CGI Scripts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form action="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http://www.fake.com/cgi-bin/myprog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 method="pos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b&gt;Balance:&lt;/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input type="text" name="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 readonly value="0"&gt; Euro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input type="text" name="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input type="submit" name="ok" value="Pay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76080" y="3657600"/>
            <a:ext cx="34480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CGI script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AT" sz="2000" spc="-1" strike="noStrike">
                <a:solidFill>
                  <a:srgbClr val="000000"/>
                </a:solidFill>
                <a:latin typeface="Times New Roman"/>
              </a:rPr>
              <a:t>mypr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read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sends back a new HTML text in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have new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4795920" y="3551400"/>
            <a:ext cx="3616200" cy="19778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682560" y="5153040"/>
            <a:ext cx="39769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CGI programming is ted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restricted to HTML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must manage the state of text fields manually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when the page is sent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B82E-770E-417B-A477-776CF64B0A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b Forms in ASP.NE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Page Language="C#" Inherits="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AdderPag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" Src="Adder.aspx.cs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&lt;title&gt;Account&lt;/title&gt;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form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method="post"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&gt;Balance:&lt;/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Label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total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Text="0" Runat="server"/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uro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TextBox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Runat="serv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Button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ok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Text="Enter"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355160" y="121932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d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2" descr=""/>
          <p:cNvPicPr/>
          <p:nvPr/>
        </p:nvPicPr>
        <p:blipFill>
          <a:blip r:embed="rId1"/>
          <a:stretch/>
        </p:blipFill>
        <p:spPr>
          <a:xfrm>
            <a:off x="5899320" y="4481640"/>
            <a:ext cx="29476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4A7-497F-4108-8940-B818C0E184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5800" y="4038480"/>
            <a:ext cx="777240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b Forms in ASP.NE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Page Language="C#" Inherits="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AdderPag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" Src="Adder.aspx.cs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&lt;title&gt;Account&lt;/title&gt;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form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method="post"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&gt;Balance:&lt;/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Label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total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Text="0" Runat="server"/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uro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TextBox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Runat="serv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Button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ok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Text="Enter"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OnClick="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uttonClick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 using System.Web.UI; using System.Web.UI.WebContro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der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 Pag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Labe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TextBox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Butt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uttonClick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totalVal = Convert.ToInt32(total.Tex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amountVal = Convert.ToInt32(amount.Tex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otal.Text = (totalVal + amountVal).ToString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355160" y="121932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d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7165080" y="40068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der.aspx.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5899320" y="4481640"/>
            <a:ext cx="29476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2E33-C7A3-41A9-9D28-C6B7188041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TML Code Sent Back by the Serv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90520" y="1725480"/>
            <a:ext cx="3610080" cy="456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Page Language="C#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herits="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AdderPag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rc="Adder.aspx.cs"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&lt;title&gt;Account&lt;/title&gt;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form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method="post"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&gt;Balance:&lt;/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Label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total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Text="0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Runat="server"/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uro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TextBox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Runat="serv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asp:Button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ok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Text="Enter"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OnClick="ButtonClick"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015800" y="1744560"/>
            <a:ext cx="5022360" cy="435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 &lt;title&gt;Account&lt;/title&gt; 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fo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name="_ctl0" method="post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ion="Adder.aspx" id="_ctl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&lt;input type="hidden" name="__VIEWSTAT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value="dDwxNTg0NTEzNzMyO3Q8O2w8aTwxP"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"js+O2w8dDw7bDxpPDE+Oz47bDx0PHA8cDxs"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"PFRleHQ7PjtsPDEwMDs+Pjs+Ozs+Oz4+Oz4+"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"Oz7uOgbDI3uKWY/X5D1Fw8zmjTZkwg==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&gt;Balance:&lt;/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span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id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total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g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100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/spa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uro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input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type="tex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name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value="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100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id="amount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input type="submi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name="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ok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value="Enter" id="ok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8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15640" y="13827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990600" y="138276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HTML sent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D268-91C7-43E4-BB92-18B1D891B9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ain Characteristics of ASP.NE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28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uccessor of </a:t>
            </a: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Active Server Pages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(AS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but with a completely different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38280" y="2629080"/>
            <a:ext cx="3905280" cy="2377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601880" y="2490840"/>
            <a:ext cx="431856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vent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llows rapid application development (R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rich library of GUI elements (web contro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users can define their own GUI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paration of layout (HTML) and logic (C#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fficient (compiled serve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utomatic stat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uthorisation /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1C47-DB0E-4021-B15C-8BC1A0C00E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l Notation for Web Contr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95240" y="1486080"/>
            <a:ext cx="57830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ClassName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600" spc="-1" strike="noStrike">
                <a:solidFill>
                  <a:srgbClr val="3333cc"/>
                </a:solidFill>
                <a:latin typeface="Arial"/>
              </a:rPr>
              <a:t>PropertyName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="value" ... Runat="server"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0"/>
          <p:cNvGrpSpPr/>
          <p:nvPr/>
        </p:nvGrpSpPr>
        <p:grpSpPr>
          <a:xfrm>
            <a:off x="706680" y="2162160"/>
            <a:ext cx="7683840" cy="2610000"/>
            <a:chOff x="706680" y="2162160"/>
            <a:chExt cx="7683840" cy="2610000"/>
          </a:xfrm>
        </p:grpSpPr>
        <p:sp>
          <p:nvSpPr>
            <p:cNvPr id="225" name="Text Box 4"/>
            <p:cNvSpPr/>
            <p:nvPr/>
          </p:nvSpPr>
          <p:spPr>
            <a:xfrm>
              <a:off x="706680" y="216216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5"/>
            <p:cNvSpPr/>
            <p:nvPr/>
          </p:nvSpPr>
          <p:spPr>
            <a:xfrm>
              <a:off x="758880" y="2689200"/>
              <a:ext cx="65084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0" lang="de-AT" sz="1600" spc="-1" strike="noStrike">
                  <a:solidFill>
                    <a:srgbClr val="ff3300"/>
                  </a:solidFill>
                  <a:latin typeface="Arial"/>
                </a:rPr>
                <a:t>Label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ID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="total"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Text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="Hello"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ForeColor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="Red" Runat="server"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780840" y="3218040"/>
              <a:ext cx="4629240" cy="155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public class </a:t>
              </a:r>
              <a:r>
                <a:rPr b="0" lang="de-AT" sz="1600" spc="-1" strike="noStrike">
                  <a:solidFill>
                    <a:srgbClr val="ff3300"/>
                  </a:solidFill>
                  <a:latin typeface="Arial"/>
                </a:rPr>
                <a:t>Label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: WebControl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public virtual string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ID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 { get {...} set {...}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public virtual string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Text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 { get {...} set {...}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public virtual Color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ForeColor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 { get {...} set {...}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5501520" y="3228840"/>
              <a:ext cx="288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ll web control classes are i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amespace System.Web.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11"/>
          <p:cNvGrpSpPr/>
          <p:nvPr/>
        </p:nvGrpSpPr>
        <p:grpSpPr>
          <a:xfrm>
            <a:off x="701640" y="5064120"/>
            <a:ext cx="5333400" cy="1351080"/>
            <a:chOff x="701640" y="5064120"/>
            <a:chExt cx="5333400" cy="1351080"/>
          </a:xfrm>
        </p:grpSpPr>
        <p:sp>
          <p:nvSpPr>
            <p:cNvPr id="230" name="Text Box 8"/>
            <p:cNvSpPr/>
            <p:nvPr/>
          </p:nvSpPr>
          <p:spPr>
            <a:xfrm>
              <a:off x="701640" y="5064120"/>
              <a:ext cx="24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Alternative 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759240" y="5591160"/>
              <a:ext cx="52758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0" lang="de-AT" sz="1600" spc="-1" strike="noStrike">
                  <a:solidFill>
                    <a:srgbClr val="ff3300"/>
                  </a:solidFill>
                  <a:latin typeface="Arial"/>
                </a:rPr>
                <a:t>Label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ID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="total" </a:t>
              </a:r>
              <a:r>
                <a:rPr b="0" lang="de-AT" sz="1600" spc="-1" strike="noStrike">
                  <a:solidFill>
                    <a:srgbClr val="3333cc"/>
                  </a:solidFill>
                  <a:latin typeface="Arial"/>
                </a:rPr>
                <a:t>ForeColor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="Red" Runat="server"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He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&lt;/asp:Label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1720-FD51-47B0-B489-B5329E5EEE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dvantages of Web For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page is an object</a:t>
            </a:r>
            <a:br>
              <a:rPr sz="24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e can access all its properties and methods:</a:t>
            </a:r>
            <a:br>
              <a:rPr sz="1600"/>
            </a:b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.IsPostB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.Us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.FindContro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)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ll GUI elements are objects</a:t>
            </a:r>
            <a:br>
              <a:rPr sz="24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e can access all their properties and methods:</a:t>
            </a:r>
            <a:br>
              <a:rPr sz="1600"/>
            </a:b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mount.Tex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mount.Fo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mount.Width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ne can implement custom GUI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pages can access the whole .NET library</a:t>
            </a:r>
            <a:br>
              <a:rPr sz="24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atabases, XML, RMI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state of all GUI elements is retained</a:t>
            </a:r>
            <a:br>
              <a:rPr sz="2400"/>
            </a:b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mount.Tex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does not need to be set before the page is sent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C190-3229-4464-9217-DAA04732CD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b Controls (selection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133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Radio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ropDown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List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876920" y="1295280"/>
            <a:ext cx="2361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ata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516040" y="16002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7"/>
          <p:cNvGraphicFramePr/>
          <p:nvPr/>
        </p:nvGraphicFramePr>
        <p:xfrm>
          <a:off x="2590920" y="2882880"/>
          <a:ext cx="5587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82880"/>
                    <a:ext cx="558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8"/>
          <p:cNvGraphicFramePr/>
          <p:nvPr/>
        </p:nvGraphicFramePr>
        <p:xfrm>
          <a:off x="2590920" y="3581280"/>
          <a:ext cx="6858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581280"/>
                    <a:ext cx="6858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9"/>
          <p:cNvGraphicFramePr/>
          <p:nvPr/>
        </p:nvGraphicFramePr>
        <p:xfrm>
          <a:off x="2590920" y="4229280"/>
          <a:ext cx="73656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229280"/>
                    <a:ext cx="7365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0"/>
          <p:cNvGraphicFramePr/>
          <p:nvPr/>
        </p:nvGraphicFramePr>
        <p:xfrm>
          <a:off x="2590920" y="4784760"/>
          <a:ext cx="97776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4784760"/>
                    <a:ext cx="9777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2"/>
          <p:cNvGraphicFramePr/>
          <p:nvPr/>
        </p:nvGraphicFramePr>
        <p:xfrm>
          <a:off x="6477120" y="1600200"/>
          <a:ext cx="129528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160020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3"/>
          <p:cNvGraphicFramePr/>
          <p:nvPr/>
        </p:nvGraphicFramePr>
        <p:xfrm>
          <a:off x="2590920" y="2222640"/>
          <a:ext cx="9014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2222640"/>
                    <a:ext cx="901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14"/>
          <p:cNvGraphicFramePr/>
          <p:nvPr/>
        </p:nvGraphicFramePr>
        <p:xfrm>
          <a:off x="6477120" y="2971800"/>
          <a:ext cx="1828800" cy="17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3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2971800"/>
                    <a:ext cx="18288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5"/>
          <p:cNvGraphicFramePr/>
          <p:nvPr/>
        </p:nvGraphicFramePr>
        <p:xfrm>
          <a:off x="2602080" y="5351400"/>
          <a:ext cx="977760" cy="711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5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02080" y="5351400"/>
                    <a:ext cx="9777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56F0-E8A0-48D3-BAE3-73B4417AAC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352680" y="16002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b Control Hierarch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354840" y="16002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752480" y="3048120"/>
            <a:ext cx="12956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755360" y="30481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Web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09480" y="46483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11640" y="464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600200" y="4648320"/>
            <a:ext cx="9907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601280" y="46483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2743200" y="46483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745000" y="46483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495680" y="3048120"/>
            <a:ext cx="1676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4499280" y="3048120"/>
            <a:ext cx="168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Template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267080" y="4648320"/>
            <a:ext cx="9907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4268880" y="4648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410080" y="4648320"/>
            <a:ext cx="12956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412960" y="46483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User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0"/>
          <p:cNvSpPr/>
          <p:nvPr/>
        </p:nvSpPr>
        <p:spPr>
          <a:xfrm>
            <a:off x="3657600" y="25146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23623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3341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72388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2362320" y="28954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7012080" y="2971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>
            <a:off x="377676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7"/>
          <p:cNvSpPr/>
          <p:nvPr/>
        </p:nvSpPr>
        <p:spPr>
          <a:xfrm>
            <a:off x="2286000" y="40384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240516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29"/>
          <p:cNvSpPr/>
          <p:nvPr/>
        </p:nvSpPr>
        <p:spPr>
          <a:xfrm>
            <a:off x="5181480" y="3352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0"/>
          <p:cNvSpPr/>
          <p:nvPr/>
        </p:nvSpPr>
        <p:spPr>
          <a:xfrm>
            <a:off x="530064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1"/>
          <p:cNvSpPr/>
          <p:nvPr/>
        </p:nvSpPr>
        <p:spPr>
          <a:xfrm>
            <a:off x="10666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2"/>
          <p:cNvSpPr/>
          <p:nvPr/>
        </p:nvSpPr>
        <p:spPr>
          <a:xfrm>
            <a:off x="1066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5"/>
          <p:cNvSpPr/>
          <p:nvPr/>
        </p:nvSpPr>
        <p:spPr>
          <a:xfrm>
            <a:off x="3124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3733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7"/>
          <p:cNvSpPr/>
          <p:nvPr/>
        </p:nvSpPr>
        <p:spPr>
          <a:xfrm>
            <a:off x="358308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4572000" y="4419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6019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1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690408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3368520" y="1905120"/>
            <a:ext cx="698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33526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6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7"/>
          <p:cNvSpPr/>
          <p:nvPr/>
        </p:nvSpPr>
        <p:spPr>
          <a:xfrm>
            <a:off x="1752480" y="3352680"/>
            <a:ext cx="6685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8"/>
          <p:cNvSpPr/>
          <p:nvPr/>
        </p:nvSpPr>
        <p:spPr>
          <a:xfrm>
            <a:off x="610200" y="4952880"/>
            <a:ext cx="508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49"/>
          <p:cNvSpPr/>
          <p:nvPr/>
        </p:nvSpPr>
        <p:spPr>
          <a:xfrm>
            <a:off x="609480" y="4952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0"/>
          <p:cNvSpPr/>
          <p:nvPr/>
        </p:nvSpPr>
        <p:spPr>
          <a:xfrm>
            <a:off x="1623600" y="4952880"/>
            <a:ext cx="828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1"/>
          <p:cNvSpPr/>
          <p:nvPr/>
        </p:nvSpPr>
        <p:spPr>
          <a:xfrm>
            <a:off x="1600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2"/>
          <p:cNvSpPr/>
          <p:nvPr/>
        </p:nvSpPr>
        <p:spPr>
          <a:xfrm>
            <a:off x="2767680" y="4952880"/>
            <a:ext cx="508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3"/>
          <p:cNvSpPr/>
          <p:nvPr/>
        </p:nvSpPr>
        <p:spPr>
          <a:xfrm>
            <a:off x="274320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4277880" y="4952880"/>
            <a:ext cx="98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IsPost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55"/>
          <p:cNvSpPr/>
          <p:nvPr/>
        </p:nvSpPr>
        <p:spPr>
          <a:xfrm>
            <a:off x="42670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66680" y="243828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B14F-1EC4-4F8E-B7B3-8F0CA4FF2F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838080" y="3048120"/>
            <a:ext cx="221004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839160" y="3046320"/>
            <a:ext cx="219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Text="..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nClick="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DoClick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unat="sev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4419720" y="2590920"/>
            <a:ext cx="41148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vent-based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838080" y="2298600"/>
          <a:ext cx="128268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98600"/>
                    <a:ext cx="1282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Line 7"/>
          <p:cNvSpPr/>
          <p:nvPr/>
        </p:nvSpPr>
        <p:spPr>
          <a:xfrm>
            <a:off x="22096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3124080" y="2590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31240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908640" y="15238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ouse 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4424760" y="2590920"/>
            <a:ext cx="411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DoClick 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(object sender, EventArgs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358128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974880" y="4876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4964760" y="4876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5581800" y="22096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even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20"/>
          <p:cNvSpPr/>
          <p:nvPr/>
        </p:nvSpPr>
        <p:spPr>
          <a:xfrm rot="5400000">
            <a:off x="1294920" y="1904760"/>
            <a:ext cx="380880" cy="381240"/>
          </a:xfrm>
          <a:custGeom>
            <a:avLst/>
            <a:gdLst>
              <a:gd name="textAreaLeft" fmla="*/ 59400 w 380880"/>
              <a:gd name="textAreaRight" fmla="*/ 267480 w 3808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8730" y="0"/>
                </a:moveTo>
                <a:lnTo>
                  <a:pt x="873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8730" y="16200"/>
                </a:lnTo>
                <a:lnTo>
                  <a:pt x="873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21"/>
          <p:cNvSpPr/>
          <p:nvPr/>
        </p:nvSpPr>
        <p:spPr>
          <a:xfrm>
            <a:off x="2209680" y="2133720"/>
            <a:ext cx="304920" cy="3808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463840" y="217800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ick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4AA6-36FD-4F34-ABC7-26F28D2826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762120" y="1295280"/>
          <a:ext cx="7696080" cy="5110200"/>
        </p:xfrm>
        <a:graphic>
          <a:graphicData uri="http://schemas.openxmlformats.org/drawingml/2006/table">
            <a:tbl>
              <a:tblPr/>
              <a:tblGrid>
                <a:gridCol w="1523880"/>
                <a:gridCol w="2438280"/>
                <a:gridCol w="3733920"/>
              </a:tblGrid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does the event occu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2193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2193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2193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2193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2193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R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2193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2193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the control is cre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7200" indent="-18720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the data that were sent by the</a:t>
                      </a:r>
                      <a:br>
                        <a:rPr sz="1800"/>
                      </a:b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wser have been loaded into</a:t>
                      </a:r>
                      <a:br>
                        <a:rPr sz="1800"/>
                      </a:b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7200" indent="-18720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 HTML code for this control</a:t>
                      </a:r>
                      <a:br>
                        <a:rPr sz="1800"/>
                      </a:b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gener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7200" indent="-18720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 the control is removed</a:t>
                      </a:r>
                      <a:br>
                        <a:rPr sz="1800"/>
                      </a:b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the button was clic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Chan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the contents of the Tex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edChan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the state of the CheckBox chan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edIndexChan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a new item from the list has been 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Kinds of Ev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FE60-758D-4743-995C-861A2524ED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6" descr=""/>
          <p:cNvPicPr/>
          <p:nvPr/>
        </p:nvPicPr>
        <p:blipFill>
          <a:blip r:embed="rId1"/>
          <a:stretch/>
        </p:blipFill>
        <p:spPr>
          <a:xfrm>
            <a:off x="722160" y="1144440"/>
            <a:ext cx="2408400" cy="14972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ound Trip of a Web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2120040" y="28954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3581280" y="14479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974880" y="5715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964760" y="5715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3529080" y="175248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ound trip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3529440" y="21780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 pag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3877920" y="3851280"/>
            <a:ext cx="322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page object and its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22"/>
          <p:cNvSpPr/>
          <p:nvPr/>
        </p:nvSpPr>
        <p:spPr>
          <a:xfrm>
            <a:off x="5257800" y="1905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5335920" y="190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24"/>
          <p:cNvSpPr/>
          <p:nvPr/>
        </p:nvSpPr>
        <p:spPr>
          <a:xfrm>
            <a:off x="5791320" y="233028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5869800" y="2330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5791320" y="274320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5868720" y="27432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8"/>
          <p:cNvSpPr/>
          <p:nvPr/>
        </p:nvSpPr>
        <p:spPr>
          <a:xfrm>
            <a:off x="5791320" y="31687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9"/>
          <p:cNvSpPr/>
          <p:nvPr/>
        </p:nvSpPr>
        <p:spPr>
          <a:xfrm>
            <a:off x="5868720" y="3168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5486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31"/>
          <p:cNvSpPr/>
          <p:nvPr/>
        </p:nvSpPr>
        <p:spPr>
          <a:xfrm>
            <a:off x="5486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5486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3"/>
          <p:cNvSpPr/>
          <p:nvPr/>
        </p:nvSpPr>
        <p:spPr>
          <a:xfrm>
            <a:off x="5486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2819520" y="21337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3"/>
          <p:cNvSpPr/>
          <p:nvPr/>
        </p:nvSpPr>
        <p:spPr>
          <a:xfrm flipV="1">
            <a:off x="2362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4"/>
          <p:cNvSpPr/>
          <p:nvPr/>
        </p:nvSpPr>
        <p:spPr>
          <a:xfrm>
            <a:off x="236232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45"/>
          <p:cNvSpPr/>
          <p:nvPr/>
        </p:nvSpPr>
        <p:spPr>
          <a:xfrm flipV="1">
            <a:off x="251460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81CB-2367-4EE6-B742-3AAF7109EF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63" descr=""/>
          <p:cNvPicPr/>
          <p:nvPr/>
        </p:nvPicPr>
        <p:blipFill>
          <a:blip r:embed="rId1"/>
          <a:stretch/>
        </p:blipFill>
        <p:spPr>
          <a:xfrm>
            <a:off x="722160" y="1144440"/>
            <a:ext cx="2408400" cy="1497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ound Trip of a Web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3581280" y="14479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974880" y="5715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4964760" y="5715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3875760" y="3851280"/>
            <a:ext cx="19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niti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i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7010280" y="23623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7241760" y="2286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8000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29"/>
          <p:cNvSpPr/>
          <p:nvPr/>
        </p:nvSpPr>
        <p:spPr>
          <a:xfrm>
            <a:off x="7010280" y="27874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0"/>
          <p:cNvSpPr/>
          <p:nvPr/>
        </p:nvSpPr>
        <p:spPr>
          <a:xfrm>
            <a:off x="7241760" y="2711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8000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31"/>
          <p:cNvSpPr/>
          <p:nvPr/>
        </p:nvSpPr>
        <p:spPr>
          <a:xfrm>
            <a:off x="7010280" y="32446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2"/>
          <p:cNvSpPr/>
          <p:nvPr/>
        </p:nvSpPr>
        <p:spPr>
          <a:xfrm>
            <a:off x="7241760" y="3168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8000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33"/>
          <p:cNvSpPr/>
          <p:nvPr/>
        </p:nvSpPr>
        <p:spPr>
          <a:xfrm>
            <a:off x="6477120" y="19051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4"/>
          <p:cNvSpPr/>
          <p:nvPr/>
        </p:nvSpPr>
        <p:spPr>
          <a:xfrm>
            <a:off x="6708600" y="1828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8000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3"/>
          <p:cNvSpPr/>
          <p:nvPr/>
        </p:nvSpPr>
        <p:spPr>
          <a:xfrm>
            <a:off x="2120040" y="28954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"/>
          <p:cNvSpPr/>
          <p:nvPr/>
        </p:nvSpPr>
        <p:spPr>
          <a:xfrm>
            <a:off x="3529080" y="175248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ound trip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45"/>
          <p:cNvSpPr/>
          <p:nvPr/>
        </p:nvSpPr>
        <p:spPr>
          <a:xfrm>
            <a:off x="3529440" y="21780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 pag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46"/>
          <p:cNvSpPr/>
          <p:nvPr/>
        </p:nvSpPr>
        <p:spPr>
          <a:xfrm>
            <a:off x="5257800" y="1905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7"/>
          <p:cNvSpPr/>
          <p:nvPr/>
        </p:nvSpPr>
        <p:spPr>
          <a:xfrm>
            <a:off x="5335920" y="190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8"/>
          <p:cNvSpPr/>
          <p:nvPr/>
        </p:nvSpPr>
        <p:spPr>
          <a:xfrm>
            <a:off x="5791320" y="233028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5869800" y="2330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0"/>
          <p:cNvSpPr/>
          <p:nvPr/>
        </p:nvSpPr>
        <p:spPr>
          <a:xfrm>
            <a:off x="5791320" y="2743200"/>
            <a:ext cx="10666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5868720" y="27432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5791320" y="31687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5868720" y="3168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4"/>
          <p:cNvSpPr/>
          <p:nvPr/>
        </p:nvSpPr>
        <p:spPr>
          <a:xfrm>
            <a:off x="5486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5"/>
          <p:cNvSpPr/>
          <p:nvPr/>
        </p:nvSpPr>
        <p:spPr>
          <a:xfrm>
            <a:off x="5486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56"/>
          <p:cNvSpPr/>
          <p:nvPr/>
        </p:nvSpPr>
        <p:spPr>
          <a:xfrm>
            <a:off x="5486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57"/>
          <p:cNvSpPr/>
          <p:nvPr/>
        </p:nvSpPr>
        <p:spPr>
          <a:xfrm>
            <a:off x="5486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819520" y="21337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60"/>
          <p:cNvSpPr/>
          <p:nvPr/>
        </p:nvSpPr>
        <p:spPr>
          <a:xfrm flipV="1">
            <a:off x="2362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61"/>
          <p:cNvSpPr/>
          <p:nvPr/>
        </p:nvSpPr>
        <p:spPr>
          <a:xfrm>
            <a:off x="236232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62"/>
          <p:cNvSpPr/>
          <p:nvPr/>
        </p:nvSpPr>
        <p:spPr>
          <a:xfrm flipV="1">
            <a:off x="251460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0EC8-ED7F-4D4A-A97B-B6CBE0A041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55" descr=""/>
          <p:cNvPicPr/>
          <p:nvPr/>
        </p:nvPicPr>
        <p:blipFill>
          <a:blip r:embed="rId1"/>
          <a:stretch/>
        </p:blipFill>
        <p:spPr>
          <a:xfrm>
            <a:off x="722160" y="1144440"/>
            <a:ext cx="2408400" cy="14972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ound Trip of a Web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3581280" y="14479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974880" y="5715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4964760" y="5715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3878280" y="3851280"/>
            <a:ext cx="403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controls with the values that the use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s entered (page st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v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27"/>
          <p:cNvSpPr/>
          <p:nvPr/>
        </p:nvSpPr>
        <p:spPr>
          <a:xfrm>
            <a:off x="7018200" y="23623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7248600" y="2286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29"/>
          <p:cNvSpPr/>
          <p:nvPr/>
        </p:nvSpPr>
        <p:spPr>
          <a:xfrm>
            <a:off x="7018200" y="27874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7248600" y="2711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31"/>
          <p:cNvSpPr/>
          <p:nvPr/>
        </p:nvSpPr>
        <p:spPr>
          <a:xfrm>
            <a:off x="7018200" y="32446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248600" y="31687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33"/>
          <p:cNvSpPr/>
          <p:nvPr/>
        </p:nvSpPr>
        <p:spPr>
          <a:xfrm>
            <a:off x="6485040" y="19051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6715080" y="1828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2120040" y="28954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3529080" y="175248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ound trip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3529440" y="21780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 pag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38"/>
          <p:cNvSpPr/>
          <p:nvPr/>
        </p:nvSpPr>
        <p:spPr>
          <a:xfrm>
            <a:off x="5257800" y="19051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5335920" y="190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40"/>
          <p:cNvSpPr/>
          <p:nvPr/>
        </p:nvSpPr>
        <p:spPr>
          <a:xfrm>
            <a:off x="5791320" y="23302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5869800" y="2330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42"/>
          <p:cNvSpPr/>
          <p:nvPr/>
        </p:nvSpPr>
        <p:spPr>
          <a:xfrm>
            <a:off x="5791320" y="274320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43"/>
          <p:cNvSpPr/>
          <p:nvPr/>
        </p:nvSpPr>
        <p:spPr>
          <a:xfrm>
            <a:off x="5868720" y="27432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44"/>
          <p:cNvSpPr/>
          <p:nvPr/>
        </p:nvSpPr>
        <p:spPr>
          <a:xfrm>
            <a:off x="5791320" y="31687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5"/>
          <p:cNvSpPr/>
          <p:nvPr/>
        </p:nvSpPr>
        <p:spPr>
          <a:xfrm>
            <a:off x="5868720" y="3168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46"/>
          <p:cNvSpPr/>
          <p:nvPr/>
        </p:nvSpPr>
        <p:spPr>
          <a:xfrm>
            <a:off x="5486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47"/>
          <p:cNvSpPr/>
          <p:nvPr/>
        </p:nvSpPr>
        <p:spPr>
          <a:xfrm>
            <a:off x="5486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8"/>
          <p:cNvSpPr/>
          <p:nvPr/>
        </p:nvSpPr>
        <p:spPr>
          <a:xfrm>
            <a:off x="5486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49"/>
          <p:cNvSpPr/>
          <p:nvPr/>
        </p:nvSpPr>
        <p:spPr>
          <a:xfrm>
            <a:off x="5486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51"/>
          <p:cNvSpPr/>
          <p:nvPr/>
        </p:nvSpPr>
        <p:spPr>
          <a:xfrm>
            <a:off x="2819520" y="21337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52"/>
          <p:cNvSpPr/>
          <p:nvPr/>
        </p:nvSpPr>
        <p:spPr>
          <a:xfrm flipV="1">
            <a:off x="2362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53"/>
          <p:cNvSpPr/>
          <p:nvPr/>
        </p:nvSpPr>
        <p:spPr>
          <a:xfrm>
            <a:off x="236232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54"/>
          <p:cNvSpPr/>
          <p:nvPr/>
        </p:nvSpPr>
        <p:spPr>
          <a:xfrm flipV="1">
            <a:off x="251460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66680" y="170172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15F8-750D-457A-BF48-D6BCF027DD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56" descr=""/>
          <p:cNvPicPr/>
          <p:nvPr/>
        </p:nvPicPr>
        <p:blipFill>
          <a:blip r:embed="rId1"/>
          <a:stretch/>
        </p:blipFill>
        <p:spPr>
          <a:xfrm>
            <a:off x="722160" y="1144440"/>
            <a:ext cx="2408400" cy="14972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ound Trip of a Web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Line 9"/>
          <p:cNvSpPr/>
          <p:nvPr/>
        </p:nvSpPr>
        <p:spPr>
          <a:xfrm>
            <a:off x="3581280" y="14479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974880" y="5715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964760" y="5715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3875400" y="3851280"/>
            <a:ext cx="254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ndle event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Click, TextChanged, ..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8"/>
          <p:cNvSpPr/>
          <p:nvPr/>
        </p:nvSpPr>
        <p:spPr>
          <a:xfrm>
            <a:off x="5257800" y="19051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335920" y="190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0"/>
          <p:cNvSpPr/>
          <p:nvPr/>
        </p:nvSpPr>
        <p:spPr>
          <a:xfrm>
            <a:off x="5791320" y="23302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1"/>
          <p:cNvSpPr/>
          <p:nvPr/>
        </p:nvSpPr>
        <p:spPr>
          <a:xfrm>
            <a:off x="5869800" y="2330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42"/>
          <p:cNvSpPr/>
          <p:nvPr/>
        </p:nvSpPr>
        <p:spPr>
          <a:xfrm>
            <a:off x="5791320" y="274320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3"/>
          <p:cNvSpPr/>
          <p:nvPr/>
        </p:nvSpPr>
        <p:spPr>
          <a:xfrm>
            <a:off x="5868720" y="27432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4"/>
          <p:cNvSpPr/>
          <p:nvPr/>
        </p:nvSpPr>
        <p:spPr>
          <a:xfrm>
            <a:off x="5791320" y="31687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5"/>
          <p:cNvSpPr/>
          <p:nvPr/>
        </p:nvSpPr>
        <p:spPr>
          <a:xfrm>
            <a:off x="5868720" y="3168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6"/>
          <p:cNvSpPr/>
          <p:nvPr/>
        </p:nvSpPr>
        <p:spPr>
          <a:xfrm>
            <a:off x="5486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47"/>
          <p:cNvSpPr/>
          <p:nvPr/>
        </p:nvSpPr>
        <p:spPr>
          <a:xfrm>
            <a:off x="5486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>
            <a:off x="5486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9"/>
          <p:cNvSpPr/>
          <p:nvPr/>
        </p:nvSpPr>
        <p:spPr>
          <a:xfrm>
            <a:off x="5486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DF78-FCBE-4CDB-9FE0-58D6DC20E7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762120" y="3048120"/>
            <a:ext cx="2286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ound Trip of a Web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3581280" y="14479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974880" y="5715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4964760" y="5715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878640" y="3851280"/>
            <a:ext cx="410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n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eRen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ll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ethods of all controls,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nder the controls to 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7"/>
          <p:cNvSpPr/>
          <p:nvPr/>
        </p:nvSpPr>
        <p:spPr>
          <a:xfrm>
            <a:off x="7010280" y="23623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7241760" y="22860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996600"/>
                </a:solidFill>
                <a:latin typeface="Times New Roman"/>
              </a:rPr>
              <a:t>PreR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29"/>
          <p:cNvSpPr/>
          <p:nvPr/>
        </p:nvSpPr>
        <p:spPr>
          <a:xfrm>
            <a:off x="7010280" y="27874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7241760" y="27115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996600"/>
                </a:solidFill>
                <a:latin typeface="Times New Roman"/>
              </a:rPr>
              <a:t>PreR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1"/>
          <p:cNvSpPr/>
          <p:nvPr/>
        </p:nvSpPr>
        <p:spPr>
          <a:xfrm>
            <a:off x="7010280" y="32446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7241760" y="31687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996600"/>
                </a:solidFill>
                <a:latin typeface="Times New Roman"/>
              </a:rPr>
              <a:t>PreR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6477120" y="19051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6708600" y="18288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996600"/>
                </a:solidFill>
                <a:latin typeface="Times New Roman"/>
              </a:rPr>
              <a:t>PreR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5"/>
          <p:cNvSpPr/>
          <p:nvPr/>
        </p:nvSpPr>
        <p:spPr>
          <a:xfrm>
            <a:off x="816480" y="3135240"/>
            <a:ext cx="217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input type="text" ...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input type="button" ...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7"/>
          <p:cNvSpPr/>
          <p:nvPr/>
        </p:nvSpPr>
        <p:spPr>
          <a:xfrm flipH="1">
            <a:off x="31237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38"/>
          <p:cNvSpPr/>
          <p:nvPr/>
        </p:nvSpPr>
        <p:spPr>
          <a:xfrm>
            <a:off x="3127680" y="335268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 pag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9"/>
          <p:cNvSpPr/>
          <p:nvPr/>
        </p:nvSpPr>
        <p:spPr>
          <a:xfrm>
            <a:off x="3510720" y="28954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3"/>
          <p:cNvSpPr/>
          <p:nvPr/>
        </p:nvSpPr>
        <p:spPr>
          <a:xfrm>
            <a:off x="5257800" y="19051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335920" y="190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5"/>
          <p:cNvSpPr/>
          <p:nvPr/>
        </p:nvSpPr>
        <p:spPr>
          <a:xfrm>
            <a:off x="5791320" y="23302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5869800" y="2330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47"/>
          <p:cNvSpPr/>
          <p:nvPr/>
        </p:nvSpPr>
        <p:spPr>
          <a:xfrm>
            <a:off x="5791320" y="274320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8"/>
          <p:cNvSpPr/>
          <p:nvPr/>
        </p:nvSpPr>
        <p:spPr>
          <a:xfrm>
            <a:off x="5868720" y="27432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49"/>
          <p:cNvSpPr/>
          <p:nvPr/>
        </p:nvSpPr>
        <p:spPr>
          <a:xfrm>
            <a:off x="5791320" y="31687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0"/>
          <p:cNvSpPr/>
          <p:nvPr/>
        </p:nvSpPr>
        <p:spPr>
          <a:xfrm>
            <a:off x="5868720" y="3168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1"/>
          <p:cNvSpPr/>
          <p:nvPr/>
        </p:nvSpPr>
        <p:spPr>
          <a:xfrm>
            <a:off x="5486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2"/>
          <p:cNvSpPr/>
          <p:nvPr/>
        </p:nvSpPr>
        <p:spPr>
          <a:xfrm>
            <a:off x="5486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3"/>
          <p:cNvSpPr/>
          <p:nvPr/>
        </p:nvSpPr>
        <p:spPr>
          <a:xfrm>
            <a:off x="5486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4"/>
          <p:cNvSpPr/>
          <p:nvPr/>
        </p:nvSpPr>
        <p:spPr>
          <a:xfrm>
            <a:off x="5486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60" descr=""/>
          <p:cNvPicPr/>
          <p:nvPr/>
        </p:nvPicPr>
        <p:blipFill>
          <a:blip r:embed="rId1"/>
          <a:stretch/>
        </p:blipFill>
        <p:spPr>
          <a:xfrm>
            <a:off x="722160" y="1144440"/>
            <a:ext cx="24084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E6D1-ABF2-4E50-8780-CE6441BCBE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ound Trip of a Web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0"/>
          <p:cNvSpPr/>
          <p:nvPr/>
        </p:nvSpPr>
        <p:spPr>
          <a:xfrm>
            <a:off x="3581280" y="14479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974880" y="5715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2"/>
          <p:cNvSpPr/>
          <p:nvPr/>
        </p:nvSpPr>
        <p:spPr>
          <a:xfrm>
            <a:off x="4964760" y="5715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3876840" y="3851280"/>
            <a:ext cx="386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Un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908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nlo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vents for cleanup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8"/>
          <p:cNvSpPr/>
          <p:nvPr/>
        </p:nvSpPr>
        <p:spPr>
          <a:xfrm>
            <a:off x="6989760" y="23623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7219800" y="228600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Un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30"/>
          <p:cNvSpPr/>
          <p:nvPr/>
        </p:nvSpPr>
        <p:spPr>
          <a:xfrm>
            <a:off x="6989760" y="27874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7219800" y="271152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Un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32"/>
          <p:cNvSpPr/>
          <p:nvPr/>
        </p:nvSpPr>
        <p:spPr>
          <a:xfrm>
            <a:off x="6989760" y="324468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3"/>
          <p:cNvSpPr/>
          <p:nvPr/>
        </p:nvSpPr>
        <p:spPr>
          <a:xfrm>
            <a:off x="7219800" y="316872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Un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34"/>
          <p:cNvSpPr/>
          <p:nvPr/>
        </p:nvSpPr>
        <p:spPr>
          <a:xfrm>
            <a:off x="6456240" y="1905120"/>
            <a:ext cx="22860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5"/>
          <p:cNvSpPr/>
          <p:nvPr/>
        </p:nvSpPr>
        <p:spPr>
          <a:xfrm>
            <a:off x="6686280" y="182880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Un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8"/>
          <p:cNvSpPr/>
          <p:nvPr/>
        </p:nvSpPr>
        <p:spPr>
          <a:xfrm>
            <a:off x="762120" y="3048120"/>
            <a:ext cx="228600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39"/>
          <p:cNvSpPr/>
          <p:nvPr/>
        </p:nvSpPr>
        <p:spPr>
          <a:xfrm>
            <a:off x="816480" y="3135240"/>
            <a:ext cx="217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input type="text" ...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input type="button" ...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3"/>
          <p:cNvSpPr/>
          <p:nvPr/>
        </p:nvSpPr>
        <p:spPr>
          <a:xfrm>
            <a:off x="5257800" y="19051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4"/>
          <p:cNvSpPr/>
          <p:nvPr/>
        </p:nvSpPr>
        <p:spPr>
          <a:xfrm>
            <a:off x="5335920" y="1905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45"/>
          <p:cNvSpPr/>
          <p:nvPr/>
        </p:nvSpPr>
        <p:spPr>
          <a:xfrm>
            <a:off x="5791320" y="23302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46"/>
          <p:cNvSpPr/>
          <p:nvPr/>
        </p:nvSpPr>
        <p:spPr>
          <a:xfrm>
            <a:off x="5869800" y="2330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47"/>
          <p:cNvSpPr/>
          <p:nvPr/>
        </p:nvSpPr>
        <p:spPr>
          <a:xfrm>
            <a:off x="5791320" y="274320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8"/>
          <p:cNvSpPr/>
          <p:nvPr/>
        </p:nvSpPr>
        <p:spPr>
          <a:xfrm>
            <a:off x="5868720" y="27432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9"/>
          <p:cNvSpPr/>
          <p:nvPr/>
        </p:nvSpPr>
        <p:spPr>
          <a:xfrm>
            <a:off x="5791320" y="31687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50"/>
          <p:cNvSpPr/>
          <p:nvPr/>
        </p:nvSpPr>
        <p:spPr>
          <a:xfrm>
            <a:off x="5868720" y="3168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51"/>
          <p:cNvSpPr/>
          <p:nvPr/>
        </p:nvSpPr>
        <p:spPr>
          <a:xfrm>
            <a:off x="5486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52"/>
          <p:cNvSpPr/>
          <p:nvPr/>
        </p:nvSpPr>
        <p:spPr>
          <a:xfrm>
            <a:off x="5486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3"/>
          <p:cNvSpPr/>
          <p:nvPr/>
        </p:nvSpPr>
        <p:spPr>
          <a:xfrm>
            <a:off x="5486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54"/>
          <p:cNvSpPr/>
          <p:nvPr/>
        </p:nvSpPr>
        <p:spPr>
          <a:xfrm>
            <a:off x="5486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60" descr=""/>
          <p:cNvPicPr/>
          <p:nvPr/>
        </p:nvPicPr>
        <p:blipFill>
          <a:blip r:embed="rId1"/>
          <a:stretch/>
        </p:blipFill>
        <p:spPr>
          <a:xfrm>
            <a:off x="722160" y="1144440"/>
            <a:ext cx="24084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F0B6-5AAE-480D-8256-F4B2941C40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ich Events Cause a Round Trip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50240" y="1309680"/>
            <a:ext cx="47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Round trip events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cause an immediate round tr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2133720" y="1828800"/>
            <a:ext cx="304560" cy="3049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364480" y="18288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4464720" y="1812960"/>
            <a:ext cx="414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Button Text="click me" Runat="serv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nClick="DoClick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Object 9"/>
          <p:cNvGraphicFramePr/>
          <p:nvPr/>
        </p:nvGraphicFramePr>
        <p:xfrm>
          <a:off x="1066680" y="1803240"/>
          <a:ext cx="102888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03240"/>
                    <a:ext cx="10288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Text Box 10"/>
          <p:cNvSpPr/>
          <p:nvPr/>
        </p:nvSpPr>
        <p:spPr>
          <a:xfrm>
            <a:off x="732240" y="2709720"/>
            <a:ext cx="46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Delayed events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re handled at the next round tr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"/>
          <p:cNvSpPr/>
          <p:nvPr/>
        </p:nvSpPr>
        <p:spPr>
          <a:xfrm>
            <a:off x="2116080" y="3228840"/>
            <a:ext cx="304920" cy="3049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2346120" y="322884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4448160" y="3213000"/>
            <a:ext cx="39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TextBox Runat="serv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nTextChanged="DoTextChanged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Object 15"/>
          <p:cNvGraphicFramePr/>
          <p:nvPr/>
        </p:nvGraphicFramePr>
        <p:xfrm>
          <a:off x="1143000" y="3184560"/>
          <a:ext cx="90180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184560"/>
                    <a:ext cx="901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AutoShape 16"/>
          <p:cNvSpPr/>
          <p:nvPr/>
        </p:nvSpPr>
        <p:spPr>
          <a:xfrm>
            <a:off x="2116080" y="3914640"/>
            <a:ext cx="304920" cy="3049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2347200" y="391464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lectedIndex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4446360" y="3898800"/>
            <a:ext cx="461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ListBox Rows="3" Runat="serv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nSelectedIndexChanged="DoSIChanged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Object 20"/>
          <p:cNvGraphicFramePr/>
          <p:nvPr/>
        </p:nvGraphicFramePr>
        <p:xfrm>
          <a:off x="1143000" y="3857760"/>
          <a:ext cx="9144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57760"/>
                    <a:ext cx="9144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26"/>
          <p:cNvGrpSpPr/>
          <p:nvPr/>
        </p:nvGrpSpPr>
        <p:grpSpPr>
          <a:xfrm>
            <a:off x="740880" y="4843440"/>
            <a:ext cx="7637760" cy="1327320"/>
            <a:chOff x="740880" y="4843440"/>
            <a:chExt cx="7637760" cy="1327320"/>
          </a:xfrm>
        </p:grpSpPr>
        <p:sp>
          <p:nvSpPr>
            <p:cNvPr id="526" name="Text Box 21"/>
            <p:cNvSpPr/>
            <p:nvPr/>
          </p:nvSpPr>
          <p:spPr>
            <a:xfrm>
              <a:off x="740880" y="4843440"/>
              <a:ext cx="659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AutoPostBack</a:t>
              </a:r>
              <a:r>
                <a:rPr b="0" lang="de-A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causes a delayed event to lead to an immediate round tri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22"/>
            <p:cNvSpPr/>
            <p:nvPr/>
          </p:nvSpPr>
          <p:spPr>
            <a:xfrm>
              <a:off x="2119320" y="5362560"/>
              <a:ext cx="304920" cy="30492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3"/>
            <p:cNvSpPr/>
            <p:nvPr/>
          </p:nvSpPr>
          <p:spPr>
            <a:xfrm>
              <a:off x="2349360" y="536256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xt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24"/>
            <p:cNvSpPr/>
            <p:nvPr/>
          </p:nvSpPr>
          <p:spPr>
            <a:xfrm>
              <a:off x="4451040" y="5346720"/>
              <a:ext cx="392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&lt;asp:TextBox Runat="serv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600" spc="-1" strike="noStrike">
                  <a:solidFill>
                    <a:srgbClr val="000000"/>
                  </a:solidFill>
                  <a:latin typeface="Arial"/>
                </a:rPr>
                <a:t>AutoPostBack="tr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OnTextChanged="DoTextChanged"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25"/>
            <p:cNvGraphicFramePr/>
            <p:nvPr/>
          </p:nvGraphicFramePr>
          <p:xfrm>
            <a:off x="1146240" y="5318280"/>
            <a:ext cx="901800" cy="29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1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6240" y="5318280"/>
                      <a:ext cx="90180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1066680" y="279396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9893-4ECA-4AD5-9E8D-A749CEB1B7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b Control Hierarch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697320" y="1411200"/>
            <a:ext cx="2591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Web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aseValid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Check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dio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List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s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ropDown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mage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Cale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Validation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Template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765000"/>
                <a:tab algn="l" pos="113976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4"/>
          <p:cNvSpPr/>
          <p:nvPr/>
        </p:nvSpPr>
        <p:spPr>
          <a:xfrm>
            <a:off x="855720" y="1727280"/>
            <a:ext cx="0" cy="4021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855720" y="5748480"/>
            <a:ext cx="247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855720" y="1828800"/>
            <a:ext cx="247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1247760" y="1959120"/>
            <a:ext cx="0" cy="3295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1247760" y="207504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9"/>
          <p:cNvSpPr/>
          <p:nvPr/>
        </p:nvSpPr>
        <p:spPr>
          <a:xfrm>
            <a:off x="1247760" y="230832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1247760" y="25542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1"/>
          <p:cNvSpPr/>
          <p:nvPr/>
        </p:nvSpPr>
        <p:spPr>
          <a:xfrm>
            <a:off x="1247760" y="32796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2"/>
          <p:cNvSpPr/>
          <p:nvPr/>
        </p:nvSpPr>
        <p:spPr>
          <a:xfrm>
            <a:off x="1247760" y="378792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3"/>
          <p:cNvSpPr/>
          <p:nvPr/>
        </p:nvSpPr>
        <p:spPr>
          <a:xfrm>
            <a:off x="1247760" y="449892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4"/>
          <p:cNvSpPr/>
          <p:nvPr/>
        </p:nvSpPr>
        <p:spPr>
          <a:xfrm>
            <a:off x="1247760" y="500688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5"/>
          <p:cNvSpPr/>
          <p:nvPr/>
        </p:nvSpPr>
        <p:spPr>
          <a:xfrm>
            <a:off x="1247760" y="525456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561E-C6D1-4BB4-A88F-DAA1781771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Contr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660600" y="1255680"/>
            <a:ext cx="4470480" cy="512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Contr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...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Control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Contr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Pag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isi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virtual StateBa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iewSt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nableViewSt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asContro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Contr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ndContr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B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virtual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adViewSt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t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virtual objec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veViewSt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virtua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nd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HtmlTextWriter w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Bind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eRend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Unlo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5106600" y="1251000"/>
            <a:ext cx="40255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of th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ste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closing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ge to which the control belo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ould the control be visib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of this control (see la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ould the state be persist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es the control have nested control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arches for a nested control with the name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s data from a dat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s the state from the request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ves the state to the response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nders the control to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fter the control was cre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fter the state was loaded from the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fter DataBind was ca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efore the control is rendered to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efore the control is rele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F26E-2AC9-4174-90C6-AA090813B8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perties of Class Contr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955800" y="1882800"/>
            <a:ext cx="522000" cy="579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22320" y="15825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347920" y="2043000"/>
            <a:ext cx="479520" cy="44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2259360" y="17272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451320" y="2043000"/>
            <a:ext cx="479160" cy="44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3306240" y="17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is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3459240" y="3030480"/>
            <a:ext cx="479520" cy="44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3315240" y="36003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ist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4227480" y="3030480"/>
            <a:ext cx="479520" cy="44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4083480" y="36003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ist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4997520" y="3030480"/>
            <a:ext cx="479520" cy="44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4881960" y="36003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ist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4467240" y="2043000"/>
            <a:ext cx="479520" cy="44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4322160" y="17272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7"/>
          <p:cNvSpPr/>
          <p:nvPr/>
        </p:nvSpPr>
        <p:spPr>
          <a:xfrm>
            <a:off x="1476360" y="2101680"/>
            <a:ext cx="871560" cy="0"/>
          </a:xfrm>
          <a:prstGeom prst="line">
            <a:avLst/>
          </a:prstGeom>
          <a:ln w="64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515600" y="17971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9"/>
          <p:cNvSpPr/>
          <p:nvPr/>
        </p:nvSpPr>
        <p:spPr>
          <a:xfrm>
            <a:off x="3683160" y="2492280"/>
            <a:ext cx="0" cy="538200"/>
          </a:xfrm>
          <a:prstGeom prst="line">
            <a:avLst/>
          </a:prstGeom>
          <a:ln w="64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2900160" y="267660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1"/>
          <p:cNvSpPr/>
          <p:nvPr/>
        </p:nvSpPr>
        <p:spPr>
          <a:xfrm>
            <a:off x="2827440" y="2347920"/>
            <a:ext cx="623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3930480" y="2376360"/>
            <a:ext cx="536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39"/>
          <p:cNvGrpSpPr/>
          <p:nvPr/>
        </p:nvGrpSpPr>
        <p:grpSpPr>
          <a:xfrm>
            <a:off x="3813120" y="2478240"/>
            <a:ext cx="1622880" cy="552240"/>
            <a:chOff x="3813120" y="2478240"/>
            <a:chExt cx="1622880" cy="552240"/>
          </a:xfrm>
        </p:grpSpPr>
        <p:sp>
          <p:nvSpPr>
            <p:cNvPr id="576" name="Line 23"/>
            <p:cNvSpPr/>
            <p:nvPr/>
          </p:nvSpPr>
          <p:spPr>
            <a:xfrm flipV="1">
              <a:off x="3813120" y="2491920"/>
              <a:ext cx="0" cy="538200"/>
            </a:xfrm>
            <a:prstGeom prst="line">
              <a:avLst/>
            </a:prstGeom>
            <a:ln w="64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4"/>
            <p:cNvSpPr/>
            <p:nvPr/>
          </p:nvSpPr>
          <p:spPr>
            <a:xfrm flipH="1" flipV="1">
              <a:off x="3857400" y="2491920"/>
              <a:ext cx="609480" cy="538200"/>
            </a:xfrm>
            <a:prstGeom prst="line">
              <a:avLst/>
            </a:prstGeom>
            <a:ln w="64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5"/>
            <p:cNvSpPr/>
            <p:nvPr/>
          </p:nvSpPr>
          <p:spPr>
            <a:xfrm flipH="1" flipV="1">
              <a:off x="3930120" y="2478240"/>
              <a:ext cx="1320840" cy="552240"/>
            </a:xfrm>
            <a:prstGeom prst="line">
              <a:avLst/>
            </a:prstGeom>
            <a:ln w="64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6"/>
            <p:cNvSpPr/>
            <p:nvPr/>
          </p:nvSpPr>
          <p:spPr>
            <a:xfrm>
              <a:off x="4729320" y="258120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Pa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Line 27"/>
          <p:cNvSpPr/>
          <p:nvPr/>
        </p:nvSpPr>
        <p:spPr>
          <a:xfrm>
            <a:off x="3944880" y="334980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8"/>
          <p:cNvSpPr/>
          <p:nvPr/>
        </p:nvSpPr>
        <p:spPr>
          <a:xfrm>
            <a:off x="4714920" y="334980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5"/>
          <p:cNvSpPr/>
          <p:nvPr/>
        </p:nvSpPr>
        <p:spPr>
          <a:xfrm>
            <a:off x="663480" y="12286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ainment 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41"/>
          <p:cNvGrpSpPr/>
          <p:nvPr/>
        </p:nvGrpSpPr>
        <p:grpSpPr>
          <a:xfrm>
            <a:off x="663480" y="4248000"/>
            <a:ext cx="6163920" cy="2400480"/>
            <a:chOff x="663480" y="4248000"/>
            <a:chExt cx="6163920" cy="2400480"/>
          </a:xfrm>
        </p:grpSpPr>
        <p:sp>
          <p:nvSpPr>
            <p:cNvPr id="584" name="Text Box 36"/>
            <p:cNvSpPr/>
            <p:nvPr/>
          </p:nvSpPr>
          <p:spPr>
            <a:xfrm>
              <a:off x="663480" y="4248000"/>
              <a:ext cx="117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View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37"/>
            <p:cNvSpPr/>
            <p:nvPr/>
          </p:nvSpPr>
          <p:spPr>
            <a:xfrm>
              <a:off x="918360" y="4789440"/>
              <a:ext cx="590904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uttonCli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object Button, EventArgs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clicks = </a:t>
              </a:r>
              <a:r>
                <a:rPr b="0" lang="de-AT" sz="1400" spc="-1" strike="noStrike">
                  <a:solidFill>
                    <a:srgbClr val="ff3300"/>
                  </a:solidFill>
                  <a:latin typeface="Arial"/>
                </a:rPr>
                <a:t>ViewState["nClicks"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= null ? 0 : (int) ViewState["nClicks"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iewState["nClicks"] = ++click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38"/>
            <p:cNvSpPr/>
            <p:nvPr/>
          </p:nvSpPr>
          <p:spPr>
            <a:xfrm>
              <a:off x="873720" y="5824440"/>
              <a:ext cx="5896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grammers can store arbitrary data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iew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iewStat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stored in a hidden field of the HTML 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here is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iewStat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ag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iewStat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utt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protec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49"/>
          <p:cNvGrpSpPr/>
          <p:nvPr/>
        </p:nvGrpSpPr>
        <p:grpSpPr>
          <a:xfrm>
            <a:off x="1157400" y="2463840"/>
            <a:ext cx="4093920" cy="1135800"/>
            <a:chOff x="1157400" y="2463840"/>
            <a:chExt cx="4093920" cy="1135800"/>
          </a:xfrm>
        </p:grpSpPr>
        <p:sp>
          <p:nvSpPr>
            <p:cNvPr id="588" name="Line 29"/>
            <p:cNvSpPr/>
            <p:nvPr/>
          </p:nvSpPr>
          <p:spPr>
            <a:xfrm>
              <a:off x="3697200" y="3479760"/>
              <a:ext cx="0" cy="10152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30"/>
            <p:cNvSpPr/>
            <p:nvPr/>
          </p:nvSpPr>
          <p:spPr>
            <a:xfrm>
              <a:off x="4495680" y="3479760"/>
              <a:ext cx="0" cy="10152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31"/>
            <p:cNvSpPr/>
            <p:nvPr/>
          </p:nvSpPr>
          <p:spPr>
            <a:xfrm>
              <a:off x="5251320" y="3479760"/>
              <a:ext cx="0" cy="10152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32"/>
            <p:cNvSpPr/>
            <p:nvPr/>
          </p:nvSpPr>
          <p:spPr>
            <a:xfrm flipH="1">
              <a:off x="1157400" y="3581280"/>
              <a:ext cx="409392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33"/>
            <p:cNvSpPr/>
            <p:nvPr/>
          </p:nvSpPr>
          <p:spPr>
            <a:xfrm flipV="1">
              <a:off x="1157400" y="2463840"/>
              <a:ext cx="0" cy="1117440"/>
            </a:xfrm>
            <a:prstGeom prst="line">
              <a:avLst/>
            </a:prstGeom>
            <a:ln w="64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34"/>
            <p:cNvSpPr/>
            <p:nvPr/>
          </p:nvSpPr>
          <p:spPr>
            <a:xfrm>
              <a:off x="2029680" y="329256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9900"/>
                  </a:solidFill>
                  <a:latin typeface="Arial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2"/>
            <p:cNvSpPr/>
            <p:nvPr/>
          </p:nvSpPr>
          <p:spPr>
            <a:xfrm>
              <a:off x="2444760" y="2495520"/>
              <a:ext cx="0" cy="10800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3"/>
            <p:cNvSpPr/>
            <p:nvPr/>
          </p:nvSpPr>
          <p:spPr>
            <a:xfrm>
              <a:off x="3568680" y="2495520"/>
              <a:ext cx="0" cy="10800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44"/>
            <p:cNvSpPr/>
            <p:nvPr/>
          </p:nvSpPr>
          <p:spPr>
            <a:xfrm>
              <a:off x="4603680" y="2495520"/>
              <a:ext cx="0" cy="10800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45"/>
            <p:cNvSpPr/>
            <p:nvPr/>
          </p:nvSpPr>
          <p:spPr>
            <a:xfrm flipH="1">
              <a:off x="1314000" y="2603520"/>
              <a:ext cx="3289320" cy="0"/>
            </a:xfrm>
            <a:prstGeom prst="line">
              <a:avLst/>
            </a:prstGeom>
            <a:ln w="6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6"/>
            <p:cNvSpPr/>
            <p:nvPr/>
          </p:nvSpPr>
          <p:spPr>
            <a:xfrm flipV="1">
              <a:off x="1314360" y="2463840"/>
              <a:ext cx="0" cy="139680"/>
            </a:xfrm>
            <a:prstGeom prst="line">
              <a:avLst/>
            </a:prstGeom>
            <a:ln w="64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47"/>
            <p:cNvSpPr/>
            <p:nvPr/>
          </p:nvSpPr>
          <p:spPr>
            <a:xfrm>
              <a:off x="2029680" y="25621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9900"/>
                  </a:solidFill>
                  <a:latin typeface="Arial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867D-C6EF-4462-B0CC-F37A8A40D3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WebContr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662040" y="1255680"/>
            <a:ext cx="431352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WebContr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Uni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Uni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FontInfo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Colo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reCol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Colo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ackCol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Uni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rderWid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Colo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rderCol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rder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rder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nabl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hor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bInde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olTi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Group 20"/>
          <p:cNvGrpSpPr/>
          <p:nvPr/>
        </p:nvGrpSpPr>
        <p:grpSpPr>
          <a:xfrm>
            <a:off x="5107680" y="1139760"/>
            <a:ext cx="4061880" cy="4662000"/>
            <a:chOff x="5107680" y="1139760"/>
            <a:chExt cx="4061880" cy="4662000"/>
          </a:xfrm>
        </p:grpSpPr>
        <p:sp>
          <p:nvSpPr>
            <p:cNvPr id="604" name="Text Box 4"/>
            <p:cNvSpPr/>
            <p:nvPr/>
          </p:nvSpPr>
          <p:spPr>
            <a:xfrm>
              <a:off x="5180040" y="1509840"/>
              <a:ext cx="3664440" cy="201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ruct </a:t>
              </a:r>
              <a:r>
                <a:rPr b="1" lang="de-AT" sz="1400" spc="-1" strike="noStrike">
                  <a:solidFill>
                    <a:srgbClr val="ff5050"/>
                  </a:solidFill>
                  <a:latin typeface="Arial"/>
                </a:rPr>
                <a:t>U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double value, UnitType typ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double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get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UnitType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get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enum </a:t>
              </a:r>
              <a:r>
                <a:rPr b="1" lang="de-AT" sz="1400" spc="-1" strike="noStrike">
                  <a:solidFill>
                    <a:srgbClr val="ff5050"/>
                  </a:solidFill>
                  <a:latin typeface="Arial"/>
                </a:rPr>
                <a:t>Unit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Cm, Em, Ex, Inch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m, Percentage, Pica, Pixel,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5"/>
            <p:cNvSpPr/>
            <p:nvPr/>
          </p:nvSpPr>
          <p:spPr>
            <a:xfrm>
              <a:off x="5107680" y="1139760"/>
              <a:ext cx="23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nits of Meas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5152680" y="3691080"/>
              <a:ext cx="28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etting properties in a web pag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7"/>
            <p:cNvSpPr/>
            <p:nvPr/>
          </p:nvSpPr>
          <p:spPr>
            <a:xfrm>
              <a:off x="5322600" y="4052880"/>
              <a:ext cx="346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ID="tb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idth="100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ID="tb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idth="10cm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8"/>
            <p:cNvSpPr/>
            <p:nvPr/>
          </p:nvSpPr>
          <p:spPr>
            <a:xfrm>
              <a:off x="7900560" y="3660840"/>
              <a:ext cx="126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default: Pix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7872480" y="3948120"/>
              <a:ext cx="87120" cy="14436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10"/>
            <p:cNvSpPr/>
            <p:nvPr/>
          </p:nvSpPr>
          <p:spPr>
            <a:xfrm>
              <a:off x="5155200" y="4919760"/>
              <a:ext cx="31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etting properties in the script co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325840" y="5281560"/>
              <a:ext cx="324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b.Width = 100;  // default: Pix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b.Width = new Unit(10, UnitType.C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9"/>
          <p:cNvGrpSpPr/>
          <p:nvPr/>
        </p:nvGrpSpPr>
        <p:grpSpPr>
          <a:xfrm>
            <a:off x="595440" y="4473720"/>
            <a:ext cx="7812000" cy="2006280"/>
            <a:chOff x="595440" y="4473720"/>
            <a:chExt cx="7812000" cy="2006280"/>
          </a:xfrm>
        </p:grpSpPr>
        <p:sp>
          <p:nvSpPr>
            <p:cNvPr id="613" name="Text Box 12"/>
            <p:cNvSpPr/>
            <p:nvPr/>
          </p:nvSpPr>
          <p:spPr>
            <a:xfrm>
              <a:off x="595440" y="450684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l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3"/>
            <p:cNvSpPr/>
            <p:nvPr/>
          </p:nvSpPr>
          <p:spPr>
            <a:xfrm>
              <a:off x="663840" y="4894200"/>
              <a:ext cx="421308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ruct </a:t>
              </a:r>
              <a:r>
                <a:rPr b="1" lang="de-AT" sz="1400" spc="-1" strike="noStrike">
                  <a:solidFill>
                    <a:srgbClr val="ff5050"/>
                  </a:solidFill>
                  <a:latin typeface="Arial"/>
                </a:rPr>
                <a:t>Col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Colo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lu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get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Colo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get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Colo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get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Colo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romArg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R, int B, int 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4"/>
            <p:cNvSpPr/>
            <p:nvPr/>
          </p:nvSpPr>
          <p:spPr>
            <a:xfrm>
              <a:off x="5329440" y="5692680"/>
              <a:ext cx="222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b.ForeColor = Color.Re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15"/>
            <p:cNvSpPr/>
            <p:nvPr/>
          </p:nvSpPr>
          <p:spPr>
            <a:xfrm>
              <a:off x="5324760" y="4511520"/>
              <a:ext cx="30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ForeColor="Red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1903320" y="4473720"/>
              <a:ext cx="25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namespace: System.Dra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7"/>
            <p:cNvSpPr/>
            <p:nvPr/>
          </p:nvSpPr>
          <p:spPr>
            <a:xfrm flipH="1">
              <a:off x="2045880" y="4775040"/>
              <a:ext cx="87480" cy="20340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12A-05A2-4BBB-8792-278860725E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bControl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Fonts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694080" y="13176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727200" y="1800360"/>
            <a:ext cx="3335400" cy="371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ealed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FontInfo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FontUni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Under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uct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FontU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ntU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Unit siz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ntU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FontSize siz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Uni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U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FontSiz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FontSiz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AsUnit, XSmal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mall, Medium, Large, XLarge,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4455720" y="180324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tting the font in a web pa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4455000" y="2208240"/>
            <a:ext cx="35362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Button ID="b1"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Font-Name="Arial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Font-Size="Large" Font-Bold=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Button ID="b2"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Font-Name="Time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Font-Size="12px" Font-Italic=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4458240" y="347328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tting the font in the script c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4454280" y="3878280"/>
            <a:ext cx="381708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1.Font.Name = "Arial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1.Font.Size = new FontUnit(FontSize.Larg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1.Font.Bold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2.Font.Name = "Times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2.Font.Size = new FontUnit(1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2.Font.Italic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3A93-CED1-4E09-888F-A4D323871A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0" y="19810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62120" y="1905120"/>
            <a:ext cx="3657600" cy="198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atic Web P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ure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title&gt;Simple HTML page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1&gt;Welcome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ou are visitor number 1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691880" y="21337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7467480" y="19810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669080" y="205740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"/>
          <p:cNvSpPr/>
          <p:nvPr/>
        </p:nvSpPr>
        <p:spPr>
          <a:xfrm flipH="1" rot="10800000">
            <a:off x="7620120" y="3047760"/>
            <a:ext cx="838080" cy="990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715000" y="2209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788800" y="1905120"/>
            <a:ext cx="164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equest("My.html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5715000" y="2438280"/>
            <a:ext cx="1752480" cy="0"/>
          </a:xfrm>
          <a:prstGeom prst="line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788440" y="24382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esponse(My.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8077320" y="26665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7619760" y="320040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M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584160" y="160020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y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9" descr=""/>
          <p:cNvPicPr/>
          <p:nvPr/>
        </p:nvPicPr>
        <p:blipFill>
          <a:blip r:embed="rId1"/>
          <a:stretch/>
        </p:blipFill>
        <p:spPr>
          <a:xfrm>
            <a:off x="779400" y="4249800"/>
            <a:ext cx="34765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2637-B1A5-4230-8DE8-9F09AFDF05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bControl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Other Properties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693000" y="12319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Border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727920" y="1727280"/>
            <a:ext cx="283068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Border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otSet, None, Dotted, Dashe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olid, Double, Groove, Ridg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set, Out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4343400" y="1496880"/>
            <a:ext cx="2400480" cy="1400400"/>
          </a:xfrm>
          <a:prstGeom prst="rect">
            <a:avLst/>
          </a:prstGeom>
          <a:ln w="0">
            <a:noFill/>
          </a:ln>
        </p:spPr>
      </p:pic>
      <p:grpSp>
        <p:nvGrpSpPr>
          <p:cNvPr id="632" name="Group 22"/>
          <p:cNvGrpSpPr/>
          <p:nvPr/>
        </p:nvGrpSpPr>
        <p:grpSpPr>
          <a:xfrm>
            <a:off x="694080" y="3263760"/>
            <a:ext cx="7529760" cy="833400"/>
            <a:chOff x="694080" y="3263760"/>
            <a:chExt cx="7529760" cy="833400"/>
          </a:xfrm>
        </p:grpSpPr>
        <p:sp>
          <p:nvSpPr>
            <p:cNvPr id="633" name="Text Box 6"/>
            <p:cNvSpPr/>
            <p:nvPr/>
          </p:nvSpPr>
          <p:spPr>
            <a:xfrm>
              <a:off x="694080" y="32637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n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7"/>
            <p:cNvSpPr/>
            <p:nvPr/>
          </p:nvSpPr>
          <p:spPr>
            <a:xfrm>
              <a:off x="696600" y="3733920"/>
              <a:ext cx="285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Button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nabled="fals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5" name="Picture 8" descr=""/>
            <p:cNvPicPr/>
            <p:nvPr/>
          </p:nvPicPr>
          <p:blipFill>
            <a:blip r:embed="rId2"/>
            <a:stretch/>
          </p:blipFill>
          <p:spPr>
            <a:xfrm>
              <a:off x="4305240" y="3724200"/>
              <a:ext cx="16192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9"/>
            <p:cNvSpPr/>
            <p:nvPr/>
          </p:nvSpPr>
          <p:spPr>
            <a:xfrm>
              <a:off x="6400080" y="3516480"/>
              <a:ext cx="182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isplays the contro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ut deactivates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3"/>
          <p:cNvGrpSpPr/>
          <p:nvPr/>
        </p:nvGrpSpPr>
        <p:grpSpPr>
          <a:xfrm>
            <a:off x="694440" y="4465800"/>
            <a:ext cx="8120520" cy="1494360"/>
            <a:chOff x="694440" y="4465800"/>
            <a:chExt cx="8120520" cy="1494360"/>
          </a:xfrm>
        </p:grpSpPr>
        <p:sp>
          <p:nvSpPr>
            <p:cNvPr id="638" name="Text Box 10"/>
            <p:cNvSpPr/>
            <p:nvPr/>
          </p:nvSpPr>
          <p:spPr>
            <a:xfrm>
              <a:off x="694440" y="44658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ab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1"/>
            <p:cNvSpPr/>
            <p:nvPr/>
          </p:nvSpPr>
          <p:spPr>
            <a:xfrm>
              <a:off x="696240" y="4935600"/>
              <a:ext cx="280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abIndex="3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abIndex="2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abIndex="1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0" name="Picture 12" descr=""/>
            <p:cNvPicPr/>
            <p:nvPr/>
          </p:nvPicPr>
          <p:blipFill>
            <a:blip r:embed="rId3"/>
            <a:stretch/>
          </p:blipFill>
          <p:spPr>
            <a:xfrm>
              <a:off x="4319640" y="4971960"/>
              <a:ext cx="2362320" cy="257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41" name="AutoShape 17"/>
            <p:cNvCxnSpPr/>
            <p:nvPr/>
          </p:nvCxnSpPr>
          <p:spPr>
            <a:xfrm rot="5400000">
              <a:off x="5965920" y="4803120"/>
              <a:ext cx="2160" cy="784800"/>
            </a:xfrm>
            <a:prstGeom prst="curvedConnector5">
              <a:avLst>
                <a:gd name="adj1" fmla="val 14400000"/>
                <a:gd name="adj2" fmla="val 49977"/>
                <a:gd name="adj3" fmla="val 1440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2" name="AutoShape 18"/>
            <p:cNvCxnSpPr/>
            <p:nvPr/>
          </p:nvCxnSpPr>
          <p:spPr>
            <a:xfrm rot="5400000">
              <a:off x="5065920" y="4803120"/>
              <a:ext cx="2160" cy="784800"/>
            </a:xfrm>
            <a:prstGeom prst="curvedConnector5">
              <a:avLst>
                <a:gd name="adj1" fmla="val 14400000"/>
                <a:gd name="adj2" fmla="val 49977"/>
                <a:gd name="adj3" fmla="val 14400000"/>
              </a:avLst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3" name="Text Box 19"/>
            <p:cNvSpPr/>
            <p:nvPr/>
          </p:nvSpPr>
          <p:spPr>
            <a:xfrm>
              <a:off x="5759280" y="53910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20"/>
            <p:cNvSpPr/>
            <p:nvPr/>
          </p:nvSpPr>
          <p:spPr>
            <a:xfrm>
              <a:off x="4814640" y="53910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21"/>
            <p:cNvSpPr/>
            <p:nvPr/>
          </p:nvSpPr>
          <p:spPr>
            <a:xfrm>
              <a:off x="6834240" y="4892760"/>
              <a:ext cx="198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quence in which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rols are visi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n the TAB key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837D-1BE2-470E-8025-37331782BA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But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757080" y="1263600"/>
            <a:ext cx="4241880" cy="222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Web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mmand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mmandArgu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ausesValida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Command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4687920" y="1989000"/>
            <a:ext cx="115920" cy="362160"/>
          </a:xfrm>
          <a:custGeom>
            <a:avLst/>
            <a:gdLst>
              <a:gd name="textAreaLeft" fmla="*/ 0 w 115920"/>
              <a:gd name="textAreaRight" fmla="*/ 41760 w 115920"/>
              <a:gd name="textAreaTop" fmla="*/ 9360 h 362160"/>
              <a:gd name="textAreaBottom" fmla="*/ 35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21"/>
          <p:cNvGrpSpPr/>
          <p:nvPr/>
        </p:nvGrpSpPr>
        <p:grpSpPr>
          <a:xfrm>
            <a:off x="747000" y="3832200"/>
            <a:ext cx="8229960" cy="2117880"/>
            <a:chOff x="747000" y="3832200"/>
            <a:chExt cx="8229960" cy="2117880"/>
          </a:xfrm>
        </p:grpSpPr>
        <p:sp>
          <p:nvSpPr>
            <p:cNvPr id="651" name="Text Box 9"/>
            <p:cNvSpPr/>
            <p:nvPr/>
          </p:nvSpPr>
          <p:spPr>
            <a:xfrm>
              <a:off x="763560" y="5195880"/>
              <a:ext cx="536724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oCli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object sender, EventArgs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577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10"/>
            <p:cNvSpPr/>
            <p:nvPr/>
          </p:nvSpPr>
          <p:spPr>
            <a:xfrm>
              <a:off x="747000" y="3832200"/>
              <a:ext cx="53942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Button Text="click me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nClick="DoClick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3" name="Picture 12" descr=""/>
            <p:cNvPicPr/>
            <p:nvPr/>
          </p:nvPicPr>
          <p:blipFill>
            <a:blip r:embed="rId1"/>
            <a:stretch/>
          </p:blipFill>
          <p:spPr>
            <a:xfrm>
              <a:off x="847800" y="4373640"/>
              <a:ext cx="80496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Line 13"/>
            <p:cNvSpPr/>
            <p:nvPr/>
          </p:nvSpPr>
          <p:spPr>
            <a:xfrm flipH="1">
              <a:off x="2293560" y="4137120"/>
              <a:ext cx="1406520" cy="985680"/>
            </a:xfrm>
            <a:prstGeom prst="line">
              <a:avLst/>
            </a:prstGeom>
            <a:ln w="64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14"/>
            <p:cNvSpPr/>
            <p:nvPr/>
          </p:nvSpPr>
          <p:spPr>
            <a:xfrm>
              <a:off x="6170760" y="5126040"/>
              <a:ext cx="2806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delegate Event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ither in the code beh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r in &lt;script&gt; tags of the 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Text Box 15"/>
          <p:cNvSpPr/>
          <p:nvPr/>
        </p:nvSpPr>
        <p:spPr>
          <a:xfrm>
            <a:off x="5310360" y="152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ption of the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6"/>
          <p:cNvSpPr/>
          <p:nvPr/>
        </p:nvSpPr>
        <p:spPr>
          <a:xfrm>
            <a:off x="5311440" y="1803240"/>
            <a:ext cx="163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handling</a:t>
            </a:r>
            <a:br>
              <a:rPr sz="1600"/>
            </a:b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v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7"/>
          <p:cNvSpPr/>
          <p:nvPr/>
        </p:nvSpPr>
        <p:spPr>
          <a:xfrm>
            <a:off x="5311440" y="2327400"/>
            <a:ext cx="298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uld the validators ru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ge is sent to the serv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fault =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8"/>
          <p:cNvSpPr/>
          <p:nvPr/>
        </p:nvSpPr>
        <p:spPr>
          <a:xfrm flipH="1">
            <a:off x="4383000" y="2496960"/>
            <a:ext cx="914400" cy="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9"/>
          <p:cNvSpPr/>
          <p:nvPr/>
        </p:nvSpPr>
        <p:spPr>
          <a:xfrm flipH="1">
            <a:off x="4848120" y="2176560"/>
            <a:ext cx="449280" cy="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0"/>
          <p:cNvSpPr/>
          <p:nvPr/>
        </p:nvSpPr>
        <p:spPr>
          <a:xfrm flipH="1">
            <a:off x="3497400" y="1712880"/>
            <a:ext cx="1800000" cy="10152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7FF-FD93-4F49-93E0-FBC393A232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Button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mmand Event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688320" y="1251000"/>
            <a:ext cx="67719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ful is multiple buttons on a page should be handled by the same even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735120" y="2122560"/>
            <a:ext cx="537192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label" Text="100.00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ext="+ 10%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mand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"add"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mandArgu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"0.1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OnCommand="DoComman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ext="- 5%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mand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"sub"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mandArgu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"0.05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OnCommand="DoComman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720720" y="4638600"/>
            <a:ext cx="5426280" cy="17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DoComma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Command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uble total = Convert.ToDouble(label.Tex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e.CommandName == "add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tal += total * Convert.ToDouble(e.CommandArgum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e.CommandName == "sub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tal -= total * Convert.ToDouble(e.CommandArgum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el.Text = total.ToString("f2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8" descr=""/>
          <p:cNvPicPr/>
          <p:nvPr/>
        </p:nvPicPr>
        <p:blipFill>
          <a:blip r:embed="rId1"/>
          <a:stretch/>
        </p:blipFill>
        <p:spPr>
          <a:xfrm>
            <a:off x="6539040" y="2147760"/>
            <a:ext cx="17809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B032-57FC-40C9-8AC5-7B82E05597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TextBox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750600" y="1263600"/>
            <a:ext cx="429984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Tex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Web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extBoxMod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M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xLeng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um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Wra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adOnl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utoPostB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Chang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5347440" y="1282680"/>
            <a:ext cx="28976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TextBoxM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tiLine, Password, Singl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24"/>
          <p:cNvGrpSpPr/>
          <p:nvPr/>
        </p:nvGrpSpPr>
        <p:grpSpPr>
          <a:xfrm>
            <a:off x="766800" y="4373640"/>
            <a:ext cx="7585200" cy="307080"/>
            <a:chOff x="766800" y="4373640"/>
            <a:chExt cx="7585200" cy="307080"/>
          </a:xfrm>
        </p:grpSpPr>
        <p:sp>
          <p:nvSpPr>
            <p:cNvPr id="673" name="Text Box 14"/>
            <p:cNvSpPr/>
            <p:nvPr/>
          </p:nvSpPr>
          <p:spPr>
            <a:xfrm>
              <a:off x="766800" y="4373640"/>
              <a:ext cx="59310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ext="samp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4" name="Picture 15" descr=""/>
            <p:cNvPicPr/>
            <p:nvPr/>
          </p:nvPicPr>
          <p:blipFill>
            <a:blip r:embed="rId1"/>
            <a:stretch/>
          </p:blipFill>
          <p:spPr>
            <a:xfrm>
              <a:off x="6856560" y="4387680"/>
              <a:ext cx="149544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Group 25"/>
          <p:cNvGrpSpPr/>
          <p:nvPr/>
        </p:nvGrpSpPr>
        <p:grpSpPr>
          <a:xfrm>
            <a:off x="747720" y="4851360"/>
            <a:ext cx="7604280" cy="307080"/>
            <a:chOff x="747720" y="4851360"/>
            <a:chExt cx="7604280" cy="307080"/>
          </a:xfrm>
        </p:grpSpPr>
        <p:sp>
          <p:nvSpPr>
            <p:cNvPr id="676" name="Text Box 16"/>
            <p:cNvSpPr/>
            <p:nvPr/>
          </p:nvSpPr>
          <p:spPr>
            <a:xfrm>
              <a:off x="747720" y="4851360"/>
              <a:ext cx="59565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extMode="Password" MaxLength="10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7" name="Picture 17" descr=""/>
            <p:cNvPicPr/>
            <p:nvPr/>
          </p:nvPicPr>
          <p:blipFill>
            <a:blip r:embed="rId2"/>
            <a:stretch/>
          </p:blipFill>
          <p:spPr>
            <a:xfrm>
              <a:off x="6856560" y="4853160"/>
              <a:ext cx="149544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8" name="Group 26"/>
          <p:cNvGrpSpPr/>
          <p:nvPr/>
        </p:nvGrpSpPr>
        <p:grpSpPr>
          <a:xfrm>
            <a:off x="766800" y="5286240"/>
            <a:ext cx="7480440" cy="1372680"/>
            <a:chOff x="766800" y="5286240"/>
            <a:chExt cx="7480440" cy="1372680"/>
          </a:xfrm>
        </p:grpSpPr>
        <p:sp>
          <p:nvSpPr>
            <p:cNvPr id="679" name="Text Box 18"/>
            <p:cNvSpPr/>
            <p:nvPr/>
          </p:nvSpPr>
          <p:spPr>
            <a:xfrm>
              <a:off x="766800" y="5286240"/>
              <a:ext cx="590688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TextBox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extMode="MultiLine"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Rows="2" Columns="15" Wrap="tru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in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in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in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asp:TextBo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0" name="Picture 19" descr=""/>
            <p:cNvPicPr/>
            <p:nvPr/>
          </p:nvPicPr>
          <p:blipFill>
            <a:blip r:embed="rId3"/>
            <a:stretch/>
          </p:blipFill>
          <p:spPr>
            <a:xfrm>
              <a:off x="6875640" y="5381640"/>
              <a:ext cx="137160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Text Box 20"/>
          <p:cNvSpPr/>
          <p:nvPr/>
        </p:nvSpPr>
        <p:spPr>
          <a:xfrm>
            <a:off x="5296680" y="2965320"/>
            <a:ext cx="25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ue: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xtChang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auses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mmediate round tr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1"/>
          <p:cNvSpPr/>
          <p:nvPr/>
        </p:nvSpPr>
        <p:spPr>
          <a:xfrm>
            <a:off x="5297760" y="3544920"/>
            <a:ext cx="350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ised when the RETURN key is p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 when the cursor leaves the Text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2"/>
          <p:cNvSpPr/>
          <p:nvPr/>
        </p:nvSpPr>
        <p:spPr>
          <a:xfrm flipH="1">
            <a:off x="4427640" y="3759120"/>
            <a:ext cx="782640" cy="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3"/>
          <p:cNvSpPr/>
          <p:nvPr/>
        </p:nvSpPr>
        <p:spPr>
          <a:xfrm flipH="1">
            <a:off x="4600440" y="3324240"/>
            <a:ext cx="609840" cy="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5CEA-A682-41C7-9440-4586B498BA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CheckBox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756360" y="1263600"/>
            <a:ext cx="4053240" cy="201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Check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Web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extAlig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Alig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utoPostB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edChang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5348160" y="1282680"/>
            <a:ext cx="21132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TextAlig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ft, 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5296680" y="268920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ised whe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eck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6"/>
          <p:cNvSpPr/>
          <p:nvPr/>
        </p:nvSpPr>
        <p:spPr>
          <a:xfrm flipH="1">
            <a:off x="4762440" y="2903400"/>
            <a:ext cx="447840" cy="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20"/>
          <p:cNvGrpSpPr/>
          <p:nvPr/>
        </p:nvGrpSpPr>
        <p:grpSpPr>
          <a:xfrm>
            <a:off x="747000" y="3565440"/>
            <a:ext cx="8124120" cy="3082320"/>
            <a:chOff x="747000" y="3565440"/>
            <a:chExt cx="8124120" cy="3082320"/>
          </a:xfrm>
        </p:grpSpPr>
        <p:sp>
          <p:nvSpPr>
            <p:cNvPr id="692" name="Text Box 18"/>
            <p:cNvSpPr/>
            <p:nvPr/>
          </p:nvSpPr>
          <p:spPr>
            <a:xfrm>
              <a:off x="747000" y="3570120"/>
              <a:ext cx="6080400" cy="30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orm Runat="server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heckBo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="apples" Text="Apples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heckBo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="pears" Text="Pears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heckBo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="bananas" Text="Bananas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utt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9900"/>
                  </a:solidFill>
                  <a:latin typeface="Arial"/>
                </a:rPr>
                <a:t>Text="Buy" OnClick="DoClick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 &lt;br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9900"/>
                  </a:solidFill>
                  <a:latin typeface="Arial"/>
                </a:rPr>
                <a:t>ID="label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fo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oCli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object sender, EventArgs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.Text = "You bought: "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apples.Checked) label.Text += "Apples "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pears.Checked) label.Text += "Pears "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bananas.Checked) label.Text += "Bananas "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3" name="Picture 19" descr=""/>
            <p:cNvPicPr/>
            <p:nvPr/>
          </p:nvPicPr>
          <p:blipFill>
            <a:blip r:embed="rId1"/>
            <a:stretch/>
          </p:blipFill>
          <p:spPr>
            <a:xfrm>
              <a:off x="6889680" y="3565440"/>
              <a:ext cx="1981440" cy="196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4" name="Picture 21" descr=""/>
          <p:cNvPicPr/>
          <p:nvPr/>
        </p:nvPicPr>
        <p:blipFill>
          <a:blip r:embed="rId2"/>
          <a:stretch/>
        </p:blipFill>
        <p:spPr>
          <a:xfrm>
            <a:off x="5457960" y="2190600"/>
            <a:ext cx="371520" cy="190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2" descr=""/>
          <p:cNvPicPr/>
          <p:nvPr/>
        </p:nvPicPr>
        <p:blipFill>
          <a:blip r:embed="rId3"/>
          <a:stretch/>
        </p:blipFill>
        <p:spPr>
          <a:xfrm>
            <a:off x="6103800" y="2225520"/>
            <a:ext cx="419400" cy="171720"/>
          </a:xfrm>
          <a:prstGeom prst="rect">
            <a:avLst/>
          </a:prstGeom>
          <a:ln w="0">
            <a:noFill/>
          </a:ln>
        </p:spPr>
      </p:pic>
      <p:sp>
        <p:nvSpPr>
          <p:cNvPr id="696" name="Line 23"/>
          <p:cNvSpPr/>
          <p:nvPr/>
        </p:nvSpPr>
        <p:spPr>
          <a:xfrm flipV="1">
            <a:off x="5689440" y="1770120"/>
            <a:ext cx="73080" cy="33480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24"/>
          <p:cNvSpPr/>
          <p:nvPr/>
        </p:nvSpPr>
        <p:spPr>
          <a:xfrm flipH="1" flipV="1">
            <a:off x="6197760" y="1800000"/>
            <a:ext cx="87120" cy="34740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CD75-244B-43B6-8A3B-EA51AA991F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RadioBut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752400" y="1263600"/>
            <a:ext cx="38260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Radio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heck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Group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0"/>
          <p:cNvSpPr/>
          <p:nvPr/>
        </p:nvSpPr>
        <p:spPr>
          <a:xfrm>
            <a:off x="5008680" y="130968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radio buttons of the sam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have the same group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12"/>
          <p:cNvGrpSpPr/>
          <p:nvPr/>
        </p:nvGrpSpPr>
        <p:grpSpPr>
          <a:xfrm>
            <a:off x="746280" y="2216160"/>
            <a:ext cx="8053200" cy="4367520"/>
            <a:chOff x="746280" y="2216160"/>
            <a:chExt cx="8053200" cy="4367520"/>
          </a:xfrm>
        </p:grpSpPr>
        <p:sp>
          <p:nvSpPr>
            <p:cNvPr id="703" name="Text Box 8"/>
            <p:cNvSpPr/>
            <p:nvPr/>
          </p:nvSpPr>
          <p:spPr>
            <a:xfrm>
              <a:off x="746280" y="2227320"/>
              <a:ext cx="6083280" cy="4356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orm Runat="server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p&gt;Select method of payment:&lt;/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adioButt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="cash" Text="cash"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GroupName="payment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nCheckedChanged="RadioChanged" AutoPostBack="true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unat="server" /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adioButt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="cheque" Text="cheque"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GroupName="payment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nCheckedChanged="RadioChanged" AutoPostBack="true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unat="server" /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adioButt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="card" Text="credit card"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GroupName="payment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nCheckedChanged="RadioChanged" AutoPostBack="true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unat="server" /&gt;&lt;br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9900"/>
                  </a:solidFill>
                  <a:latin typeface="Arial"/>
                </a:rPr>
                <a:t>ID="label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fo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adioChang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object sender, EventArgs e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.Text = "Method of payment: "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ash.Checked) label.Text += cash.Text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heque.Checked) label.Text += cheque.Text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ard.Checked) label.Text += card.Text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4" name="Picture 11" descr=""/>
            <p:cNvPicPr/>
            <p:nvPr/>
          </p:nvPicPr>
          <p:blipFill>
            <a:blip r:embed="rId1"/>
            <a:stretch/>
          </p:blipFill>
          <p:spPr>
            <a:xfrm>
              <a:off x="6904080" y="2216160"/>
              <a:ext cx="1895400" cy="204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BB6E-72FF-4C33-8FF3-A339722BE2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ListContr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749520" y="1649520"/>
            <a:ext cx="467784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ListContr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Web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ListItem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ListItem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Inde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TextFormat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objec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Text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Value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utoPostB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IndexChang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5557320" y="1668600"/>
            <a:ext cx="291276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ealed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5"/>
          <p:cNvSpPr/>
          <p:nvPr/>
        </p:nvSpPr>
        <p:spPr>
          <a:xfrm>
            <a:off x="5741280" y="3930480"/>
            <a:ext cx="239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ised when a new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ist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6"/>
          <p:cNvSpPr/>
          <p:nvPr/>
        </p:nvSpPr>
        <p:spPr>
          <a:xfrm flipH="1">
            <a:off x="5218200" y="4145040"/>
            <a:ext cx="434880" cy="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8"/>
          <p:cNvSpPr/>
          <p:nvPr/>
        </p:nvSpPr>
        <p:spPr>
          <a:xfrm>
            <a:off x="781560" y="48769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ata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19"/>
          <p:cNvSpPr/>
          <p:nvPr/>
        </p:nvSpPr>
        <p:spPr>
          <a:xfrm>
            <a:off x="2253240" y="4876920"/>
            <a:ext cx="37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bitrary object that implement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ataView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rayLis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ortedLis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0"/>
          <p:cNvSpPr/>
          <p:nvPr/>
        </p:nvSpPr>
        <p:spPr>
          <a:xfrm>
            <a:off x="695160" y="1252440"/>
            <a:ext cx="36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Base class of ListBox, DropDownList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1"/>
          <p:cNvSpPr/>
          <p:nvPr/>
        </p:nvSpPr>
        <p:spPr>
          <a:xfrm>
            <a:off x="782280" y="547200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ataText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2256840" y="5472000"/>
            <a:ext cx="60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ataView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name of the column that contains the text to be disp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3"/>
          <p:cNvSpPr/>
          <p:nvPr/>
        </p:nvSpPr>
        <p:spPr>
          <a:xfrm>
            <a:off x="782280" y="581976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ataValue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4"/>
          <p:cNvSpPr/>
          <p:nvPr/>
        </p:nvSpPr>
        <p:spPr>
          <a:xfrm>
            <a:off x="2256120" y="5819760"/>
            <a:ext cx="636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ataView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name of the column that contains the value which corrsp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the displayed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5"/>
          <p:cNvSpPr/>
          <p:nvPr/>
        </p:nvSpPr>
        <p:spPr>
          <a:xfrm>
            <a:off x="5848200" y="290196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1 or 0, 1, 2, 3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6"/>
          <p:cNvSpPr/>
          <p:nvPr/>
        </p:nvSpPr>
        <p:spPr>
          <a:xfrm>
            <a:off x="5847840" y="323532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"width = {0,f2} c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7"/>
          <p:cNvSpPr/>
          <p:nvPr/>
        </p:nvSpPr>
        <p:spPr>
          <a:xfrm flipH="1">
            <a:off x="4528800" y="2670120"/>
            <a:ext cx="711000" cy="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8"/>
          <p:cNvSpPr/>
          <p:nvPr/>
        </p:nvSpPr>
        <p:spPr>
          <a:xfrm>
            <a:off x="5240160" y="2670120"/>
            <a:ext cx="406440" cy="406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9"/>
          <p:cNvSpPr/>
          <p:nvPr/>
        </p:nvSpPr>
        <p:spPr>
          <a:xfrm>
            <a:off x="5645160" y="3076560"/>
            <a:ext cx="1602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30"/>
          <p:cNvSpPr/>
          <p:nvPr/>
        </p:nvSpPr>
        <p:spPr>
          <a:xfrm>
            <a:off x="5645160" y="3397320"/>
            <a:ext cx="1602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31"/>
          <p:cNvSpPr/>
          <p:nvPr/>
        </p:nvSpPr>
        <p:spPr>
          <a:xfrm flipH="1" flipV="1">
            <a:off x="5223960" y="2975040"/>
            <a:ext cx="422280" cy="420480"/>
          </a:xfrm>
          <a:prstGeom prst="line">
            <a:avLst/>
          </a:prstGeom>
          <a:ln w="6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6531-91E3-48AB-B85A-658797E155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ListBox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747720" y="1263600"/>
            <a:ext cx="50846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Lis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List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ListSelectionMod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ionM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5988960" y="1282680"/>
            <a:ext cx="28753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ListSelectionM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ngle, 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747360" y="2870280"/>
            <a:ext cx="6090840" cy="350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list" Rows="3" Runat="server"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United States" Value="USA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Great Britain" Value="GB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Germany" Value="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France" Value="F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Italy" Value="I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sp:ListBox&gt;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OnClick="ButtonClick" Text="Sho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Runat="server" /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ID="lab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Cli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.Text = "The selected country has the international car code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ist.SelectedItem != null) lab.Text += list.SelectedItem.Val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711720" y="2441520"/>
            <a:ext cx="19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ically specified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15" descr=""/>
          <p:cNvPicPr/>
          <p:nvPr/>
        </p:nvPicPr>
        <p:blipFill>
          <a:blip r:embed="rId1"/>
          <a:stretch/>
        </p:blipFill>
        <p:spPr>
          <a:xfrm>
            <a:off x="6951600" y="2879640"/>
            <a:ext cx="1828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5D04-7F34-4829-85D1-10C89F1731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stBox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Dynamically Specified List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744840" y="1441440"/>
            <a:ext cx="6906600" cy="487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D="list" Rows="3" AutoPostBack="tru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nSelectedIndexChanged="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Show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 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Text="Fill" OnClick="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Fill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 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ID="lab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ortedList data = new SortedLi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["United States"] = "USA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["Great Britain"] = "GB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["France"] = "F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["Italy"] = "I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Source = 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TextField = "Key"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ake the text from the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property of the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ValueField = "Value"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ake the value from the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property of the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Bi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.Text = "The selected country has the international car code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ist.SelectedItem != null) lab.Text += list.SelectedItem.Val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1"/>
          <a:stretch/>
        </p:blipFill>
        <p:spPr>
          <a:xfrm>
            <a:off x="7089840" y="1638360"/>
            <a:ext cx="1552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BE1-DE61-4AC0-A748-874BD4A79F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stBox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Even Simpler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746640" y="1727280"/>
            <a:ext cx="5644440" cy="337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D="list" Rows="3" AutoPostBack="tru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nSelectedIndexChanged="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Show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 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Text="Fill" OnClick="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Fill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 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ID="lab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Source = new string[] {"D", "F", "GB", "I", "USA"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Bi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.Text = "The selected country has the international car code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ist.SelectedItem != null) lab.Text += list.SelectedItem.Val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717120" y="1298520"/>
            <a:ext cx="57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equal, one can use the followin simpl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"/>
          <p:cNvPicPr/>
          <p:nvPr/>
        </p:nvPicPr>
        <p:blipFill>
          <a:blip r:embed="rId1"/>
          <a:stretch/>
        </p:blipFill>
        <p:spPr>
          <a:xfrm>
            <a:off x="6683400" y="1817640"/>
            <a:ext cx="14382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7F7-08E8-497F-B13E-9760F7CC9B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00280" y="1609560"/>
            <a:ext cx="716256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ynamic ASPX P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0280" y="16095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Page Language="C#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Import Namespace="System.IO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 &lt;title&gt;Page counter&lt;/title&gt; 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1&gt;Welcome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ou are visitor number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leStream s = new FileStream("c:\\Data\\Counter.dat", FileMode.OpenOrCre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inaryReader r = new BinaryReader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 = r.ReadInt32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 catch { n = 0; }  // if the file is emp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.Seek(0, SeekOrigin.Begi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inaryWriter w = new BinaryWriter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w.Write(n); s.Clo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Response.Write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%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440400" y="1305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92000" y="6319800"/>
            <a:ext cx="37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in a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virtual director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84360" y="109692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omputed values can be inserted into HTML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5830920" y="3786120"/>
            <a:ext cx="29242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9FC1-423C-499F-9F75-77D0F1332C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763560" y="2487600"/>
            <a:ext cx="7504200" cy="42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ase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 Pag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ListBox 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Label labe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PageI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Set ds = new DataS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qlConnection con = new SqlConnection("data source=127.0.0.1\\NETSDK; "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itial catalog=Northwind; user id=sa; password=; Trusted_Connection=tru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cmdString = "SELECT * FROM Employees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qlDataAdapter adapter = new SqlDataAdapter(cmdString, co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apter.Fill(ds, "Employee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ds.HasErrors) ds.RejectChanges(); else ds.AcceptChange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Source = ds.Tables["Employees"].DefaultVie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ist.DataBi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HandleSele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el.Text = "employee number =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ist.SelectedItem != null) label.Text += list.SelectedItem.Val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stBox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List Generated From a Database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741960" y="1255680"/>
            <a:ext cx="753516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OnInit="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PageInit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D="list" DataTextField="LastName" DataValueField="EmployeeID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nSelectedIndexChanged="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HandleSelect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" AutoPostBack=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label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6" descr=""/>
          <p:cNvPicPr/>
          <p:nvPr/>
        </p:nvPicPr>
        <p:blipFill>
          <a:blip r:embed="rId1"/>
          <a:stretch/>
        </p:blipFill>
        <p:spPr>
          <a:xfrm>
            <a:off x="7201080" y="4178160"/>
            <a:ext cx="15332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5E6-E2B6-4AA7-A58B-550184AADD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DropDownLis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756000" y="1263600"/>
            <a:ext cx="34344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DropDownLi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List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ame interface as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ist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748080" y="2584440"/>
            <a:ext cx="6247800" cy="350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ropDownLi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ID="list" OnSelectedIndexChanged="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HandleSelect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AutoPostBack=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United States" Value="USA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Great Britain" Value="GB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Germany" Value="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France" Value="F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st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ext="Italy" Value="I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sp:DropDownList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ID="lab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andleSele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.Text = "The selected country has the international car code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ist.SelectedItem != null) lab.Text += list.SelectedItem.Val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709920" y="2155680"/>
            <a:ext cx="29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ically specified DropDown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8"/>
          <p:cNvSpPr/>
          <p:nvPr/>
        </p:nvSpPr>
        <p:spPr>
          <a:xfrm>
            <a:off x="714960" y="6205680"/>
            <a:ext cx="50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ropDownLis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an also be filled dynamically (lik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istBo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9" descr=""/>
          <p:cNvPicPr/>
          <p:nvPr/>
        </p:nvPicPr>
        <p:blipFill>
          <a:blip r:embed="rId1"/>
          <a:stretch/>
        </p:blipFill>
        <p:spPr>
          <a:xfrm>
            <a:off x="7120080" y="2573280"/>
            <a:ext cx="1466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F03-8AC6-4DA8-8290-113CDFA289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DataGrid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65160" y="1241280"/>
            <a:ext cx="4799520" cy="222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DataGr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BaseDataLi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objec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utoGenerateColum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DataGridColumn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um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get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DataGridItems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DataGridItem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Inde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4907520" y="1241280"/>
            <a:ext cx="415080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DataGridColum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...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ader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oter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Item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ader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get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Item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oter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get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4915080" y="2897280"/>
            <a:ext cx="41414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DataGrid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...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Cell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el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4915080" y="3927600"/>
            <a:ext cx="413532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TableCe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Web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Wra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8" descr=""/>
          <p:cNvPicPr/>
          <p:nvPr/>
        </p:nvPicPr>
        <p:blipFill>
          <a:blip r:embed="rId1"/>
          <a:stretch/>
        </p:blipFill>
        <p:spPr>
          <a:xfrm>
            <a:off x="476280" y="4194000"/>
            <a:ext cx="2371680" cy="223848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9"/>
          <p:cNvSpPr/>
          <p:nvPr/>
        </p:nvSpPr>
        <p:spPr>
          <a:xfrm>
            <a:off x="503280" y="5097600"/>
            <a:ext cx="2336760" cy="231480"/>
          </a:xfrm>
          <a:prstGeom prst="rect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2988360" y="501660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DataGrid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2071800" y="4226040"/>
            <a:ext cx="753840" cy="217440"/>
          </a:xfrm>
          <a:prstGeom prst="rect">
            <a:avLst/>
          </a:prstGeom>
          <a:noFill/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2"/>
          <p:cNvSpPr/>
          <p:nvPr/>
        </p:nvSpPr>
        <p:spPr>
          <a:xfrm>
            <a:off x="1971720" y="374508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DataGrid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3"/>
          <p:cNvSpPr/>
          <p:nvPr/>
        </p:nvSpPr>
        <p:spPr>
          <a:xfrm>
            <a:off x="2071800" y="5137200"/>
            <a:ext cx="720720" cy="164880"/>
          </a:xfrm>
          <a:prstGeom prst="rect">
            <a:avLst/>
          </a:prstGeom>
          <a:noFill/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>
            <a:off x="2841480" y="5186520"/>
            <a:ext cx="209520" cy="0"/>
          </a:xfrm>
          <a:prstGeom prst="line">
            <a:avLst/>
          </a:prstGeom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2986200" y="53532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9900"/>
                </a:solidFill>
                <a:latin typeface="Times New Roman"/>
              </a:rPr>
              <a:t>Table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16"/>
          <p:cNvSpPr/>
          <p:nvPr/>
        </p:nvSpPr>
        <p:spPr>
          <a:xfrm>
            <a:off x="2790720" y="5256360"/>
            <a:ext cx="254160" cy="228600"/>
          </a:xfrm>
          <a:prstGeom prst="line">
            <a:avLst/>
          </a:prstGeom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7"/>
          <p:cNvSpPr/>
          <p:nvPr/>
        </p:nvSpPr>
        <p:spPr>
          <a:xfrm flipV="1">
            <a:off x="2448000" y="4049640"/>
            <a:ext cx="0" cy="17784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C55-5ADE-4C07-B3EA-3996E5449D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Grid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Formatting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660240" y="1255680"/>
            <a:ext cx="4955400" cy="329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DataGr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BaseDataLi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GridLine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GridLin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ellPadd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ellSpac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howHead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howFoo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Item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lternatingItem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Item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ader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Item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oter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Item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TableItemSty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Item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4"/>
          <p:cNvSpPr/>
          <p:nvPr/>
        </p:nvSpPr>
        <p:spPr>
          <a:xfrm>
            <a:off x="5779080" y="1278000"/>
            <a:ext cx="286128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GridLin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oth, Horizontal, None, 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5878440" y="2395440"/>
            <a:ext cx="1089000" cy="797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6237360" y="26877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6140520" y="2597040"/>
            <a:ext cx="566640" cy="40644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"/>
          <p:cNvSpPr/>
          <p:nvPr/>
        </p:nvSpPr>
        <p:spPr>
          <a:xfrm>
            <a:off x="6707160" y="2801880"/>
            <a:ext cx="260280" cy="0"/>
          </a:xfrm>
          <a:prstGeom prst="line">
            <a:avLst/>
          </a:prstGeom>
          <a:ln w="6480">
            <a:solidFill>
              <a:srgbClr val="ff505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9"/>
          <p:cNvSpPr/>
          <p:nvPr/>
        </p:nvSpPr>
        <p:spPr>
          <a:xfrm>
            <a:off x="5880240" y="2801880"/>
            <a:ext cx="260280" cy="0"/>
          </a:xfrm>
          <a:prstGeom prst="line">
            <a:avLst/>
          </a:prstGeom>
          <a:ln w="6480">
            <a:solidFill>
              <a:srgbClr val="ff505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0"/>
          <p:cNvSpPr/>
          <p:nvPr/>
        </p:nvSpPr>
        <p:spPr>
          <a:xfrm>
            <a:off x="6431040" y="3005280"/>
            <a:ext cx="0" cy="187200"/>
          </a:xfrm>
          <a:prstGeom prst="line">
            <a:avLst/>
          </a:prstGeom>
          <a:ln w="6480">
            <a:solidFill>
              <a:srgbClr val="ff505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1"/>
          <p:cNvSpPr/>
          <p:nvPr/>
        </p:nvSpPr>
        <p:spPr>
          <a:xfrm>
            <a:off x="6431040" y="2395440"/>
            <a:ext cx="0" cy="187560"/>
          </a:xfrm>
          <a:prstGeom prst="line">
            <a:avLst/>
          </a:prstGeom>
          <a:ln w="6480">
            <a:solidFill>
              <a:srgbClr val="ff505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7256520" y="2395440"/>
            <a:ext cx="1089000" cy="797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3"/>
          <p:cNvSpPr/>
          <p:nvPr/>
        </p:nvSpPr>
        <p:spPr>
          <a:xfrm>
            <a:off x="7615440" y="26877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4"/>
          <p:cNvSpPr/>
          <p:nvPr/>
        </p:nvSpPr>
        <p:spPr>
          <a:xfrm>
            <a:off x="7518240" y="2597040"/>
            <a:ext cx="567000" cy="40644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5"/>
          <p:cNvSpPr/>
          <p:nvPr/>
        </p:nvSpPr>
        <p:spPr>
          <a:xfrm>
            <a:off x="8356680" y="2801880"/>
            <a:ext cx="260280" cy="0"/>
          </a:xfrm>
          <a:prstGeom prst="line">
            <a:avLst/>
          </a:prstGeom>
          <a:ln w="6480">
            <a:solidFill>
              <a:srgbClr val="3333cc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6"/>
          <p:cNvSpPr/>
          <p:nvPr/>
        </p:nvSpPr>
        <p:spPr>
          <a:xfrm>
            <a:off x="6986520" y="2801880"/>
            <a:ext cx="260280" cy="0"/>
          </a:xfrm>
          <a:prstGeom prst="line">
            <a:avLst/>
          </a:prstGeom>
          <a:ln w="6480">
            <a:solidFill>
              <a:srgbClr val="3333cc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7"/>
          <p:cNvSpPr/>
          <p:nvPr/>
        </p:nvSpPr>
        <p:spPr>
          <a:xfrm>
            <a:off x="7808760" y="3205080"/>
            <a:ext cx="0" cy="187560"/>
          </a:xfrm>
          <a:prstGeom prst="line">
            <a:avLst/>
          </a:prstGeom>
          <a:ln w="6480">
            <a:solidFill>
              <a:srgbClr val="3333cc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8"/>
          <p:cNvSpPr/>
          <p:nvPr/>
        </p:nvSpPr>
        <p:spPr>
          <a:xfrm>
            <a:off x="7808760" y="2195640"/>
            <a:ext cx="0" cy="187200"/>
          </a:xfrm>
          <a:prstGeom prst="line">
            <a:avLst/>
          </a:prstGeom>
          <a:ln w="6480">
            <a:solidFill>
              <a:srgbClr val="3333cc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5818680" y="343044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ell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20"/>
          <p:cNvSpPr/>
          <p:nvPr/>
        </p:nvSpPr>
        <p:spPr>
          <a:xfrm>
            <a:off x="7241400" y="34304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ellSp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654480" y="4675320"/>
            <a:ext cx="3158280" cy="17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TableItem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Sty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FontInfo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olo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reCol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olo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ackCol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Uni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Uni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22"/>
          <p:cNvSpPr/>
          <p:nvPr/>
        </p:nvSpPr>
        <p:spPr>
          <a:xfrm>
            <a:off x="3895200" y="4675320"/>
            <a:ext cx="5097240" cy="946440"/>
          </a:xfrm>
          <a:prstGeom prst="rect">
            <a:avLst/>
          </a:prstGeom>
          <a:noFill/>
          <a:ln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DataGrid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Header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Font-Bold="true"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tem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oreColor="Red" Font-Name="Times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lternatingItemSty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ackColor="LightGray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sp:DataGr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3337-71AC-486A-840E-50F9572F66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Grid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Methods and Events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665640" y="1255680"/>
            <a:ext cx="5557320" cy="304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DataGr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BaseDataLi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verride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B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DataGridCommand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Comma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DataGridCommand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ditComma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DataGridCommand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ancelComma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DataGridCommand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UpdateComma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DataGridCommand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leteComma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vent EventHandl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edIndexChang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641880" y="4424400"/>
            <a:ext cx="43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Events are raised depending on the column 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25" descr=""/>
          <p:cNvPicPr/>
          <p:nvPr/>
        </p:nvPicPr>
        <p:blipFill>
          <a:blip r:embed="rId1"/>
          <a:stretch/>
        </p:blipFill>
        <p:spPr>
          <a:xfrm>
            <a:off x="809640" y="5381640"/>
            <a:ext cx="3095640" cy="1249200"/>
          </a:xfrm>
          <a:prstGeom prst="rect">
            <a:avLst/>
          </a:prstGeom>
          <a:ln w="0">
            <a:noFill/>
          </a:ln>
        </p:spPr>
      </p:pic>
      <p:sp>
        <p:nvSpPr>
          <p:cNvPr id="796" name="AutoShape 26"/>
          <p:cNvSpPr/>
          <p:nvPr/>
        </p:nvSpPr>
        <p:spPr>
          <a:xfrm rot="16200000">
            <a:off x="1837440" y="4274280"/>
            <a:ext cx="102960" cy="2104920"/>
          </a:xfrm>
          <a:custGeom>
            <a:avLst/>
            <a:gdLst>
              <a:gd name="textAreaLeft" fmla="*/ 0 w 102960"/>
              <a:gd name="textAreaRight" fmla="*/ 37080 w 102960"/>
              <a:gd name="textAreaTop" fmla="*/ 54720 h 2104920"/>
              <a:gd name="textAreaBottom" fmla="*/ 2050200 h 21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27"/>
          <p:cNvSpPr/>
          <p:nvPr/>
        </p:nvSpPr>
        <p:spPr>
          <a:xfrm>
            <a:off x="1214280" y="48960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ound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28"/>
          <p:cNvSpPr/>
          <p:nvPr/>
        </p:nvSpPr>
        <p:spPr>
          <a:xfrm>
            <a:off x="4117320" y="473724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utton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29"/>
          <p:cNvSpPr/>
          <p:nvPr/>
        </p:nvSpPr>
        <p:spPr>
          <a:xfrm>
            <a:off x="4116240" y="505620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ditCommand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30"/>
          <p:cNvSpPr/>
          <p:nvPr/>
        </p:nvSpPr>
        <p:spPr>
          <a:xfrm flipV="1">
            <a:off x="3236760" y="4905000"/>
            <a:ext cx="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31"/>
          <p:cNvSpPr/>
          <p:nvPr/>
        </p:nvSpPr>
        <p:spPr>
          <a:xfrm>
            <a:off x="3236760" y="4906800"/>
            <a:ext cx="90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32"/>
          <p:cNvSpPr/>
          <p:nvPr/>
        </p:nvSpPr>
        <p:spPr>
          <a:xfrm flipH="1">
            <a:off x="3685680" y="5210280"/>
            <a:ext cx="45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33"/>
          <p:cNvSpPr/>
          <p:nvPr/>
        </p:nvSpPr>
        <p:spPr>
          <a:xfrm>
            <a:off x="3686040" y="5210280"/>
            <a:ext cx="0" cy="203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339-3275-4831-8EA3-5CDC3214CA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Grid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lumn Kind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680760" y="13334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Bound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3048480" y="1357200"/>
            <a:ext cx="461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automatically bound to a columns of the data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3333600" y="1731960"/>
            <a:ext cx="29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ataText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dbColumn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680400" y="2262240"/>
            <a:ext cx="8026920" cy="1507320"/>
            <a:chOff x="680400" y="2262240"/>
            <a:chExt cx="8026920" cy="1507320"/>
          </a:xfrm>
        </p:grpSpPr>
        <p:sp>
          <p:nvSpPr>
            <p:cNvPr id="810" name="Text Box 6"/>
            <p:cNvSpPr/>
            <p:nvPr/>
          </p:nvSpPr>
          <p:spPr>
            <a:xfrm>
              <a:off x="680400" y="22622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uttonColu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7"/>
            <p:cNvSpPr/>
            <p:nvPr/>
          </p:nvSpPr>
          <p:spPr>
            <a:xfrm>
              <a:off x="3045600" y="2286000"/>
              <a:ext cx="500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line contains a button which raises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tem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8"/>
            <p:cNvSpPr/>
            <p:nvPr/>
          </p:nvSpPr>
          <p:spPr>
            <a:xfrm>
              <a:off x="3328920" y="2660760"/>
              <a:ext cx="4002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utton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"LinkButton" | "PushButton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ex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"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button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ommandNam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"Select" | "Delete" | "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anyTex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9"/>
            <p:cNvSpPr/>
            <p:nvPr/>
          </p:nvSpPr>
          <p:spPr>
            <a:xfrm>
              <a:off x="3039840" y="3432240"/>
              <a:ext cx="40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mmandNam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passed to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tem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4" name="Picture 10" descr=""/>
            <p:cNvPicPr/>
            <p:nvPr/>
          </p:nvPicPr>
          <p:blipFill>
            <a:blip r:embed="rId1"/>
            <a:stretch/>
          </p:blipFill>
          <p:spPr>
            <a:xfrm>
              <a:off x="7050240" y="2644920"/>
              <a:ext cx="1657080" cy="26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5" name="Group 17"/>
          <p:cNvGrpSpPr/>
          <p:nvPr/>
        </p:nvGrpSpPr>
        <p:grpSpPr>
          <a:xfrm>
            <a:off x="680760" y="3930480"/>
            <a:ext cx="7912440" cy="2316240"/>
            <a:chOff x="680760" y="3930480"/>
            <a:chExt cx="7912440" cy="2316240"/>
          </a:xfrm>
        </p:grpSpPr>
        <p:sp>
          <p:nvSpPr>
            <p:cNvPr id="816" name="Text Box 11"/>
            <p:cNvSpPr/>
            <p:nvPr/>
          </p:nvSpPr>
          <p:spPr>
            <a:xfrm>
              <a:off x="680760" y="3930480"/>
              <a:ext cx="24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ditCommandColum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052080" y="3954600"/>
              <a:ext cx="52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line contains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utton. If it is clicked it is repla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ance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utt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13"/>
            <p:cNvSpPr/>
            <p:nvPr/>
          </p:nvSpPr>
          <p:spPr>
            <a:xfrm>
              <a:off x="3327840" y="4529160"/>
              <a:ext cx="346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uttonTyp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"LinkButton" | "PushButton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ditTex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"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editButton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UpdateTex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"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updateButton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ancelTex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"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cancelButton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9" name="Picture 14" descr=""/>
            <p:cNvPicPr/>
            <p:nvPr/>
          </p:nvPicPr>
          <p:blipFill>
            <a:blip r:embed="rId2"/>
            <a:stretch/>
          </p:blipFill>
          <p:spPr>
            <a:xfrm>
              <a:off x="3182760" y="5587920"/>
              <a:ext cx="17622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15" descr=""/>
            <p:cNvPicPr/>
            <p:nvPr/>
          </p:nvPicPr>
          <p:blipFill>
            <a:blip r:embed="rId3"/>
            <a:stretch/>
          </p:blipFill>
          <p:spPr>
            <a:xfrm>
              <a:off x="3164040" y="5923080"/>
              <a:ext cx="542916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33A-B33E-4B75-90EF-B3BF80B453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Grid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Event Handling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708120" y="165888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lumn 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708840" y="2052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Button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2800800" y="2077920"/>
            <a:ext cx="24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andName == "Selec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andName == "Delet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andName == arbit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5283360" y="2077920"/>
            <a:ext cx="340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Command + SelectedIndexChan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Command + Delete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"/>
          <p:cNvSpPr/>
          <p:nvPr/>
        </p:nvSpPr>
        <p:spPr>
          <a:xfrm>
            <a:off x="784080" y="2019240"/>
            <a:ext cx="782352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708840" y="2943360"/>
            <a:ext cx="21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EditCommandColu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2798640" y="2968560"/>
            <a:ext cx="192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anc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286240" y="2968560"/>
            <a:ext cx="294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Command + Edit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Command + Update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Command + Cancel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22"/>
          <p:cNvSpPr/>
          <p:nvPr/>
        </p:nvSpPr>
        <p:spPr>
          <a:xfrm>
            <a:off x="784080" y="2909880"/>
            <a:ext cx="78393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23"/>
          <p:cNvSpPr/>
          <p:nvPr/>
        </p:nvSpPr>
        <p:spPr>
          <a:xfrm>
            <a:off x="784080" y="3816360"/>
            <a:ext cx="78393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24"/>
          <p:cNvSpPr/>
          <p:nvPr/>
        </p:nvSpPr>
        <p:spPr>
          <a:xfrm>
            <a:off x="784080" y="1639800"/>
            <a:ext cx="78393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25"/>
          <p:cNvSpPr/>
          <p:nvPr/>
        </p:nvSpPr>
        <p:spPr>
          <a:xfrm>
            <a:off x="2829240" y="165888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26"/>
          <p:cNvSpPr/>
          <p:nvPr/>
        </p:nvSpPr>
        <p:spPr>
          <a:xfrm>
            <a:off x="5316480" y="165888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aised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3"/>
          <p:cNvSpPr/>
          <p:nvPr/>
        </p:nvSpPr>
        <p:spPr>
          <a:xfrm>
            <a:off x="694080" y="125100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5050"/>
                </a:solidFill>
                <a:latin typeface="Times New Roman"/>
              </a:rPr>
              <a:t>Kind of the raised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42"/>
          <p:cNvGrpSpPr/>
          <p:nvPr/>
        </p:nvGrpSpPr>
        <p:grpSpPr>
          <a:xfrm>
            <a:off x="694080" y="4156200"/>
            <a:ext cx="6675840" cy="2408040"/>
            <a:chOff x="694080" y="4156200"/>
            <a:chExt cx="6675840" cy="2408040"/>
          </a:xfrm>
        </p:grpSpPr>
        <p:sp>
          <p:nvSpPr>
            <p:cNvPr id="838" name="Text Box 27"/>
            <p:cNvSpPr/>
            <p:nvPr/>
          </p:nvSpPr>
          <p:spPr>
            <a:xfrm>
              <a:off x="910440" y="4492800"/>
              <a:ext cx="645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HandleItemCommand (object sender, DataGridCommandEventArgs e) {...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Text Box 28"/>
            <p:cNvSpPr/>
            <p:nvPr/>
          </p:nvSpPr>
          <p:spPr>
            <a:xfrm>
              <a:off x="704160" y="533232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utton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29"/>
            <p:cNvSpPr/>
            <p:nvPr/>
          </p:nvSpPr>
          <p:spPr>
            <a:xfrm>
              <a:off x="704160" y="5726160"/>
              <a:ext cx="21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EditCommand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30"/>
            <p:cNvSpPr/>
            <p:nvPr/>
          </p:nvSpPr>
          <p:spPr>
            <a:xfrm>
              <a:off x="3003480" y="5751360"/>
              <a:ext cx="1271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dit-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date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ncel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31"/>
            <p:cNvSpPr/>
            <p:nvPr/>
          </p:nvSpPr>
          <p:spPr>
            <a:xfrm>
              <a:off x="4774680" y="5751360"/>
              <a:ext cx="883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Edit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Update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Cance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32"/>
            <p:cNvSpPr/>
            <p:nvPr/>
          </p:nvSpPr>
          <p:spPr>
            <a:xfrm>
              <a:off x="4775040" y="535932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mand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34"/>
            <p:cNvSpPr/>
            <p:nvPr/>
          </p:nvSpPr>
          <p:spPr>
            <a:xfrm>
              <a:off x="694080" y="415620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5050"/>
                  </a:solidFill>
                  <a:latin typeface="Times New Roman"/>
                </a:rPr>
                <a:t>Event parameter of </a:t>
              </a:r>
              <a:r>
                <a:rPr b="1" i="1" lang="de-AT" sz="1600" spc="-1" strike="noStrike">
                  <a:solidFill>
                    <a:srgbClr val="ff5050"/>
                  </a:solidFill>
                  <a:latin typeface="Times New Roman"/>
                </a:rPr>
                <a:t>Item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>
              <a:off x="784080" y="5302080"/>
              <a:ext cx="5500800" cy="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784080" y="5680080"/>
              <a:ext cx="5500800" cy="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38"/>
            <p:cNvSpPr/>
            <p:nvPr/>
          </p:nvSpPr>
          <p:spPr>
            <a:xfrm>
              <a:off x="784080" y="6564240"/>
              <a:ext cx="5500800" cy="0"/>
            </a:xfrm>
            <a:prstGeom prst="line">
              <a:avLst/>
            </a:prstGeom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39"/>
            <p:cNvSpPr/>
            <p:nvPr/>
          </p:nvSpPr>
          <p:spPr>
            <a:xfrm>
              <a:off x="708120" y="4956120"/>
              <a:ext cx="118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lumn k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40"/>
            <p:cNvSpPr/>
            <p:nvPr/>
          </p:nvSpPr>
          <p:spPr>
            <a:xfrm>
              <a:off x="784080" y="4954680"/>
              <a:ext cx="5500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Text Box 41"/>
            <p:cNvSpPr/>
            <p:nvPr/>
          </p:nvSpPr>
          <p:spPr>
            <a:xfrm>
              <a:off x="4800600" y="4956120"/>
              <a:ext cx="163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.Command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944-1E2C-43F6-8FA9-A6F8ACAE9A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Grid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Simple Example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692280" y="1306440"/>
            <a:ext cx="725616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OnInit="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PageInit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Gr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D="gri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669960" y="2147760"/>
            <a:ext cx="7337520" cy="380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BasePage : Pag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DataGrid gr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PageI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ataSet ds = new DataS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qlConnection con = new SqlConnection("data source=127.0.0.1\\NETSDK; " 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"initial catalog=Northwind; user id=sa; password=; Trusted_Connection=true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tring sqlString = "SELECT EmployeeID, FirstName, LastName FROM Employees"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qlDataAdapter adapter = new SqlDataAdapter(sqlString, con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dapter.Fill(ds, "Employees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ds.HasErrors) ds.RejectChanges(); else ds.AcceptChanges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grid.DataSource = ds.Tables["Employees"].DefaultVie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grid.DataBi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996600"/>
                </a:solidFill>
                <a:latin typeface="Arial"/>
              </a:rPr>
              <a:t>grid.HeaderStyle.Font.Bold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996600"/>
                </a:solidFill>
                <a:latin typeface="Arial"/>
              </a:rPr>
              <a:t>grid.AlternatingItemStyle.BackColor = System.Drawing.Color.LightGra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6796080" y="3909960"/>
            <a:ext cx="2305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9012-C05F-4B27-B2BA-305BEE5732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Grid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Example With ButtonColumn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459000" y="1663560"/>
            <a:ext cx="7883280" cy="435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nLoad="PageLoa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ataGr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grid" Runat="serve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utoGenerateColumns="fals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ellPadding="3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eaderStyle-BackColor="#aaaad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ngItemStyle-BackColor="LightGra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nDeleteCommand="DeleteRow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nSelectedIndexChanged="SelectRow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um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undColum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aderText="ID" DataField="EmployeeI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ItemStyle HorizontalAlign="Right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sp:BoundColum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undColum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aderText="First Name" DataField="FirstNam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undColum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aderText="Last Name" DataField="LastNam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Colum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uttonType="LinkButton" Text="delete" CommandName="Delet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Colum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uttonType="LinkButton" Text="select" CommandName="Select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olum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sp:DataGrid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label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Picture 4" descr=""/>
          <p:cNvPicPr/>
          <p:nvPr/>
        </p:nvPicPr>
        <p:blipFill>
          <a:blip r:embed="rId1"/>
          <a:stretch/>
        </p:blipFill>
        <p:spPr>
          <a:xfrm>
            <a:off x="6323040" y="1198440"/>
            <a:ext cx="27050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222E-B3DF-4EF1-B4DC-00996C724F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Grid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de Behind for the Previous Example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748800" y="1206360"/>
            <a:ext cx="7038720" cy="547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BasePage: Pag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DataGrid gr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Label labe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View dataVie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geLo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Set 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!IsPostBack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ds from the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ssion["Data"] = 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ds = (DataSet)Session["Data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View = ds.Tables["Employees"].DefaultVie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id.DataSource = dataVie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id.DataBi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leteRo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DataGridCommand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View.Delete(e.Item.DataSetIndex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deletes data only in the 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id.DataSource = dataView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but not in the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id.DataBi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Ro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id.SelectedItemStyle.BackColor = System.Drawing.Color.Gra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el.Text = grid.SelectedItem.Cells[1].Text + " " + grid.SelectedItem.Cells[2].T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75F-ED1C-40B2-AB0A-A591EA1644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Create a Virtual Directo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743640" y="1623960"/>
            <a:ext cx="3352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eps for creating a virtual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rol Pa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&gt; Administrative Too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&gt; Compu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click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fault 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&gt; New ... Virtual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 the di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5"/>
          <p:cNvGraphicFramePr/>
          <p:nvPr/>
        </p:nvGraphicFramePr>
        <p:xfrm>
          <a:off x="762120" y="1193760"/>
          <a:ext cx="270036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93760"/>
                    <a:ext cx="27003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6"/>
          <p:cNvSpPr/>
          <p:nvPr/>
        </p:nvSpPr>
        <p:spPr>
          <a:xfrm>
            <a:off x="3731400" y="4848120"/>
            <a:ext cx="4354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l aspx files must be in a virtual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ccessibl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://&lt;site-url&gt;/&lt;virtualDirName&gt;/myfile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97776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(under Windows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/>
          <p:cNvSpPr/>
          <p:nvPr/>
        </p:nvSpPr>
        <p:spPr>
          <a:xfrm>
            <a:off x="1066680" y="314964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CE3-AA28-4D8E-9CAF-91ED0E2D31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4343400" y="19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Validato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739440" y="130968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Objects for plausibility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4406400" y="19810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38480" y="2739960"/>
            <a:ext cx="144792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4102560" y="272556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aseValid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9"/>
          <p:cNvSpPr/>
          <p:nvPr/>
        </p:nvSpPr>
        <p:spPr>
          <a:xfrm>
            <a:off x="4648320" y="23004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0"/>
          <p:cNvSpPr/>
          <p:nvPr/>
        </p:nvSpPr>
        <p:spPr>
          <a:xfrm>
            <a:off x="4767120" y="25290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1"/>
          <p:cNvSpPr/>
          <p:nvPr/>
        </p:nvSpPr>
        <p:spPr>
          <a:xfrm>
            <a:off x="914400" y="3654360"/>
            <a:ext cx="2209680" cy="322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979560" y="36399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quiredFieldValid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3"/>
          <p:cNvSpPr/>
          <p:nvPr/>
        </p:nvSpPr>
        <p:spPr>
          <a:xfrm>
            <a:off x="3733920" y="3654360"/>
            <a:ext cx="213336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4"/>
          <p:cNvSpPr/>
          <p:nvPr/>
        </p:nvSpPr>
        <p:spPr>
          <a:xfrm>
            <a:off x="3798720" y="363996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aseCompareValid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5"/>
          <p:cNvSpPr/>
          <p:nvPr/>
        </p:nvSpPr>
        <p:spPr>
          <a:xfrm>
            <a:off x="6759720" y="3654360"/>
            <a:ext cx="1698480" cy="322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6"/>
          <p:cNvSpPr/>
          <p:nvPr/>
        </p:nvSpPr>
        <p:spPr>
          <a:xfrm>
            <a:off x="6823800" y="36399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ustomValid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7"/>
          <p:cNvSpPr/>
          <p:nvPr/>
        </p:nvSpPr>
        <p:spPr>
          <a:xfrm>
            <a:off x="4648320" y="306216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18"/>
          <p:cNvSpPr/>
          <p:nvPr/>
        </p:nvSpPr>
        <p:spPr>
          <a:xfrm>
            <a:off x="4767120" y="3290760"/>
            <a:ext cx="180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9"/>
          <p:cNvSpPr/>
          <p:nvPr/>
        </p:nvSpPr>
        <p:spPr>
          <a:xfrm>
            <a:off x="1981080" y="3443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20"/>
          <p:cNvSpPr/>
          <p:nvPr/>
        </p:nvSpPr>
        <p:spPr>
          <a:xfrm>
            <a:off x="1981080" y="34434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21"/>
          <p:cNvSpPr/>
          <p:nvPr/>
        </p:nvSpPr>
        <p:spPr>
          <a:xfrm>
            <a:off x="7696080" y="34434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22"/>
          <p:cNvSpPr/>
          <p:nvPr/>
        </p:nvSpPr>
        <p:spPr>
          <a:xfrm>
            <a:off x="4648320" y="397656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23"/>
          <p:cNvSpPr/>
          <p:nvPr/>
        </p:nvSpPr>
        <p:spPr>
          <a:xfrm>
            <a:off x="4767120" y="4205160"/>
            <a:ext cx="180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4"/>
          <p:cNvSpPr/>
          <p:nvPr/>
        </p:nvSpPr>
        <p:spPr>
          <a:xfrm>
            <a:off x="3962520" y="4357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25"/>
          <p:cNvSpPr/>
          <p:nvPr/>
        </p:nvSpPr>
        <p:spPr>
          <a:xfrm>
            <a:off x="3200400" y="4568760"/>
            <a:ext cx="1523880" cy="322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26"/>
          <p:cNvSpPr/>
          <p:nvPr/>
        </p:nvSpPr>
        <p:spPr>
          <a:xfrm>
            <a:off x="3263760" y="455436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angeValid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7"/>
          <p:cNvSpPr/>
          <p:nvPr/>
        </p:nvSpPr>
        <p:spPr>
          <a:xfrm>
            <a:off x="4867200" y="4568760"/>
            <a:ext cx="1762200" cy="322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8"/>
          <p:cNvSpPr/>
          <p:nvPr/>
        </p:nvSpPr>
        <p:spPr>
          <a:xfrm>
            <a:off x="4932360" y="455436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areValid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29"/>
          <p:cNvSpPr/>
          <p:nvPr/>
        </p:nvSpPr>
        <p:spPr>
          <a:xfrm>
            <a:off x="3962520" y="43639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30"/>
          <p:cNvSpPr/>
          <p:nvPr/>
        </p:nvSpPr>
        <p:spPr>
          <a:xfrm>
            <a:off x="5715000" y="43578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1"/>
          <p:cNvSpPr/>
          <p:nvPr/>
        </p:nvSpPr>
        <p:spPr>
          <a:xfrm>
            <a:off x="1089000" y="4114800"/>
            <a:ext cx="182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checks if a text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is 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32"/>
          <p:cNvSpPr/>
          <p:nvPr/>
        </p:nvSpPr>
        <p:spPr>
          <a:xfrm>
            <a:off x="3095640" y="4952880"/>
            <a:ext cx="169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checks if th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of a text fiel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in a valid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33"/>
          <p:cNvSpPr/>
          <p:nvPr/>
        </p:nvSpPr>
        <p:spPr>
          <a:xfrm>
            <a:off x="4862880" y="495288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compares the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of two text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34"/>
          <p:cNvSpPr/>
          <p:nvPr/>
        </p:nvSpPr>
        <p:spPr>
          <a:xfrm>
            <a:off x="6803640" y="4114800"/>
            <a:ext cx="175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does a user-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A60D-525A-4910-8D9F-79BE683541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Validators (Example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TextBox ID="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" Runat="serv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&lt;asp:</a:t>
            </a:r>
            <a:r>
              <a:rPr b="1" lang="de-AT" sz="1600" spc="-1" strike="noStrike">
                <a:solidFill>
                  <a:srgbClr val="3333cc"/>
                </a:solidFill>
                <a:latin typeface="Arial"/>
              </a:rPr>
              <a:t>RequiredFieldValidator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de-AT" sz="1600" spc="-1" strike="noStrike">
                <a:solidFill>
                  <a:srgbClr val="ff3300"/>
                </a:solidFill>
                <a:latin typeface="Arial"/>
              </a:rPr>
              <a:t>ControlToValidate="name"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 Text="*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ErrorMessage="You must enter a name" Runat="serv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b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TextBox ID="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" Runat="serv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&lt;asp:</a:t>
            </a:r>
            <a:r>
              <a:rPr b="1" lang="de-AT" sz="1600" spc="-1" strike="noStrike">
                <a:solidFill>
                  <a:srgbClr val="3333cc"/>
                </a:solidFill>
                <a:latin typeface="Arial"/>
              </a:rPr>
              <a:t>RangeValidator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de-AT" sz="1600" spc="-1" strike="noStrike">
                <a:solidFill>
                  <a:srgbClr val="ff3300"/>
                </a:solidFill>
                <a:latin typeface="Arial"/>
              </a:rPr>
              <a:t>ControlToValidate="age"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 Text="*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MinimumValue="0" MaximumValue="100" Type="Integ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ErrorMessage="The age must be between 0 and 100" Runat="serv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&lt;asp:Button Text="Submit" OnClick="DoClick" Runat="serv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&lt;asp:</a:t>
            </a:r>
            <a:r>
              <a:rPr b="1" lang="de-AT" sz="1600" spc="-1" strike="noStrike">
                <a:solidFill>
                  <a:srgbClr val="ff3300"/>
                </a:solidFill>
                <a:latin typeface="Arial"/>
              </a:rPr>
              <a:t>ValidationSummary</a:t>
            </a:r>
            <a:r>
              <a:rPr b="0" lang="de-AT" sz="1600" spc="-1" strike="noStrike">
                <a:solidFill>
                  <a:srgbClr val="ff3300"/>
                </a:solidFill>
                <a:latin typeface="Arial"/>
              </a:rPr>
              <a:t> Runat="serv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Picture 5" descr=""/>
          <p:cNvPicPr/>
          <p:nvPr/>
        </p:nvPicPr>
        <p:blipFill>
          <a:blip r:embed="rId1"/>
          <a:stretch/>
        </p:blipFill>
        <p:spPr>
          <a:xfrm>
            <a:off x="684360" y="4429080"/>
            <a:ext cx="38145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/>
          <p:cNvSpPr/>
          <p:nvPr/>
        </p:nvSpPr>
        <p:spPr>
          <a:xfrm>
            <a:off x="1066680" y="351792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F2A0-4AF3-4B4F-B95D-4E012B9555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er Controls</a:t>
            </a: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Example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Group of controls that can be used like a </a:t>
            </a:r>
            <a:r>
              <a:rPr b="0" i="1" lang="de-A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ngle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7"/>
          <p:cNvGrpSpPr/>
          <p:nvPr/>
        </p:nvGrpSpPr>
        <p:grpSpPr>
          <a:xfrm>
            <a:off x="685800" y="3048120"/>
            <a:ext cx="8001000" cy="2621520"/>
            <a:chOff x="685800" y="3048120"/>
            <a:chExt cx="8001000" cy="2621520"/>
          </a:xfrm>
        </p:grpSpPr>
        <p:sp>
          <p:nvSpPr>
            <p:cNvPr id="908" name="Rectangle 5"/>
            <p:cNvSpPr/>
            <p:nvPr/>
          </p:nvSpPr>
          <p:spPr>
            <a:xfrm>
              <a:off x="685800" y="3048120"/>
              <a:ext cx="800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imes New Roman"/>
                </a:rPr>
                <a:t>Described in an </a:t>
              </a:r>
              <a:r>
                <a:rPr b="0" lang="de-AT" sz="2000" spc="-1" strike="noStrike">
                  <a:solidFill>
                    <a:srgbClr val="3333cc"/>
                  </a:solidFill>
                  <a:latin typeface="Times New Roman"/>
                </a:rPr>
                <a:t>ascx</a:t>
              </a:r>
              <a:r>
                <a:rPr b="0" lang="de-AT" sz="2000" spc="-1" strike="noStrike">
                  <a:solidFill>
                    <a:srgbClr val="000000"/>
                  </a:solidFill>
                  <a:latin typeface="Times New Roman"/>
                </a:rPr>
                <a:t> file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MoneyField.asc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1110600" y="3657600"/>
              <a:ext cx="5935680" cy="201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@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Inherits="MoneyFieldBase" Src="MoneyField.ascx.cs" %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ff3300"/>
                  </a:solidFill>
                  <a:latin typeface="Arial"/>
                </a:rPr>
                <a:t>TextBo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ID="amount"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ff3300"/>
                  </a:solidFill>
                  <a:latin typeface="Arial"/>
                </a:rPr>
                <a:t>DropDownLi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ID="currency" AutoPostBack="true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nSelectedIndexChanged="</a:t>
              </a:r>
              <a:r>
                <a:rPr b="0" lang="de-AT" sz="1400" spc="-1" strike="noStrike">
                  <a:solidFill>
                    <a:srgbClr val="ff3300"/>
                  </a:solidFill>
                  <a:latin typeface="Arial"/>
                </a:rPr>
                <a:t>Selec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 Runat="server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istItem Text="Euro" Value="1.0" Selected="true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istItem Text="Dollars" Value="0.88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istItem Text="Fracs" Value="1.47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ListItem Text="Pounds" Value="0.62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asp:DropDownList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0" name="Object 8"/>
          <p:cNvGraphicFramePr/>
          <p:nvPr/>
        </p:nvGraphicFramePr>
        <p:xfrm>
          <a:off x="1117440" y="1790640"/>
          <a:ext cx="27734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1790640"/>
                    <a:ext cx="27734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385A-A4A8-44D9-972C-201CAFEDEF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er Controls</a:t>
            </a: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de Behind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4" name="Text Box 4"/>
          <p:cNvSpPr/>
          <p:nvPr/>
        </p:nvSpPr>
        <p:spPr>
          <a:xfrm>
            <a:off x="812880" y="1324080"/>
            <a:ext cx="7440480" cy="538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  using System.Web.UI;  using System.Web.UI.WebContro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MoneyFieldB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 User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Tex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mou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</a:t>
            </a:r>
            <a:r>
              <a:rPr b="1" lang="de-AT" sz="1400" spc="-1" strike="noStrike">
                <a:solidFill>
                  <a:srgbClr val="ff3300"/>
                </a:solidFill>
                <a:latin typeface="Arial"/>
              </a:rPr>
              <a:t>DropDownLi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urrenc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 { return amount.Tex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t { amount.Text = valu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doub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ld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 { return ViewState["factor"] == null ? 1 : (double)ViewState["factor"]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t { ViewState["factor"] = valu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uble val = Convert.ToDouble(amount.Tex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uble newFactor = Convert.ToDouble(currency.SelectedItem.Value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uble newVal = val / OldFactor * newFact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mount.Text = newVal.ToString("f2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ldFactor = newFact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catch (Exceptio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mount.Text = "0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5835960" y="101916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MoneyField.ascx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D3BF-CDF0-4774-B3C5-E32F88869E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er Controls</a:t>
            </a: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Usage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Multiple instances of them can be used on the sam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6"/>
          <p:cNvSpPr/>
          <p:nvPr/>
        </p:nvSpPr>
        <p:spPr>
          <a:xfrm>
            <a:off x="781560" y="1752480"/>
            <a:ext cx="685584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Page Language="C#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TagPrefix="my" TagName="MoneyFiel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rc="MoneyField.ascx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mount 1: &lt;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my:Money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field1" Text="100" Runat="server" /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mount 2: &lt;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my:Money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field2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"/>
          <p:cNvPicPr/>
          <p:nvPr/>
        </p:nvPicPr>
        <p:blipFill>
          <a:blip r:embed="rId1"/>
          <a:stretch/>
        </p:blipFill>
        <p:spPr>
          <a:xfrm>
            <a:off x="782640" y="4335480"/>
            <a:ext cx="35812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66680" y="388620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692B-BE6A-4EEF-9C64-1EF66DA013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ustom Controls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 (Example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Allow you to implement completely new functionality (e.g. text fol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24"/>
          <p:cNvGrpSpPr/>
          <p:nvPr/>
        </p:nvGrpSpPr>
        <p:grpSpPr>
          <a:xfrm>
            <a:off x="685800" y="4038480"/>
            <a:ext cx="7772400" cy="2485800"/>
            <a:chOff x="685800" y="4038480"/>
            <a:chExt cx="7772400" cy="2485800"/>
          </a:xfrm>
        </p:grpSpPr>
        <p:sp>
          <p:nvSpPr>
            <p:cNvPr id="927" name="Rectangle 13"/>
            <p:cNvSpPr/>
            <p:nvPr/>
          </p:nvSpPr>
          <p:spPr>
            <a:xfrm>
              <a:off x="1143000" y="6172200"/>
              <a:ext cx="121932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Rectangle 6"/>
            <p:cNvSpPr/>
            <p:nvPr/>
          </p:nvSpPr>
          <p:spPr>
            <a:xfrm>
              <a:off x="685800" y="4038480"/>
              <a:ext cx="77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imes New Roman"/>
                </a:rPr>
                <a:t>Must be implemented as a (direct or indirect) subclass of </a:t>
              </a:r>
              <a:r>
                <a:rPr b="0" i="1" lang="de-AT" sz="20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8"/>
            <p:cNvSpPr/>
            <p:nvPr/>
          </p:nvSpPr>
          <p:spPr>
            <a:xfrm>
              <a:off x="1144800" y="457200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9"/>
            <p:cNvSpPr/>
            <p:nvPr/>
          </p:nvSpPr>
          <p:spPr>
            <a:xfrm>
              <a:off x="1144800" y="5073480"/>
              <a:ext cx="118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b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0"/>
            <p:cNvSpPr/>
            <p:nvPr/>
          </p:nvSpPr>
          <p:spPr>
            <a:xfrm>
              <a:off x="1146240" y="560700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mage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1"/>
            <p:cNvSpPr/>
            <p:nvPr/>
          </p:nvSpPr>
          <p:spPr>
            <a:xfrm>
              <a:off x="1144440" y="614052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2"/>
            <p:cNvSpPr/>
            <p:nvPr/>
          </p:nvSpPr>
          <p:spPr>
            <a:xfrm>
              <a:off x="3589200" y="5943600"/>
              <a:ext cx="329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st override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nde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ethod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ch translates this control to 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4"/>
            <p:cNvSpPr/>
            <p:nvPr/>
          </p:nvSpPr>
          <p:spPr>
            <a:xfrm>
              <a:off x="1143000" y="5638680"/>
              <a:ext cx="12193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1143000" y="5105520"/>
              <a:ext cx="12193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Rectangle 16"/>
            <p:cNvSpPr/>
            <p:nvPr/>
          </p:nvSpPr>
          <p:spPr>
            <a:xfrm>
              <a:off x="1143000" y="4572000"/>
              <a:ext cx="12193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AutoShape 17"/>
            <p:cNvSpPr/>
            <p:nvPr/>
          </p:nvSpPr>
          <p:spPr>
            <a:xfrm>
              <a:off x="1676520" y="5943600"/>
              <a:ext cx="15228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8"/>
            <p:cNvSpPr/>
            <p:nvPr/>
          </p:nvSpPr>
          <p:spPr>
            <a:xfrm>
              <a:off x="1752480" y="6095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AutoShape 19"/>
            <p:cNvSpPr/>
            <p:nvPr/>
          </p:nvSpPr>
          <p:spPr>
            <a:xfrm>
              <a:off x="1676520" y="5410080"/>
              <a:ext cx="152280" cy="1526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0"/>
            <p:cNvSpPr/>
            <p:nvPr/>
          </p:nvSpPr>
          <p:spPr>
            <a:xfrm>
              <a:off x="1752480" y="5562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AutoShape 21"/>
            <p:cNvSpPr/>
            <p:nvPr/>
          </p:nvSpPr>
          <p:spPr>
            <a:xfrm>
              <a:off x="1676520" y="4876920"/>
              <a:ext cx="15228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22"/>
            <p:cNvSpPr/>
            <p:nvPr/>
          </p:nvSpPr>
          <p:spPr>
            <a:xfrm>
              <a:off x="1752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23"/>
            <p:cNvSpPr/>
            <p:nvPr/>
          </p:nvSpPr>
          <p:spPr>
            <a:xfrm>
              <a:off x="2438280" y="6248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Group 30"/>
          <p:cNvGrpSpPr/>
          <p:nvPr/>
        </p:nvGrpSpPr>
        <p:grpSpPr>
          <a:xfrm>
            <a:off x="3678120" y="4834080"/>
            <a:ext cx="4693320" cy="957240"/>
            <a:chOff x="3678120" y="4834080"/>
            <a:chExt cx="4693320" cy="957240"/>
          </a:xfrm>
        </p:grpSpPr>
        <p:sp>
          <p:nvSpPr>
            <p:cNvPr id="945" name="Text Box 25"/>
            <p:cNvSpPr/>
            <p:nvPr/>
          </p:nvSpPr>
          <p:spPr>
            <a:xfrm>
              <a:off x="3711240" y="4896000"/>
              <a:ext cx="466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eground text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perty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ld.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ackground text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perty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mageButton.Alternate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ick event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herited from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mage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Rectangle 26"/>
            <p:cNvSpPr/>
            <p:nvPr/>
          </p:nvSpPr>
          <p:spPr>
            <a:xfrm>
              <a:off x="3678120" y="4834080"/>
              <a:ext cx="4643640" cy="9572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7" name="Picture 28" descr=""/>
          <p:cNvPicPr/>
          <p:nvPr/>
        </p:nvPicPr>
        <p:blipFill>
          <a:blip r:embed="rId1"/>
          <a:stretch/>
        </p:blipFill>
        <p:spPr>
          <a:xfrm>
            <a:off x="1279440" y="1754280"/>
            <a:ext cx="3114720" cy="2114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29" descr=""/>
          <p:cNvPicPr/>
          <p:nvPr/>
        </p:nvPicPr>
        <p:blipFill>
          <a:blip r:embed="rId2"/>
          <a:stretch/>
        </p:blipFill>
        <p:spPr>
          <a:xfrm>
            <a:off x="4486320" y="1739880"/>
            <a:ext cx="3114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D17A-A7DE-4F9D-91EC-2CA413B10A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ustom Controls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 (Example: Class Fold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817560" y="1289160"/>
            <a:ext cx="7934400" cy="549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 using System.Web.UI; using System.Web.UI.WebContro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space Folds {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ustom controls must be declared in a 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 ImageButt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 { return ViewState["Text"]==null ? "" : (string)ViewState["Text"]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t { ViewState["Text"] = valu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c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 { return ViewState["Icon"]==null ? "Solid" : (string)ViewState["Icon"]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t { ViewState["Icon"] = valu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: base() { Click += new ImageClickEventHandler(FoldClick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ldCli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ImageClick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s = Text; Text = AlternateText; AlternateText = s;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lternateText from Image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Icon == "Solid") Icon = "Hollow"; else Icon = "Solid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tected override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nd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HtmlTextWriter w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.Write("&lt;input type=image name=" + this.Unique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.Write(" src='" + TemplateSourceDirectory + "/" + Icon + "Left.gif' border=0 /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.Write(Tex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.Write("&lt;img src='" + TemplateSourceDirectory + "/" + Icon + "Right.gif'&gt;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30"/>
          <p:cNvSpPr/>
          <p:nvPr/>
        </p:nvSpPr>
        <p:spPr>
          <a:xfrm>
            <a:off x="7250040" y="2403360"/>
            <a:ext cx="1789200" cy="136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Picture 36" descr=""/>
          <p:cNvPicPr/>
          <p:nvPr/>
        </p:nvPicPr>
        <p:blipFill>
          <a:blip r:embed="rId1"/>
          <a:stretch/>
        </p:blipFill>
        <p:spPr>
          <a:xfrm>
            <a:off x="7416720" y="2584440"/>
            <a:ext cx="92160" cy="1713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37" descr=""/>
          <p:cNvPicPr/>
          <p:nvPr/>
        </p:nvPicPr>
        <p:blipFill>
          <a:blip r:embed="rId2"/>
          <a:stretch/>
        </p:blipFill>
        <p:spPr>
          <a:xfrm>
            <a:off x="7416720" y="2852640"/>
            <a:ext cx="98640" cy="168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38" descr=""/>
          <p:cNvPicPr/>
          <p:nvPr/>
        </p:nvPicPr>
        <p:blipFill>
          <a:blip r:embed="rId3"/>
          <a:stretch/>
        </p:blipFill>
        <p:spPr>
          <a:xfrm>
            <a:off x="7404120" y="3371760"/>
            <a:ext cx="104760" cy="179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39" descr=""/>
          <p:cNvPicPr/>
          <p:nvPr/>
        </p:nvPicPr>
        <p:blipFill>
          <a:blip r:embed="rId4"/>
          <a:stretch/>
        </p:blipFill>
        <p:spPr>
          <a:xfrm>
            <a:off x="7416720" y="3121200"/>
            <a:ext cx="114480" cy="171360"/>
          </a:xfrm>
          <a:prstGeom prst="rect">
            <a:avLst/>
          </a:prstGeom>
          <a:ln w="0">
            <a:noFill/>
          </a:ln>
        </p:spPr>
      </p:pic>
      <p:sp>
        <p:nvSpPr>
          <p:cNvPr id="957" name="Text Box 41"/>
          <p:cNvSpPr/>
          <p:nvPr/>
        </p:nvSpPr>
        <p:spPr>
          <a:xfrm>
            <a:off x="7544880" y="249084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olidLeft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42"/>
          <p:cNvSpPr/>
          <p:nvPr/>
        </p:nvSpPr>
        <p:spPr>
          <a:xfrm>
            <a:off x="7543440" y="27511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olidRight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43"/>
          <p:cNvSpPr/>
          <p:nvPr/>
        </p:nvSpPr>
        <p:spPr>
          <a:xfrm>
            <a:off x="7544520" y="30430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llowLeft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44"/>
          <p:cNvSpPr/>
          <p:nvPr/>
        </p:nvSpPr>
        <p:spPr>
          <a:xfrm>
            <a:off x="7543080" y="33037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llowRight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9733-CC4E-4A2A-8791-3416659F86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191120" y="2895480"/>
            <a:ext cx="4038480" cy="25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at Happens Behind the Scene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189080" y="1600200"/>
            <a:ext cx="13716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18040" y="175248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rows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195560" y="3809880"/>
            <a:ext cx="13651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559160" y="4067280"/>
            <a:ext cx="67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72520" y="3048120"/>
            <a:ext cx="139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"Counter.aspx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225320" y="297180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1646280" y="2444760"/>
            <a:ext cx="0" cy="1365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0"/>
          <p:cNvSpPr/>
          <p:nvPr/>
        </p:nvSpPr>
        <p:spPr>
          <a:xfrm>
            <a:off x="4191120" y="5638680"/>
            <a:ext cx="40384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5313960" y="571500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.NET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51"/>
          <p:cNvGrpSpPr/>
          <p:nvPr/>
        </p:nvGrpSpPr>
        <p:grpSpPr>
          <a:xfrm>
            <a:off x="1874520" y="2438280"/>
            <a:ext cx="4145040" cy="2974320"/>
            <a:chOff x="1874520" y="2438280"/>
            <a:chExt cx="4145040" cy="2974320"/>
          </a:xfrm>
        </p:grpSpPr>
        <p:sp>
          <p:nvSpPr>
            <p:cNvPr id="97" name="Text Box 11"/>
            <p:cNvSpPr/>
            <p:nvPr/>
          </p:nvSpPr>
          <p:spPr>
            <a:xfrm>
              <a:off x="1874520" y="3048120"/>
              <a:ext cx="80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*.htm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1874880" y="2438280"/>
              <a:ext cx="144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 flipH="1">
              <a:off x="2590560" y="51055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32"/>
            <p:cNvSpPr/>
            <p:nvPr/>
          </p:nvSpPr>
          <p:spPr>
            <a:xfrm>
              <a:off x="3471480" y="5105520"/>
              <a:ext cx="6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*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Line 35"/>
          <p:cNvSpPr/>
          <p:nvPr/>
        </p:nvSpPr>
        <p:spPr>
          <a:xfrm>
            <a:off x="457200" y="27432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9"/>
          <p:cNvGrpSpPr/>
          <p:nvPr/>
        </p:nvGrpSpPr>
        <p:grpSpPr>
          <a:xfrm>
            <a:off x="5334120" y="3429000"/>
            <a:ext cx="2679120" cy="990360"/>
            <a:chOff x="5334120" y="3429000"/>
            <a:chExt cx="2679120" cy="990360"/>
          </a:xfrm>
        </p:grpSpPr>
        <p:sp>
          <p:nvSpPr>
            <p:cNvPr id="103" name="AutoShape 21"/>
            <p:cNvSpPr/>
            <p:nvPr/>
          </p:nvSpPr>
          <p:spPr>
            <a:xfrm flipH="1" rot="10800000">
              <a:off x="6019920" y="4038120"/>
              <a:ext cx="1371600" cy="381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6194160" y="4038480"/>
              <a:ext cx="10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ge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5334120" y="4114800"/>
              <a:ext cx="68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36"/>
            <p:cNvSpPr/>
            <p:nvPr/>
          </p:nvSpPr>
          <p:spPr>
            <a:xfrm>
              <a:off x="6707880" y="3429000"/>
              <a:ext cx="130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eprocesso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37"/>
            <p:cNvSpPr/>
            <p:nvPr/>
          </p:nvSpPr>
          <p:spPr>
            <a:xfrm>
              <a:off x="6707880" y="36576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42"/>
            <p:cNvSpPr/>
            <p:nvPr/>
          </p:nvSpPr>
          <p:spPr>
            <a:xfrm>
              <a:off x="6705720" y="3429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50"/>
          <p:cNvGrpSpPr/>
          <p:nvPr/>
        </p:nvGrpSpPr>
        <p:grpSpPr>
          <a:xfrm>
            <a:off x="6019920" y="4419720"/>
            <a:ext cx="1371600" cy="914400"/>
            <a:chOff x="6019920" y="4419720"/>
            <a:chExt cx="1371600" cy="914400"/>
          </a:xfrm>
        </p:grpSpPr>
        <p:sp>
          <p:nvSpPr>
            <p:cNvPr id="110" name="Text Box 38"/>
            <p:cNvSpPr/>
            <p:nvPr/>
          </p:nvSpPr>
          <p:spPr>
            <a:xfrm>
              <a:off x="6707160" y="449568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40"/>
            <p:cNvSpPr/>
            <p:nvPr/>
          </p:nvSpPr>
          <p:spPr>
            <a:xfrm>
              <a:off x="6019920" y="4952880"/>
              <a:ext cx="1371600" cy="3812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41"/>
            <p:cNvSpPr/>
            <p:nvPr/>
          </p:nvSpPr>
          <p:spPr>
            <a:xfrm>
              <a:off x="6141600" y="4952880"/>
              <a:ext cx="111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ge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6705720" y="4419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48"/>
          <p:cNvGrpSpPr/>
          <p:nvPr/>
        </p:nvGrpSpPr>
        <p:grpSpPr>
          <a:xfrm>
            <a:off x="2513160" y="3048120"/>
            <a:ext cx="4878360" cy="1068840"/>
            <a:chOff x="2513160" y="3048120"/>
            <a:chExt cx="4878360" cy="1068840"/>
          </a:xfrm>
        </p:grpSpPr>
        <p:sp>
          <p:nvSpPr>
            <p:cNvPr id="115" name="AutoShape 15"/>
            <p:cNvSpPr/>
            <p:nvPr/>
          </p:nvSpPr>
          <p:spPr>
            <a:xfrm flipH="1" rot="10800000">
              <a:off x="6019920" y="3048120"/>
              <a:ext cx="1371600" cy="380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4"/>
            <p:cNvSpPr/>
            <p:nvPr/>
          </p:nvSpPr>
          <p:spPr>
            <a:xfrm>
              <a:off x="6097680" y="3048120"/>
              <a:ext cx="125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unter.asp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2590920" y="4114800"/>
              <a:ext cx="2666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33"/>
            <p:cNvSpPr/>
            <p:nvPr/>
          </p:nvSpPr>
          <p:spPr>
            <a:xfrm>
              <a:off x="2513160" y="3809880"/>
              <a:ext cx="127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Counter.aspx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 flipV="1">
              <a:off x="5334120" y="3352320"/>
              <a:ext cx="685800" cy="68580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Line 47"/>
          <p:cNvSpPr/>
          <p:nvPr/>
        </p:nvSpPr>
        <p:spPr>
          <a:xfrm>
            <a:off x="67057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0D10-04A0-43B7-9A3F-FA04C25653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ustom Controls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 (Usage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685800" y="1457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Must be compiled into a DLL, which has to be stored in the </a:t>
            </a:r>
            <a:r>
              <a:rPr b="0" i="1" lang="de-AT" sz="2000" spc="-1" strike="noStrike">
                <a:solidFill>
                  <a:srgbClr val="000000"/>
                </a:solidFill>
                <a:latin typeface="Times New Roman"/>
              </a:rPr>
              <a:t>\bin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990720" y="1925640"/>
            <a:ext cx="624816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sc /target:library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/out:bin/Fold.d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old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8"/>
          <p:cNvGrpSpPr/>
          <p:nvPr/>
        </p:nvGrpSpPr>
        <p:grpSpPr>
          <a:xfrm>
            <a:off x="685800" y="2655720"/>
            <a:ext cx="7772400" cy="2054160"/>
            <a:chOff x="685800" y="2655720"/>
            <a:chExt cx="7772400" cy="2054160"/>
          </a:xfrm>
        </p:grpSpPr>
        <p:sp>
          <p:nvSpPr>
            <p:cNvPr id="966" name="Rectangle 9"/>
            <p:cNvSpPr/>
            <p:nvPr/>
          </p:nvSpPr>
          <p:spPr>
            <a:xfrm>
              <a:off x="685800" y="2655720"/>
              <a:ext cx="77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imes New Roman"/>
                </a:rPr>
                <a:t>Used as follo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10"/>
            <p:cNvSpPr/>
            <p:nvPr/>
          </p:nvSpPr>
          <p:spPr>
            <a:xfrm>
              <a:off x="990720" y="3124080"/>
              <a:ext cx="62481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57780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@ Page Language="C#" %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57780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@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ff3300"/>
                  </a:solidFill>
                  <a:latin typeface="Arial"/>
                </a:rPr>
                <a:t>TagPrefix="my" Namespace="Folds" Assembly="Fold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%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57780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html&gt; &lt;bod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57780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orm Runat="server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57780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ff3300"/>
                  </a:solidFill>
                  <a:latin typeface="Arial"/>
                </a:rPr>
                <a:t>my:Fol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ext="..." AlternateText="..."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57780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fo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57780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body&gt; &lt;/htm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1066680" y="426708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016E-078E-47CE-BAE4-7B55DC4019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30"/>
          <p:cNvSpPr/>
          <p:nvPr/>
        </p:nvSpPr>
        <p:spPr>
          <a:xfrm>
            <a:off x="6934320" y="3657600"/>
            <a:ext cx="15238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22"/>
          <p:cNvSpPr/>
          <p:nvPr/>
        </p:nvSpPr>
        <p:spPr>
          <a:xfrm>
            <a:off x="3962520" y="5378400"/>
            <a:ext cx="17524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16"/>
          <p:cNvSpPr/>
          <p:nvPr/>
        </p:nvSpPr>
        <p:spPr>
          <a:xfrm>
            <a:off x="3962520" y="3962520"/>
            <a:ext cx="175248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3 Kinds of Sta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3300"/>
                </a:solidFill>
                <a:latin typeface="Times New Roman"/>
              </a:rPr>
              <a:t>Pag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contents of TextBoxes, state of CheckBoxe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3300"/>
                </a:solidFill>
                <a:latin typeface="Times New Roman"/>
              </a:rPr>
              <a:t>Session state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all requests from the same client within a certain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shopping cart, email address of a client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3300"/>
                </a:solidFill>
                <a:latin typeface="Times New Roman"/>
              </a:rPr>
              <a:t>Application stat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all aspx files in the same virtual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configuration data, number of session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914400" y="3886200"/>
            <a:ext cx="380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5"/>
          <p:cNvSpPr/>
          <p:nvPr/>
        </p:nvSpPr>
        <p:spPr>
          <a:xfrm>
            <a:off x="6172200" y="3886200"/>
            <a:ext cx="3808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915480" y="3886200"/>
            <a:ext cx="316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295280" y="4114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8"/>
          <p:cNvSpPr/>
          <p:nvPr/>
        </p:nvSpPr>
        <p:spPr>
          <a:xfrm>
            <a:off x="1452960" y="38098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quest + </a:t>
            </a: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pag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1294920" y="44197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0"/>
          <p:cNvSpPr/>
          <p:nvPr/>
        </p:nvSpPr>
        <p:spPr>
          <a:xfrm>
            <a:off x="1452240" y="4159080"/>
            <a:ext cx="19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ponse + </a:t>
            </a: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pag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181920" y="4556160"/>
            <a:ext cx="293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4219920" y="47242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sessi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4"/>
          <p:cNvSpPr/>
          <p:nvPr/>
        </p:nvSpPr>
        <p:spPr>
          <a:xfrm>
            <a:off x="1295280" y="4572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5"/>
          <p:cNvSpPr/>
          <p:nvPr/>
        </p:nvSpPr>
        <p:spPr>
          <a:xfrm flipH="1">
            <a:off x="1294920" y="47242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8"/>
          <p:cNvSpPr/>
          <p:nvPr/>
        </p:nvSpPr>
        <p:spPr>
          <a:xfrm>
            <a:off x="1295280" y="55306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9"/>
          <p:cNvSpPr/>
          <p:nvPr/>
        </p:nvSpPr>
        <p:spPr>
          <a:xfrm flipH="1">
            <a:off x="1294920" y="56833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0"/>
          <p:cNvSpPr/>
          <p:nvPr/>
        </p:nvSpPr>
        <p:spPr>
          <a:xfrm>
            <a:off x="1295280" y="58356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21"/>
          <p:cNvSpPr/>
          <p:nvPr/>
        </p:nvSpPr>
        <p:spPr>
          <a:xfrm flipH="1">
            <a:off x="1294920" y="59878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3"/>
          <p:cNvSpPr/>
          <p:nvPr/>
        </p:nvSpPr>
        <p:spPr>
          <a:xfrm>
            <a:off x="4219920" y="59878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sessi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4"/>
          <p:cNvSpPr/>
          <p:nvPr/>
        </p:nvSpPr>
        <p:spPr>
          <a:xfrm>
            <a:off x="7074360" y="3871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/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5"/>
          <p:cNvSpPr/>
          <p:nvPr/>
        </p:nvSpPr>
        <p:spPr>
          <a:xfrm>
            <a:off x="7375320" y="42354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6"/>
          <p:cNvSpPr/>
          <p:nvPr/>
        </p:nvSpPr>
        <p:spPr>
          <a:xfrm>
            <a:off x="7392960" y="45403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y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7"/>
          <p:cNvSpPr/>
          <p:nvPr/>
        </p:nvSpPr>
        <p:spPr>
          <a:xfrm>
            <a:off x="7393320" y="484488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8"/>
          <p:cNvSpPr/>
          <p:nvPr/>
        </p:nvSpPr>
        <p:spPr>
          <a:xfrm>
            <a:off x="4421520" y="365760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9"/>
          <p:cNvSpPr/>
          <p:nvPr/>
        </p:nvSpPr>
        <p:spPr>
          <a:xfrm>
            <a:off x="4421520" y="510552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31"/>
          <p:cNvSpPr/>
          <p:nvPr/>
        </p:nvSpPr>
        <p:spPr>
          <a:xfrm>
            <a:off x="914400" y="5241960"/>
            <a:ext cx="380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32"/>
          <p:cNvSpPr/>
          <p:nvPr/>
        </p:nvSpPr>
        <p:spPr>
          <a:xfrm>
            <a:off x="915480" y="5241960"/>
            <a:ext cx="316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33"/>
          <p:cNvSpPr/>
          <p:nvPr/>
        </p:nvSpPr>
        <p:spPr>
          <a:xfrm>
            <a:off x="7121520" y="537840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3300"/>
                </a:solidFill>
                <a:latin typeface="Times New Roman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34"/>
          <p:cNvSpPr/>
          <p:nvPr/>
        </p:nvSpPr>
        <p:spPr>
          <a:xfrm>
            <a:off x="7088400" y="335268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35"/>
          <p:cNvSpPr/>
          <p:nvPr/>
        </p:nvSpPr>
        <p:spPr>
          <a:xfrm>
            <a:off x="723888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36"/>
          <p:cNvSpPr/>
          <p:nvPr/>
        </p:nvSpPr>
        <p:spPr>
          <a:xfrm>
            <a:off x="72388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37"/>
          <p:cNvSpPr/>
          <p:nvPr/>
        </p:nvSpPr>
        <p:spPr>
          <a:xfrm>
            <a:off x="7238880" y="472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38"/>
          <p:cNvSpPr/>
          <p:nvPr/>
        </p:nvSpPr>
        <p:spPr>
          <a:xfrm>
            <a:off x="72388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1824-FEA5-480C-818E-5CA2840E1B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Access State Inform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ag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ing: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ViewSt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"counter"] = counter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counterVal = (int)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ViewSt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"counter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ession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ing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Sess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"cart"] = shoppingCar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ing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ataTable shoppingCart = (DataTable)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Sess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"cart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Application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ing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Applica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"database"] = database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databaseName = (string)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Applica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"database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4"/>
          <p:cNvSpPr/>
          <p:nvPr/>
        </p:nvSpPr>
        <p:spPr>
          <a:xfrm>
            <a:off x="718920" y="5649840"/>
            <a:ext cx="56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iewSta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properties of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3761-F724-478E-83F4-F2D1C9C3D2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2" name="Text Box 3"/>
          <p:cNvSpPr/>
          <p:nvPr/>
        </p:nvSpPr>
        <p:spPr>
          <a:xfrm>
            <a:off x="719280" y="1366920"/>
            <a:ext cx="463680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TemplateContro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 Validator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idato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sVal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sPostB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mplateSourceDirector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HttpApplicationStat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HttpSessionStat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HttpReques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HttpRespons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pPa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virtualPat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irtual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id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"/>
          <p:cNvSpPr/>
          <p:nvPr/>
        </p:nvSpPr>
        <p:spPr>
          <a:xfrm>
            <a:off x="5585400" y="12700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s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5"/>
          <p:cNvSpPr/>
          <p:nvPr/>
        </p:nvSpPr>
        <p:spPr>
          <a:xfrm>
            <a:off x="5864760" y="1546200"/>
            <a:ext cx="25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ue, if none of the valid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 the page reported an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6"/>
          <p:cNvSpPr/>
          <p:nvPr/>
        </p:nvSpPr>
        <p:spPr>
          <a:xfrm>
            <a:off x="5585040" y="217008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sPost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7"/>
          <p:cNvSpPr/>
          <p:nvPr/>
        </p:nvSpPr>
        <p:spPr>
          <a:xfrm>
            <a:off x="5865840" y="2446200"/>
            <a:ext cx="2850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ue, if the page was sent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rver in a round trip. If th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as requested for the firs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sPostBack == 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8"/>
          <p:cNvSpPr/>
          <p:nvPr/>
        </p:nvSpPr>
        <p:spPr>
          <a:xfrm>
            <a:off x="5588280" y="3576600"/>
            <a:ext cx="24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TemplateSource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9"/>
          <p:cNvSpPr/>
          <p:nvPr/>
        </p:nvSpPr>
        <p:spPr>
          <a:xfrm>
            <a:off x="5865120" y="3852720"/>
            <a:ext cx="216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urrent virtual director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.B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/Sample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0"/>
          <p:cNvSpPr/>
          <p:nvPr/>
        </p:nvSpPr>
        <p:spPr>
          <a:xfrm>
            <a:off x="5586840" y="447660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1"/>
          <p:cNvSpPr/>
          <p:nvPr/>
        </p:nvSpPr>
        <p:spPr>
          <a:xfrm>
            <a:off x="5864760" y="475308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pplication state and sessi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2"/>
          <p:cNvSpPr/>
          <p:nvPr/>
        </p:nvSpPr>
        <p:spPr>
          <a:xfrm>
            <a:off x="5585760" y="537516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nd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3"/>
          <p:cNvSpPr/>
          <p:nvPr/>
        </p:nvSpPr>
        <p:spPr>
          <a:xfrm>
            <a:off x="5862240" y="5651640"/>
            <a:ext cx="29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 request and 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755640" y="512604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MapPath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virtP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5"/>
          <p:cNvSpPr/>
          <p:nvPr/>
        </p:nvSpPr>
        <p:spPr>
          <a:xfrm>
            <a:off x="1034640" y="5402160"/>
            <a:ext cx="38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ps the virtual directory to the physical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6"/>
          <p:cNvSpPr/>
          <p:nvPr/>
        </p:nvSpPr>
        <p:spPr>
          <a:xfrm>
            <a:off x="754560" y="57801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Valida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7"/>
          <p:cNvSpPr/>
          <p:nvPr/>
        </p:nvSpPr>
        <p:spPr>
          <a:xfrm>
            <a:off x="1032840" y="605628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rts all validators on th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C44F-E0BF-474F-BF58-9B709C814E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HttpReques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721800" y="1366920"/>
            <a:ext cx="456660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ttpReque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UserHost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UserHostAddre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ttpMetho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HttpBrowserCapabilitie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NameValue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NameValue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NameValue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oki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NameValue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rverVariabl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4"/>
          <p:cNvSpPr/>
          <p:nvPr/>
        </p:nvSpPr>
        <p:spPr>
          <a:xfrm>
            <a:off x="5586840" y="127008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UserHost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5864760" y="15462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main name of the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6"/>
          <p:cNvSpPr/>
          <p:nvPr/>
        </p:nvSpPr>
        <p:spPr>
          <a:xfrm>
            <a:off x="5587200" y="189864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UserHost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5864400" y="217476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P number of the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8"/>
          <p:cNvSpPr/>
          <p:nvPr/>
        </p:nvSpPr>
        <p:spPr>
          <a:xfrm>
            <a:off x="721440" y="4179960"/>
            <a:ext cx="6180480" cy="17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= "address = " +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quest.UserHostAddre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= "method = " +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quest.HttpMetho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= "browser = " +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quest.Browser.Brow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= "version = " +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quest.Browser.Vers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= "supports JS = " +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quest.Browser.JavaScrip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= "server = " +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quest.ServerVariables["SERVER_SOFTWARE"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9"/>
          <p:cNvSpPr/>
          <p:nvPr/>
        </p:nvSpPr>
        <p:spPr>
          <a:xfrm>
            <a:off x="6910200" y="4181400"/>
            <a:ext cx="2184840" cy="13726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ress = 127.0.0.1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od = GET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owser = IE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ersion = 6.0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pports JS = 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rver = Microsoft-IIS/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1E24-AD3E-4F51-BAAA-B76859D712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ttpRequest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Request and Form Parameters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8" name="Text Box 3"/>
          <p:cNvSpPr/>
          <p:nvPr/>
        </p:nvSpPr>
        <p:spPr>
          <a:xfrm>
            <a:off x="674280" y="1106640"/>
            <a:ext cx="636372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text1" Runat="server" /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text2" Runat="server" /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checkbox" Text="box" Runat="server" /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button" Text="Send" OnClick="DoClick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lab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4"/>
          <p:cNvSpPr/>
          <p:nvPr/>
        </p:nvSpPr>
        <p:spPr>
          <a:xfrm>
            <a:off x="692280" y="2822400"/>
            <a:ext cx="6350040" cy="17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oCli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.Text = "Query string&lt;b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foreach (string par in Request.QueryString.Ke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ab.Text += par + " = " + Request.QueryString[par] + "&lt;b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.Text += "&lt;br&gt;Form parameters&lt;b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foreach (string par in Request.Form.Ke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lab.Text += par + " = " + Request.Form[par] + "&lt;b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5019120" y="4718160"/>
            <a:ext cx="3295440" cy="201204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Query string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par1 = 123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par2 = Hello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orm parameters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__VIEWSTATE = dDwxMTYxMTk1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xt1 = John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xt2 = Miller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heckbox = on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button = S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8" descr=""/>
          <p:cNvPicPr/>
          <p:nvPr/>
        </p:nvPicPr>
        <p:blipFill>
          <a:blip r:embed="rId1"/>
          <a:stretch/>
        </p:blipFill>
        <p:spPr>
          <a:xfrm>
            <a:off x="677880" y="4721400"/>
            <a:ext cx="419112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F7B0-B986-4D5F-867C-AE314F1E1F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HttpRespons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4" name="Text Box 3"/>
          <p:cNvSpPr/>
          <p:nvPr/>
        </p:nvSpPr>
        <p:spPr>
          <a:xfrm>
            <a:off x="714960" y="1238400"/>
            <a:ext cx="488196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ttpRespon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tent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extWrit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usC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HttpCookieCollectio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oki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get; set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s); // various overloaded ver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dire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ewUR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4"/>
          <p:cNvSpPr/>
          <p:nvPr/>
        </p:nvSpPr>
        <p:spPr>
          <a:xfrm>
            <a:off x="5585760" y="114156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ontent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5"/>
          <p:cNvSpPr/>
          <p:nvPr/>
        </p:nvSpPr>
        <p:spPr>
          <a:xfrm>
            <a:off x="5866560" y="141768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IME type (e.g. text/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6"/>
          <p:cNvSpPr/>
          <p:nvPr/>
        </p:nvSpPr>
        <p:spPr>
          <a:xfrm>
            <a:off x="5586840" y="177012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"/>
          <p:cNvSpPr/>
          <p:nvPr/>
        </p:nvSpPr>
        <p:spPr>
          <a:xfrm>
            <a:off x="5865120" y="2046240"/>
            <a:ext cx="27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ML response stream;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ten to with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5585760" y="26128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atus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5860440" y="2889360"/>
            <a:ext cx="220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200 for "ok"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04 for "page not foun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Group 16"/>
          <p:cNvGrpSpPr/>
          <p:nvPr/>
        </p:nvGrpSpPr>
        <p:grpSpPr>
          <a:xfrm>
            <a:off x="680040" y="3967200"/>
            <a:ext cx="8263800" cy="2766960"/>
            <a:chOff x="680040" y="3967200"/>
            <a:chExt cx="8263800" cy="2766960"/>
          </a:xfrm>
        </p:grpSpPr>
        <p:sp>
          <p:nvSpPr>
            <p:cNvPr id="1052" name="Text Box 10"/>
            <p:cNvSpPr/>
            <p:nvPr/>
          </p:nvSpPr>
          <p:spPr>
            <a:xfrm>
              <a:off x="733680" y="4282920"/>
              <a:ext cx="540648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orm Runat="server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: &lt;asp:TextBox ID="name"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utt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ext="Send" OnClick="DoClick" Runat="server" 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fo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oCli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object sender, EventArgs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</a:rPr>
                <a:t>Response.Redirec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"Welcome.aspx?name=" + name.Tex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3" name="Picture 11" descr=""/>
            <p:cNvPicPr/>
            <p:nvPr/>
          </p:nvPicPr>
          <p:blipFill>
            <a:blip r:embed="rId1"/>
            <a:stretch/>
          </p:blipFill>
          <p:spPr>
            <a:xfrm>
              <a:off x="6210360" y="4268880"/>
              <a:ext cx="273348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Text Box 12"/>
            <p:cNvSpPr/>
            <p:nvPr/>
          </p:nvSpPr>
          <p:spPr>
            <a:xfrm>
              <a:off x="747720" y="6426360"/>
              <a:ext cx="5369040" cy="307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elcome &lt;%= Request.QueryString["name"] %&gt; 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13"/>
            <p:cNvSpPr/>
            <p:nvPr/>
          </p:nvSpPr>
          <p:spPr>
            <a:xfrm>
              <a:off x="680040" y="396720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est1.asp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14"/>
            <p:cNvSpPr/>
            <p:nvPr/>
          </p:nvSpPr>
          <p:spPr>
            <a:xfrm>
              <a:off x="680760" y="6130800"/>
              <a:ext cx="13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Welcome.asp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7" name="Picture 15" descr=""/>
            <p:cNvPicPr/>
            <p:nvPr/>
          </p:nvPicPr>
          <p:blipFill>
            <a:blip r:embed="rId2"/>
            <a:stretch/>
          </p:blipFill>
          <p:spPr>
            <a:xfrm>
              <a:off x="6222960" y="5867280"/>
              <a:ext cx="2705040" cy="8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1066680" y="462276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FC8-5AB4-4D8D-9078-0C819146E3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1031"/>
          <p:cNvSpPr/>
          <p:nvPr/>
        </p:nvSpPr>
        <p:spPr>
          <a:xfrm>
            <a:off x="3341520" y="2095560"/>
            <a:ext cx="1175040" cy="88416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034"/>
          <p:cNvSpPr/>
          <p:nvPr/>
        </p:nvSpPr>
        <p:spPr>
          <a:xfrm>
            <a:off x="4865760" y="2095560"/>
            <a:ext cx="1174680" cy="111744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achine.config and web.confi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4" name="Text Box 1027"/>
          <p:cNvSpPr/>
          <p:nvPr/>
        </p:nvSpPr>
        <p:spPr>
          <a:xfrm>
            <a:off x="942120" y="2041560"/>
            <a:ext cx="143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machine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028"/>
          <p:cNvSpPr/>
          <p:nvPr/>
        </p:nvSpPr>
        <p:spPr>
          <a:xfrm>
            <a:off x="957240" y="2109960"/>
            <a:ext cx="1438200" cy="52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29"/>
          <p:cNvSpPr/>
          <p:nvPr/>
        </p:nvSpPr>
        <p:spPr>
          <a:xfrm>
            <a:off x="939600" y="17938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0"/>
          <p:cNvSpPr/>
          <p:nvPr/>
        </p:nvSpPr>
        <p:spPr>
          <a:xfrm>
            <a:off x="3396240" y="2143080"/>
            <a:ext cx="108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y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2"/>
          <p:cNvSpPr/>
          <p:nvPr/>
        </p:nvSpPr>
        <p:spPr>
          <a:xfrm>
            <a:off x="3250440" y="179388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p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033"/>
          <p:cNvSpPr/>
          <p:nvPr/>
        </p:nvSpPr>
        <p:spPr>
          <a:xfrm>
            <a:off x="4920480" y="2143080"/>
            <a:ext cx="108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035"/>
          <p:cNvSpPr/>
          <p:nvPr/>
        </p:nvSpPr>
        <p:spPr>
          <a:xfrm>
            <a:off x="4774320" y="179388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p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036"/>
          <p:cNvSpPr/>
          <p:nvPr/>
        </p:nvSpPr>
        <p:spPr>
          <a:xfrm>
            <a:off x="6267960" y="337500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1037"/>
          <p:cNvSpPr/>
          <p:nvPr/>
        </p:nvSpPr>
        <p:spPr>
          <a:xfrm>
            <a:off x="6213600" y="3327480"/>
            <a:ext cx="1174680" cy="696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038"/>
          <p:cNvSpPr/>
          <p:nvPr/>
        </p:nvSpPr>
        <p:spPr>
          <a:xfrm>
            <a:off x="6123240" y="30258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039"/>
          <p:cNvSpPr/>
          <p:nvPr/>
        </p:nvSpPr>
        <p:spPr>
          <a:xfrm>
            <a:off x="5605560" y="2820960"/>
            <a:ext cx="784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040"/>
          <p:cNvSpPr/>
          <p:nvPr/>
        </p:nvSpPr>
        <p:spPr>
          <a:xfrm>
            <a:off x="6389640" y="2820960"/>
            <a:ext cx="0" cy="246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041"/>
          <p:cNvSpPr/>
          <p:nvPr/>
        </p:nvSpPr>
        <p:spPr>
          <a:xfrm>
            <a:off x="3630240" y="343548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irtual direc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1042"/>
          <p:cNvSpPr/>
          <p:nvPr/>
        </p:nvSpPr>
        <p:spPr>
          <a:xfrm>
            <a:off x="3965400" y="3081240"/>
            <a:ext cx="333720" cy="3351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043"/>
          <p:cNvSpPr/>
          <p:nvPr/>
        </p:nvSpPr>
        <p:spPr>
          <a:xfrm flipV="1">
            <a:off x="4894200" y="3270240"/>
            <a:ext cx="231840" cy="2332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1044"/>
          <p:cNvSpPr/>
          <p:nvPr/>
        </p:nvSpPr>
        <p:spPr>
          <a:xfrm flipV="1">
            <a:off x="1828800" y="1385640"/>
            <a:ext cx="127800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045"/>
          <p:cNvSpPr/>
          <p:nvPr/>
        </p:nvSpPr>
        <p:spPr>
          <a:xfrm flipH="1" flipV="1">
            <a:off x="3758760" y="1386000"/>
            <a:ext cx="155268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046"/>
          <p:cNvSpPr/>
          <p:nvPr/>
        </p:nvSpPr>
        <p:spPr>
          <a:xfrm flipH="1" flipV="1">
            <a:off x="3425400" y="1370160"/>
            <a:ext cx="42840" cy="434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047"/>
          <p:cNvSpPr/>
          <p:nvPr/>
        </p:nvSpPr>
        <p:spPr>
          <a:xfrm>
            <a:off x="794520" y="409572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achine.conf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048"/>
          <p:cNvSpPr/>
          <p:nvPr/>
        </p:nvSpPr>
        <p:spPr>
          <a:xfrm>
            <a:off x="2732760" y="4133880"/>
            <a:ext cx="363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configuration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d in the .NET Framework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049"/>
          <p:cNvSpPr/>
          <p:nvPr/>
        </p:nvSpPr>
        <p:spPr>
          <a:xfrm>
            <a:off x="794880" y="48657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050"/>
          <p:cNvSpPr/>
          <p:nvPr/>
        </p:nvSpPr>
        <p:spPr>
          <a:xfrm>
            <a:off x="2736360" y="4903920"/>
            <a:ext cx="5322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pecific configuration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d in a virtual directory or in its subdirec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verwrites configurations from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achine.confi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r from othe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figuration files further up the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052"/>
          <p:cNvSpPr/>
          <p:nvPr/>
        </p:nvSpPr>
        <p:spPr>
          <a:xfrm>
            <a:off x="788400" y="6140520"/>
            <a:ext cx="33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figuration files are written in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4B99-661E-472D-92CA-70CABE87C4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TML Code Returned by the Serv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6800" y="1941480"/>
            <a:ext cx="3748320" cy="2864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Page Language="C#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Import Namespace="System.IO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&lt;title&gt;Page Counter&lt;/title&gt;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1&gt;Welcome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ou are visitor number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leStream s = new FileStream(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Response.Write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%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792680" y="374508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oes not contain any scrip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ny browser can display this 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844160" y="1941480"/>
            <a:ext cx="371016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&lt;title&gt;Page counter&lt;/title&gt;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1&gt;Welcome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ou are visitor number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51320" y="148428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817160" y="148428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turned HTML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B85C-272D-4B2C-9CB1-ED22511BFD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Application Paramet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9" name="Text Box 3"/>
          <p:cNvSpPr/>
          <p:nvPr/>
        </p:nvSpPr>
        <p:spPr>
          <a:xfrm>
            <a:off x="768240" y="1492200"/>
            <a:ext cx="373896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appSetting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dd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key="author" value="hm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dd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key="organisation" value="JKU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ppSetting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722520" y="117792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Group 8"/>
          <p:cNvGrpSpPr/>
          <p:nvPr/>
        </p:nvGrpSpPr>
        <p:grpSpPr>
          <a:xfrm>
            <a:off x="739440" y="3733920"/>
            <a:ext cx="7590240" cy="2303640"/>
            <a:chOff x="739440" y="3733920"/>
            <a:chExt cx="7590240" cy="2303640"/>
          </a:xfrm>
        </p:grpSpPr>
        <p:sp>
          <p:nvSpPr>
            <p:cNvPr id="1092" name="Text Box 5"/>
            <p:cNvSpPr/>
            <p:nvPr/>
          </p:nvSpPr>
          <p:spPr>
            <a:xfrm>
              <a:off x="739440" y="3733920"/>
              <a:ext cx="309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accessed in ASP.NET 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756000" y="4238640"/>
              <a:ext cx="707976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@Page Language="C#" %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@ Impor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Namespace="System.Configuration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%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htm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bod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= "author = " + 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</a:rPr>
                <a:t>ConfigurationSettings.AppSettings["author"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%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%= "organisation = " + 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</a:rPr>
                <a:t>ConfigurationSettings.AppSettings["organisation"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%&gt;&lt;b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bod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/htm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4" name="Picture 7" descr=""/>
            <p:cNvPicPr/>
            <p:nvPr/>
          </p:nvPicPr>
          <p:blipFill>
            <a:blip r:embed="rId1"/>
            <a:stretch/>
          </p:blipFill>
          <p:spPr>
            <a:xfrm>
              <a:off x="6738840" y="3963960"/>
              <a:ext cx="1590840" cy="101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8B3-BA97-4F42-B39B-A0FD2F6BE5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Trac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765000" y="1278000"/>
            <a:ext cx="400716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system.we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trac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nabled="true" pageOutput=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Picture 6" descr=""/>
          <p:cNvPicPr/>
          <p:nvPr/>
        </p:nvPicPr>
        <p:blipFill>
          <a:blip r:embed="rId1"/>
          <a:stretch/>
        </p:blipFill>
        <p:spPr>
          <a:xfrm>
            <a:off x="804960" y="3514680"/>
            <a:ext cx="3848040" cy="3314880"/>
          </a:xfrm>
          <a:prstGeom prst="rect">
            <a:avLst/>
          </a:prstGeom>
          <a:ln w="0">
            <a:noFill/>
          </a:ln>
        </p:spPr>
      </p:pic>
      <p:sp>
        <p:nvSpPr>
          <p:cNvPr id="1099" name="Text Box 7"/>
          <p:cNvSpPr/>
          <p:nvPr/>
        </p:nvSpPr>
        <p:spPr>
          <a:xfrm>
            <a:off x="815040" y="318132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ives detailed error diagno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8"/>
          <p:cNvSpPr/>
          <p:nvPr/>
        </p:nvSpPr>
        <p:spPr>
          <a:xfrm>
            <a:off x="754200" y="6138720"/>
            <a:ext cx="1757160" cy="493920"/>
          </a:xfrm>
          <a:prstGeom prst="ellipse">
            <a:avLst/>
          </a:prstGeom>
          <a:noFill/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Picture 9" descr=""/>
          <p:cNvPicPr/>
          <p:nvPr/>
        </p:nvPicPr>
        <p:blipFill>
          <a:blip r:embed="rId2"/>
          <a:stretch/>
        </p:blipFill>
        <p:spPr>
          <a:xfrm>
            <a:off x="4883040" y="3514680"/>
            <a:ext cx="3848040" cy="3314880"/>
          </a:xfrm>
          <a:prstGeom prst="rect">
            <a:avLst/>
          </a:prstGeom>
          <a:ln w="0">
            <a:noFill/>
          </a:ln>
        </p:spPr>
      </p:pic>
      <p:sp>
        <p:nvSpPr>
          <p:cNvPr id="1102" name="Text Box 10"/>
          <p:cNvSpPr/>
          <p:nvPr/>
        </p:nvSpPr>
        <p:spPr>
          <a:xfrm>
            <a:off x="4895280" y="3181320"/>
            <a:ext cx="30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ws a trace if the page is 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396A-DCB5-4227-8F6E-817CC1A1C6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uthoris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5" name="Text Box 3"/>
          <p:cNvSpPr/>
          <p:nvPr/>
        </p:nvSpPr>
        <p:spPr>
          <a:xfrm>
            <a:off x="680040" y="126216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Who may visit the pages of a specific directo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4"/>
          <p:cNvSpPr/>
          <p:nvPr/>
        </p:nvSpPr>
        <p:spPr>
          <a:xfrm>
            <a:off x="768960" y="2178000"/>
            <a:ext cx="3478680" cy="248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stem.we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authoriza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allo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users="admin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den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users="?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uthor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5"/>
          <p:cNvSpPr/>
          <p:nvPr/>
        </p:nvSpPr>
        <p:spPr>
          <a:xfrm>
            <a:off x="4455360" y="2276640"/>
            <a:ext cx="22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users="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ser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ser2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6"/>
          <p:cNvSpPr/>
          <p:nvPr/>
        </p:nvSpPr>
        <p:spPr>
          <a:xfrm>
            <a:off x="4452840" y="2668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7"/>
          <p:cNvSpPr/>
          <p:nvPr/>
        </p:nvSpPr>
        <p:spPr>
          <a:xfrm>
            <a:off x="5221800" y="266868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8"/>
          <p:cNvSpPr/>
          <p:nvPr/>
        </p:nvSpPr>
        <p:spPr>
          <a:xfrm>
            <a:off x="4453200" y="2987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9"/>
          <p:cNvSpPr/>
          <p:nvPr/>
        </p:nvSpPr>
        <p:spPr>
          <a:xfrm>
            <a:off x="5220720" y="29876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onymous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0"/>
          <p:cNvSpPr/>
          <p:nvPr/>
        </p:nvSpPr>
        <p:spPr>
          <a:xfrm>
            <a:off x="4453560" y="33940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1"/>
          <p:cNvSpPr/>
          <p:nvPr/>
        </p:nvSpPr>
        <p:spPr>
          <a:xfrm>
            <a:off x="5222880" y="339408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who have authent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mselves with this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2"/>
          <p:cNvSpPr/>
          <p:nvPr/>
        </p:nvSpPr>
        <p:spPr>
          <a:xfrm>
            <a:off x="717840" y="1744560"/>
            <a:ext cx="58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directory must have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ile with the following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3"/>
          <p:cNvSpPr/>
          <p:nvPr/>
        </p:nvSpPr>
        <p:spPr>
          <a:xfrm>
            <a:off x="4477680" y="4532400"/>
            <a:ext cx="3720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chine.config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llow users="*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is default if no &lt;allow ...&gt; is specifi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4B69-9504-45AB-B0AF-DB28E8B291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uthent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692280" y="126216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4 ki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722160" y="18176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1930680" y="1817640"/>
            <a:ext cx="224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authent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users are anonymo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6"/>
          <p:cNvSpPr/>
          <p:nvPr/>
        </p:nvSpPr>
        <p:spPr>
          <a:xfrm>
            <a:off x="722520" y="251460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Wind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7"/>
          <p:cNvSpPr/>
          <p:nvPr/>
        </p:nvSpPr>
        <p:spPr>
          <a:xfrm>
            <a:off x="1932480" y="2514600"/>
            <a:ext cx="51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 the login name and the password of the Windows log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kes only sense for local serv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8"/>
          <p:cNvSpPr/>
          <p:nvPr/>
        </p:nvSpPr>
        <p:spPr>
          <a:xfrm>
            <a:off x="722880" y="3240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Pas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9"/>
          <p:cNvSpPr/>
          <p:nvPr/>
        </p:nvSpPr>
        <p:spPr>
          <a:xfrm>
            <a:off x="1940400" y="3240000"/>
            <a:ext cx="645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are redirected to the login page of the Passpor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they can authenticate themselves (with their user name and passwor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0"/>
          <p:cNvSpPr/>
          <p:nvPr/>
        </p:nvSpPr>
        <p:spPr>
          <a:xfrm>
            <a:off x="722880" y="39942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1"/>
          <p:cNvSpPr/>
          <p:nvPr/>
        </p:nvSpPr>
        <p:spPr>
          <a:xfrm>
            <a:off x="1934280" y="3994200"/>
            <a:ext cx="405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are authenticated by a custom login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7C61-E370-4C5D-A2DA-2BABF82873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orms Authentication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nfiguration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9" name="Text Box 3"/>
          <p:cNvSpPr/>
          <p:nvPr/>
        </p:nvSpPr>
        <p:spPr>
          <a:xfrm>
            <a:off x="763920" y="1420920"/>
            <a:ext cx="7617960" cy="40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stem.we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authoriza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den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users="?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uthoriz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ff5050"/>
                </a:solidFill>
                <a:latin typeface="Arial"/>
              </a:rPr>
              <a:t>authentica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mode="Form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form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loginUrl="Login.aspx" name="mycookie" protection="All" timeout="2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credenti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passwordFormat="MD5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name="peter"    password="85C69322756E01FD4A7A22DE55E19743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AT" sz="1400" spc="-1" strike="noStrike">
                <a:solidFill>
                  <a:srgbClr val="009900"/>
                </a:solidFill>
                <a:latin typeface="Arial"/>
              </a:rPr>
              <a:t>u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name="wolfgang" password="85C69322756E01FD4A7A22DE55E19743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redential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uthenti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system.we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configur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6"/>
          <p:cNvSpPr/>
          <p:nvPr/>
        </p:nvSpPr>
        <p:spPr>
          <a:xfrm>
            <a:off x="779760" y="112068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7"/>
          <p:cNvSpPr/>
          <p:nvPr/>
        </p:nvSpPr>
        <p:spPr>
          <a:xfrm>
            <a:off x="2797200" y="4343400"/>
            <a:ext cx="633456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encryptedPwd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msAuthentication.HashPasswordForStoringInConfigFile("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myPw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, "MD5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8"/>
          <p:cNvSpPr/>
          <p:nvPr/>
        </p:nvSpPr>
        <p:spPr>
          <a:xfrm rot="5400000">
            <a:off x="6241320" y="2323080"/>
            <a:ext cx="203040" cy="3379680"/>
          </a:xfrm>
          <a:custGeom>
            <a:avLst/>
            <a:gdLst>
              <a:gd name="textAreaLeft" fmla="*/ 0 w 203040"/>
              <a:gd name="textAreaRight" fmla="*/ 73440 w 203040"/>
              <a:gd name="textAreaTop" fmla="*/ 87840 h 3379680"/>
              <a:gd name="textAreaBottom" fmla="*/ 3291840 h 33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9"/>
          <p:cNvSpPr/>
          <p:nvPr/>
        </p:nvSpPr>
        <p:spPr>
          <a:xfrm>
            <a:off x="714600" y="5765760"/>
            <a:ext cx="70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users "peter" and "wolfgang" as well as their passwords are stored on th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2BD1-FBF2-4E44-BBDA-2823D45FE9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13"/>
          <p:cNvSpPr/>
          <p:nvPr/>
        </p:nvSpPr>
        <p:spPr>
          <a:xfrm>
            <a:off x="4981680" y="1733400"/>
            <a:ext cx="3062160" cy="24973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5199120" y="3243240"/>
            <a:ext cx="2612880" cy="63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uthentication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How it Works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8" name="Text Box 3"/>
          <p:cNvSpPr/>
          <p:nvPr/>
        </p:nvSpPr>
        <p:spPr>
          <a:xfrm>
            <a:off x="5178240" y="323676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eny users="?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forms loginUrl="Login.aspx" ..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5139000" y="292752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5199120" y="2212920"/>
            <a:ext cx="784080" cy="63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8"/>
          <p:cNvSpPr/>
          <p:nvPr/>
        </p:nvSpPr>
        <p:spPr>
          <a:xfrm>
            <a:off x="5139000" y="18972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9"/>
          <p:cNvSpPr/>
          <p:nvPr/>
        </p:nvSpPr>
        <p:spPr>
          <a:xfrm>
            <a:off x="6113520" y="2212920"/>
            <a:ext cx="784080" cy="63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10"/>
          <p:cNvSpPr/>
          <p:nvPr/>
        </p:nvSpPr>
        <p:spPr>
          <a:xfrm>
            <a:off x="6053400" y="18972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11"/>
          <p:cNvSpPr/>
          <p:nvPr/>
        </p:nvSpPr>
        <p:spPr>
          <a:xfrm>
            <a:off x="7027920" y="2212920"/>
            <a:ext cx="784080" cy="63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12"/>
          <p:cNvSpPr/>
          <p:nvPr/>
        </p:nvSpPr>
        <p:spPr>
          <a:xfrm>
            <a:off x="6967440" y="1897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4"/>
          <p:cNvSpPr/>
          <p:nvPr/>
        </p:nvSpPr>
        <p:spPr>
          <a:xfrm>
            <a:off x="4925520" y="139068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rectory requiring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Group 29"/>
          <p:cNvGrpSpPr/>
          <p:nvPr/>
        </p:nvGrpSpPr>
        <p:grpSpPr>
          <a:xfrm>
            <a:off x="523800" y="1515960"/>
            <a:ext cx="4556160" cy="863640"/>
            <a:chOff x="523800" y="1515960"/>
            <a:chExt cx="4556160" cy="863640"/>
          </a:xfrm>
        </p:grpSpPr>
        <p:sp>
          <p:nvSpPr>
            <p:cNvPr id="1148" name="Text Box 15"/>
            <p:cNvSpPr/>
            <p:nvPr/>
          </p:nvSpPr>
          <p:spPr>
            <a:xfrm>
              <a:off x="523800" y="1515960"/>
              <a:ext cx="274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onymous user trie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e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.asp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16"/>
            <p:cNvSpPr/>
            <p:nvPr/>
          </p:nvSpPr>
          <p:spPr>
            <a:xfrm>
              <a:off x="3440160" y="1857240"/>
              <a:ext cx="1639800" cy="52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Group 30"/>
          <p:cNvGrpSpPr/>
          <p:nvPr/>
        </p:nvGrpSpPr>
        <p:grpSpPr>
          <a:xfrm>
            <a:off x="525960" y="2263680"/>
            <a:ext cx="4554000" cy="2648160"/>
            <a:chOff x="525960" y="2263680"/>
            <a:chExt cx="4554000" cy="2648160"/>
          </a:xfrm>
        </p:grpSpPr>
        <p:sp>
          <p:nvSpPr>
            <p:cNvPr id="1151" name="Text Box 17"/>
            <p:cNvSpPr/>
            <p:nvPr/>
          </p:nvSpPr>
          <p:spPr>
            <a:xfrm>
              <a:off x="525960" y="2300400"/>
              <a:ext cx="3584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ecause of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deny users="?"/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orms loginUrl="Login.aspx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user is redirected 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ogin.asp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2" name="Picture 18" descr=""/>
            <p:cNvPicPr/>
            <p:nvPr/>
          </p:nvPicPr>
          <p:blipFill>
            <a:blip r:embed="rId1"/>
            <a:stretch/>
          </p:blipFill>
          <p:spPr>
            <a:xfrm>
              <a:off x="958680" y="3425760"/>
              <a:ext cx="24958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Line 19"/>
            <p:cNvSpPr/>
            <p:nvPr/>
          </p:nvSpPr>
          <p:spPr>
            <a:xfrm>
              <a:off x="5079960" y="2263680"/>
              <a:ext cx="0" cy="3636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20"/>
            <p:cNvSpPr/>
            <p:nvPr/>
          </p:nvSpPr>
          <p:spPr>
            <a:xfrm flipH="1">
              <a:off x="3468240" y="2452680"/>
              <a:ext cx="1582920" cy="134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Text Box 21"/>
          <p:cNvSpPr/>
          <p:nvPr/>
        </p:nvSpPr>
        <p:spPr>
          <a:xfrm>
            <a:off x="526320" y="5159520"/>
            <a:ext cx="247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User enters her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password an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uthent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Group 31"/>
          <p:cNvGrpSpPr/>
          <p:nvPr/>
        </p:nvGrpSpPr>
        <p:grpSpPr>
          <a:xfrm>
            <a:off x="2961000" y="4890960"/>
            <a:ext cx="1966320" cy="1077840"/>
            <a:chOff x="2961000" y="4890960"/>
            <a:chExt cx="1966320" cy="1077840"/>
          </a:xfrm>
        </p:grpSpPr>
        <p:sp>
          <p:nvSpPr>
            <p:cNvPr id="1157" name="Text Box 22"/>
            <p:cNvSpPr/>
            <p:nvPr/>
          </p:nvSpPr>
          <p:spPr>
            <a:xfrm>
              <a:off x="2961000" y="5388120"/>
              <a:ext cx="196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uthent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essful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23"/>
            <p:cNvSpPr/>
            <p:nvPr/>
          </p:nvSpPr>
          <p:spPr>
            <a:xfrm>
              <a:off x="3440160" y="4890960"/>
              <a:ext cx="347760" cy="53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Group 32"/>
          <p:cNvGrpSpPr/>
          <p:nvPr/>
        </p:nvGrpSpPr>
        <p:grpSpPr>
          <a:xfrm>
            <a:off x="2825280" y="2771640"/>
            <a:ext cx="5864760" cy="2671560"/>
            <a:chOff x="2825280" y="2771640"/>
            <a:chExt cx="5864760" cy="2671560"/>
          </a:xfrm>
        </p:grpSpPr>
        <p:sp>
          <p:nvSpPr>
            <p:cNvPr id="1160" name="Line 24"/>
            <p:cNvSpPr/>
            <p:nvPr/>
          </p:nvSpPr>
          <p:spPr>
            <a:xfrm flipV="1">
              <a:off x="3875040" y="2771640"/>
              <a:ext cx="1292400" cy="265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Text Box 25"/>
            <p:cNvSpPr/>
            <p:nvPr/>
          </p:nvSpPr>
          <p:spPr>
            <a:xfrm>
              <a:off x="4105800" y="498312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26"/>
            <p:cNvSpPr/>
            <p:nvPr/>
          </p:nvSpPr>
          <p:spPr>
            <a:xfrm flipH="1" flipV="1">
              <a:off x="3165480" y="4905000"/>
              <a:ext cx="363600" cy="53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27"/>
            <p:cNvSpPr/>
            <p:nvPr/>
          </p:nvSpPr>
          <p:spPr>
            <a:xfrm>
              <a:off x="2825280" y="502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28"/>
            <p:cNvSpPr/>
            <p:nvPr/>
          </p:nvSpPr>
          <p:spPr>
            <a:xfrm>
              <a:off x="4447080" y="4487760"/>
              <a:ext cx="4242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User is redirected 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.aspx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may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ess all other pages of this directory 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because she is authentica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4E94-57C8-4286-9308-D206BB50CA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gin.aspx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7" name="Text Box 3"/>
          <p:cNvSpPr/>
          <p:nvPr/>
        </p:nvSpPr>
        <p:spPr>
          <a:xfrm>
            <a:off x="619200" y="1165320"/>
            <a:ext cx="7931160" cy="563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Page Language="C#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Import Namespace="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ystem.Web.Securit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title&gt;Login page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script Language="C#"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9"/>
          <p:cNvSpPr/>
          <p:nvPr/>
        </p:nvSpPr>
        <p:spPr>
          <a:xfrm>
            <a:off x="1219320" y="2541600"/>
            <a:ext cx="708336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uthentic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bject sender, EventArgs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FormsAuthentication.Authentic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user.Text, pwd.Text) || user.Text == "Karin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FormsAuthentication.RedirectFromLogin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user.Text, fals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sg.Text = "-- authentication failed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10"/>
          <p:cNvSpPr/>
          <p:nvPr/>
        </p:nvSpPr>
        <p:spPr>
          <a:xfrm>
            <a:off x="1191960" y="4632480"/>
            <a:ext cx="712836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rm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user" Runat="server"/&gt; Name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xtBo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pwd" TextMode="Password" Runat="server"/&gt; Password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button" Text="Login" 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OnClick="Authenticat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r&gt;&lt;b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D="msg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0" name="Picture 11" descr=""/>
          <p:cNvPicPr/>
          <p:nvPr/>
        </p:nvPicPr>
        <p:blipFill>
          <a:blip r:embed="rId1"/>
          <a:stretch/>
        </p:blipFill>
        <p:spPr>
          <a:xfrm>
            <a:off x="6343560" y="3440160"/>
            <a:ext cx="24955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2567-2526-41F0-9357-C300123365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er Identification With Cooki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3" name="Text Box 3"/>
          <p:cNvSpPr/>
          <p:nvPr/>
        </p:nvSpPr>
        <p:spPr>
          <a:xfrm>
            <a:off x="679680" y="1363680"/>
            <a:ext cx="73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How does ASP.NET remember if a user is already authentica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4"/>
          <p:cNvSpPr/>
          <p:nvPr/>
        </p:nvSpPr>
        <p:spPr>
          <a:xfrm>
            <a:off x="998640" y="2308320"/>
            <a:ext cx="115920" cy="236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721800" y="19494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6"/>
          <p:cNvSpPr/>
          <p:nvPr/>
        </p:nvSpPr>
        <p:spPr>
          <a:xfrm>
            <a:off x="3859200" y="2308320"/>
            <a:ext cx="115920" cy="236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7"/>
          <p:cNvSpPr/>
          <p:nvPr/>
        </p:nvSpPr>
        <p:spPr>
          <a:xfrm>
            <a:off x="6734160" y="2308320"/>
            <a:ext cx="115920" cy="2365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9"/>
          <p:cNvSpPr/>
          <p:nvPr/>
        </p:nvSpPr>
        <p:spPr>
          <a:xfrm>
            <a:off x="3550680" y="19494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10"/>
          <p:cNvSpPr/>
          <p:nvPr/>
        </p:nvSpPr>
        <p:spPr>
          <a:xfrm>
            <a:off x="6167880" y="1949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gi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Group 27"/>
          <p:cNvGrpSpPr/>
          <p:nvPr/>
        </p:nvGrpSpPr>
        <p:grpSpPr>
          <a:xfrm>
            <a:off x="1114560" y="2354400"/>
            <a:ext cx="2743200" cy="337320"/>
            <a:chOff x="1114560" y="2354400"/>
            <a:chExt cx="2743200" cy="337320"/>
          </a:xfrm>
        </p:grpSpPr>
        <p:sp>
          <p:nvSpPr>
            <p:cNvPr id="1181" name="Line 8"/>
            <p:cNvSpPr/>
            <p:nvPr/>
          </p:nvSpPr>
          <p:spPr>
            <a:xfrm>
              <a:off x="1114560" y="2641680"/>
              <a:ext cx="2743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11"/>
            <p:cNvSpPr/>
            <p:nvPr/>
          </p:nvSpPr>
          <p:spPr>
            <a:xfrm>
              <a:off x="1193400" y="2354400"/>
              <a:ext cx="135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T "A.aspx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Group 28"/>
          <p:cNvGrpSpPr/>
          <p:nvPr/>
        </p:nvGrpSpPr>
        <p:grpSpPr>
          <a:xfrm>
            <a:off x="3975120" y="2455920"/>
            <a:ext cx="2743200" cy="337320"/>
            <a:chOff x="3975120" y="2455920"/>
            <a:chExt cx="2743200" cy="337320"/>
          </a:xfrm>
        </p:grpSpPr>
        <p:sp>
          <p:nvSpPr>
            <p:cNvPr id="1184" name="Line 12"/>
            <p:cNvSpPr/>
            <p:nvPr/>
          </p:nvSpPr>
          <p:spPr>
            <a:xfrm>
              <a:off x="3975120" y="2743200"/>
              <a:ext cx="2743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4039560" y="2455920"/>
              <a:ext cx="169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T "Login.aspx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Group 30"/>
          <p:cNvGrpSpPr/>
          <p:nvPr/>
        </p:nvGrpSpPr>
        <p:grpSpPr>
          <a:xfrm>
            <a:off x="1114560" y="2963880"/>
            <a:ext cx="2743200" cy="337320"/>
            <a:chOff x="1114560" y="2963880"/>
            <a:chExt cx="2743200" cy="337320"/>
          </a:xfrm>
        </p:grpSpPr>
        <p:sp>
          <p:nvSpPr>
            <p:cNvPr id="1187" name="Line 18"/>
            <p:cNvSpPr/>
            <p:nvPr/>
          </p:nvSpPr>
          <p:spPr>
            <a:xfrm>
              <a:off x="1114560" y="3251160"/>
              <a:ext cx="2743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Text Box 19"/>
            <p:cNvSpPr/>
            <p:nvPr/>
          </p:nvSpPr>
          <p:spPr>
            <a:xfrm>
              <a:off x="2224080" y="296388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ML + </a:t>
              </a:r>
              <a:r>
                <a:rPr b="0" lang="de-AT" sz="1600" spc="-1" strike="noStrike">
                  <a:solidFill>
                    <a:srgbClr val="ff5050"/>
                  </a:solidFill>
                  <a:latin typeface="Times New Roman"/>
                </a:rPr>
                <a:t>cook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32"/>
          <p:cNvGrpSpPr/>
          <p:nvPr/>
        </p:nvGrpSpPr>
        <p:grpSpPr>
          <a:xfrm>
            <a:off x="1114560" y="4022640"/>
            <a:ext cx="2743200" cy="337320"/>
            <a:chOff x="1114560" y="4022640"/>
            <a:chExt cx="2743200" cy="337320"/>
          </a:xfrm>
        </p:grpSpPr>
        <p:sp>
          <p:nvSpPr>
            <p:cNvPr id="1190" name="Line 22"/>
            <p:cNvSpPr/>
            <p:nvPr/>
          </p:nvSpPr>
          <p:spPr>
            <a:xfrm>
              <a:off x="1114560" y="4309920"/>
              <a:ext cx="2743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Text Box 23"/>
            <p:cNvSpPr/>
            <p:nvPr/>
          </p:nvSpPr>
          <p:spPr>
            <a:xfrm>
              <a:off x="2229480" y="4022640"/>
              <a:ext cx="15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ML + 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cookie</a:t>
              </a:r>
              <a:r>
                <a:rPr b="0" lang="de-AT" sz="1600" spc="-1" strike="noStrike" baseline="30000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Group 29"/>
          <p:cNvGrpSpPr/>
          <p:nvPr/>
        </p:nvGrpSpPr>
        <p:grpSpPr>
          <a:xfrm>
            <a:off x="3975120" y="2774880"/>
            <a:ext cx="4382640" cy="873000"/>
            <a:chOff x="3975120" y="2774880"/>
            <a:chExt cx="4382640" cy="873000"/>
          </a:xfrm>
        </p:grpSpPr>
        <p:sp>
          <p:nvSpPr>
            <p:cNvPr id="1193" name="Line 14"/>
            <p:cNvSpPr/>
            <p:nvPr/>
          </p:nvSpPr>
          <p:spPr>
            <a:xfrm>
              <a:off x="3975120" y="3062160"/>
              <a:ext cx="27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5867280" y="277488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5050"/>
                  </a:solidFill>
                  <a:latin typeface="Times New Roman"/>
                </a:rPr>
                <a:t>cook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24"/>
            <p:cNvSpPr/>
            <p:nvPr/>
          </p:nvSpPr>
          <p:spPr>
            <a:xfrm>
              <a:off x="5803560" y="2816280"/>
              <a:ext cx="855360" cy="318960"/>
            </a:xfrm>
            <a:prstGeom prst="ellipse">
              <a:avLst/>
            </a:prstGeom>
            <a:noFill/>
            <a:ln w="64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25"/>
            <p:cNvSpPr/>
            <p:nvPr/>
          </p:nvSpPr>
          <p:spPr>
            <a:xfrm>
              <a:off x="6543360" y="3090960"/>
              <a:ext cx="52200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Text Box 26"/>
            <p:cNvSpPr/>
            <p:nvPr/>
          </p:nvSpPr>
          <p:spPr>
            <a:xfrm>
              <a:off x="7122600" y="3067200"/>
              <a:ext cx="123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ifi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Group 36"/>
          <p:cNvGrpSpPr/>
          <p:nvPr/>
        </p:nvGrpSpPr>
        <p:grpSpPr>
          <a:xfrm>
            <a:off x="1114560" y="3247920"/>
            <a:ext cx="4991760" cy="824040"/>
            <a:chOff x="1114560" y="3247920"/>
            <a:chExt cx="4991760" cy="824040"/>
          </a:xfrm>
        </p:grpSpPr>
        <p:sp>
          <p:nvSpPr>
            <p:cNvPr id="1199" name="Line 20"/>
            <p:cNvSpPr/>
            <p:nvPr/>
          </p:nvSpPr>
          <p:spPr>
            <a:xfrm>
              <a:off x="1114560" y="3917880"/>
              <a:ext cx="27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Text Box 21"/>
            <p:cNvSpPr/>
            <p:nvPr/>
          </p:nvSpPr>
          <p:spPr>
            <a:xfrm>
              <a:off x="1193040" y="3616200"/>
              <a:ext cx="21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T "B.aspx" + </a:t>
              </a:r>
              <a:r>
                <a:rPr b="0" lang="de-AT" sz="1600" spc="-1" strike="noStrike">
                  <a:solidFill>
                    <a:srgbClr val="ff5050"/>
                  </a:solidFill>
                  <a:latin typeface="Times New Roman"/>
                </a:rPr>
                <a:t>cook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33"/>
            <p:cNvSpPr/>
            <p:nvPr/>
          </p:nvSpPr>
          <p:spPr>
            <a:xfrm>
              <a:off x="2581200" y="3643200"/>
              <a:ext cx="826560" cy="333360"/>
            </a:xfrm>
            <a:prstGeom prst="ellipse">
              <a:avLst/>
            </a:prstGeom>
            <a:noFill/>
            <a:ln w="64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34"/>
            <p:cNvSpPr/>
            <p:nvPr/>
          </p:nvSpPr>
          <p:spPr>
            <a:xfrm flipV="1">
              <a:off x="3422520" y="3570120"/>
              <a:ext cx="826560" cy="2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Text Box 35"/>
            <p:cNvSpPr/>
            <p:nvPr/>
          </p:nvSpPr>
          <p:spPr>
            <a:xfrm>
              <a:off x="4194360" y="3247920"/>
              <a:ext cx="191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cookie tell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rver that the user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ready authentic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Group 45"/>
          <p:cNvGrpSpPr/>
          <p:nvPr/>
        </p:nvGrpSpPr>
        <p:grpSpPr>
          <a:xfrm>
            <a:off x="678600" y="4917960"/>
            <a:ext cx="6840720" cy="1756080"/>
            <a:chOff x="678600" y="4917960"/>
            <a:chExt cx="6840720" cy="1756080"/>
          </a:xfrm>
        </p:grpSpPr>
        <p:sp>
          <p:nvSpPr>
            <p:cNvPr id="1205" name="Text Box 37"/>
            <p:cNvSpPr/>
            <p:nvPr/>
          </p:nvSpPr>
          <p:spPr>
            <a:xfrm>
              <a:off x="687960" y="5324400"/>
              <a:ext cx="64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orms loginUrl="Login.aspx" 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</a:rPr>
                <a:t>name="mycookie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protection="All"</a:t>
              </a:r>
              <a:r>
                <a:rPr b="0" lang="de-AT" sz="1400" spc="-1" strike="noStrike">
                  <a:solidFill>
                    <a:srgbClr val="ff505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9900"/>
                  </a:solidFill>
                  <a:latin typeface="Arial"/>
                </a:rPr>
                <a:t>timeout="20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38"/>
            <p:cNvSpPr/>
            <p:nvPr/>
          </p:nvSpPr>
          <p:spPr>
            <a:xfrm>
              <a:off x="3026880" y="5850000"/>
              <a:ext cx="117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ame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oki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39"/>
            <p:cNvSpPr/>
            <p:nvPr/>
          </p:nvSpPr>
          <p:spPr>
            <a:xfrm>
              <a:off x="4427640" y="5850000"/>
              <a:ext cx="139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okies sh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 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0"/>
            <p:cNvSpPr/>
            <p:nvPr/>
          </p:nvSpPr>
          <p:spPr>
            <a:xfrm>
              <a:off x="6020280" y="5850000"/>
              <a:ext cx="149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okies sh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come inval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20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41"/>
            <p:cNvSpPr/>
            <p:nvPr/>
          </p:nvSpPr>
          <p:spPr>
            <a:xfrm>
              <a:off x="3645000" y="5629320"/>
              <a:ext cx="0" cy="3049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42"/>
            <p:cNvSpPr/>
            <p:nvPr/>
          </p:nvSpPr>
          <p:spPr>
            <a:xfrm>
              <a:off x="5037120" y="5629320"/>
              <a:ext cx="0" cy="3049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Line 43"/>
            <p:cNvSpPr/>
            <p:nvPr/>
          </p:nvSpPr>
          <p:spPr>
            <a:xfrm>
              <a:off x="6504120" y="5629320"/>
              <a:ext cx="0" cy="3049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Text Box 44"/>
            <p:cNvSpPr/>
            <p:nvPr/>
          </p:nvSpPr>
          <p:spPr>
            <a:xfrm>
              <a:off x="678600" y="4917960"/>
              <a:ext cx="591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000" spc="-1" strike="noStrike">
                  <a:solidFill>
                    <a:srgbClr val="000000"/>
                  </a:solidFill>
                  <a:latin typeface="Times New Roman"/>
                </a:rPr>
                <a:t>Specifications about Cookies in the configuratio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2"/>
          <p:cNvSpPr/>
          <p:nvPr/>
        </p:nvSpPr>
        <p:spPr>
          <a:xfrm>
            <a:off x="1066680" y="4978440"/>
            <a:ext cx="4559400" cy="3682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732240" y="1162080"/>
            <a:ext cx="46666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imple Dynamic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eb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alid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ustom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figuration of AS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5050"/>
                </a:solidFill>
                <a:latin typeface="Times New Roman"/>
              </a:rPr>
              <a:t>Working with Visual Studio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6B13-794A-4D5F-9736-3106E1BB70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reating a Projec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17" name="Picture 1027" descr=""/>
          <p:cNvPicPr/>
          <p:nvPr/>
        </p:nvPicPr>
        <p:blipFill>
          <a:blip r:embed="rId1"/>
          <a:stretch/>
        </p:blipFill>
        <p:spPr>
          <a:xfrm>
            <a:off x="1941480" y="1768320"/>
            <a:ext cx="5057640" cy="3467160"/>
          </a:xfrm>
          <a:prstGeom prst="rect">
            <a:avLst/>
          </a:prstGeom>
          <a:ln w="0">
            <a:noFill/>
          </a:ln>
        </p:spPr>
      </p:pic>
      <p:sp>
        <p:nvSpPr>
          <p:cNvPr id="1218" name="Oval 1028"/>
          <p:cNvSpPr/>
          <p:nvPr/>
        </p:nvSpPr>
        <p:spPr>
          <a:xfrm>
            <a:off x="2075040" y="2467080"/>
            <a:ext cx="1422360" cy="23328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029"/>
          <p:cNvSpPr/>
          <p:nvPr/>
        </p:nvSpPr>
        <p:spPr>
          <a:xfrm>
            <a:off x="1564920" y="234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1030"/>
          <p:cNvSpPr/>
          <p:nvPr/>
        </p:nvSpPr>
        <p:spPr>
          <a:xfrm>
            <a:off x="4498920" y="3033720"/>
            <a:ext cx="843120" cy="76824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031"/>
          <p:cNvSpPr/>
          <p:nvPr/>
        </p:nvSpPr>
        <p:spPr>
          <a:xfrm>
            <a:off x="4192200" y="322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1032"/>
          <p:cNvSpPr/>
          <p:nvPr/>
        </p:nvSpPr>
        <p:spPr>
          <a:xfrm>
            <a:off x="3759120" y="4267080"/>
            <a:ext cx="1015920" cy="27648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033"/>
          <p:cNvSpPr/>
          <p:nvPr/>
        </p:nvSpPr>
        <p:spPr>
          <a:xfrm>
            <a:off x="4671360" y="4003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1034"/>
          <p:cNvSpPr/>
          <p:nvPr/>
        </p:nvSpPr>
        <p:spPr>
          <a:xfrm>
            <a:off x="4092480" y="4761000"/>
            <a:ext cx="1030320" cy="43488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035"/>
          <p:cNvSpPr/>
          <p:nvPr/>
        </p:nvSpPr>
        <p:spPr>
          <a:xfrm>
            <a:off x="4961880" y="512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505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F79E-9805-4A1A-8E19-080B40F3E2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in Script Tag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" y="1295280"/>
            <a:ext cx="76960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Page Language="C#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%@ Import Namespace="System.IO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title&gt;Page counter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script Language="C#"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Runat="Server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CounterValue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leStream s = new FileStream("c:\\Data\\Counter.dat", FileMode.OpenOrCre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 = r.ReadInt32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h1&gt;Welcome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ou are visitor number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%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ounterValue()%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51040"/>
                <a:tab algn="l" pos="1139760"/>
                <a:tab algn="l" pos="142884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956280" y="12952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unter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5468760" y="3321000"/>
            <a:ext cx="307368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2543040" y="5358960"/>
            <a:ext cx="2827800" cy="828720"/>
            <a:chOff x="2543040" y="5358960"/>
            <a:chExt cx="2827800" cy="828720"/>
          </a:xfrm>
        </p:grpSpPr>
        <p:sp>
          <p:nvSpPr>
            <p:cNvPr id="136" name="Text Box 11"/>
            <p:cNvSpPr/>
            <p:nvPr/>
          </p:nvSpPr>
          <p:spPr>
            <a:xfrm>
              <a:off x="2543040" y="5637240"/>
              <a:ext cx="2827800" cy="55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ort form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sponse.Write(CounterValue(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V="1">
              <a:off x="3289320" y="5358960"/>
              <a:ext cx="203040" cy="33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B7A-7C86-456F-85AA-FCB4F09810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osing a GUI With Drag &amp; Drop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28" name="Picture 3" descr=""/>
          <p:cNvPicPr/>
          <p:nvPr/>
        </p:nvPicPr>
        <p:blipFill>
          <a:blip r:embed="rId1"/>
          <a:stretch/>
        </p:blipFill>
        <p:spPr>
          <a:xfrm>
            <a:off x="668160" y="1322280"/>
            <a:ext cx="7197840" cy="5229360"/>
          </a:xfrm>
          <a:prstGeom prst="rect">
            <a:avLst/>
          </a:prstGeom>
          <a:ln w="0">
            <a:noFill/>
          </a:ln>
        </p:spPr>
      </p:pic>
      <p:sp>
        <p:nvSpPr>
          <p:cNvPr id="1229" name="Oval 4"/>
          <p:cNvSpPr/>
          <p:nvPr/>
        </p:nvSpPr>
        <p:spPr>
          <a:xfrm>
            <a:off x="1552680" y="2119320"/>
            <a:ext cx="2554200" cy="98748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3686040" y="300816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the created 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452520" y="2293920"/>
            <a:ext cx="1204920" cy="330840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"/>
          <p:cNvSpPr/>
          <p:nvPr/>
        </p:nvSpPr>
        <p:spPr>
          <a:xfrm>
            <a:off x="1548720" y="479412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Tool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8"/>
          <p:cNvSpPr/>
          <p:nvPr/>
        </p:nvSpPr>
        <p:spPr>
          <a:xfrm>
            <a:off x="5808600" y="1944720"/>
            <a:ext cx="2235240" cy="150984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9"/>
          <p:cNvSpPr/>
          <p:nvPr/>
        </p:nvSpPr>
        <p:spPr>
          <a:xfrm>
            <a:off x="8081640" y="210816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10"/>
          <p:cNvSpPr/>
          <p:nvPr/>
        </p:nvSpPr>
        <p:spPr>
          <a:xfrm>
            <a:off x="5856120" y="3236760"/>
            <a:ext cx="2046600" cy="277200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1"/>
          <p:cNvSpPr/>
          <p:nvPr/>
        </p:nvSpPr>
        <p:spPr>
          <a:xfrm>
            <a:off x="7863480" y="4997520"/>
            <a:ext cx="8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12"/>
          <p:cNvSpPr/>
          <p:nvPr/>
        </p:nvSpPr>
        <p:spPr>
          <a:xfrm>
            <a:off x="1320840" y="5661000"/>
            <a:ext cx="1089000" cy="39204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3"/>
          <p:cNvSpPr/>
          <p:nvPr/>
        </p:nvSpPr>
        <p:spPr>
          <a:xfrm>
            <a:off x="2435760" y="5432400"/>
            <a:ext cx="25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Used to switch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design view and HTM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E8DE-5E61-48CE-BD7E-D01927F374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TML View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41" name="Picture 3" descr=""/>
          <p:cNvPicPr/>
          <p:nvPr/>
        </p:nvPicPr>
        <p:blipFill>
          <a:blip r:embed="rId1"/>
          <a:stretch/>
        </p:blipFill>
        <p:spPr>
          <a:xfrm>
            <a:off x="841320" y="1434960"/>
            <a:ext cx="708336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AB6-0524-45D0-930B-475B466C9C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vent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44" name="Picture 3" descr=""/>
          <p:cNvPicPr/>
          <p:nvPr/>
        </p:nvPicPr>
        <p:blipFill>
          <a:blip r:embed="rId1"/>
          <a:stretch/>
        </p:blipFill>
        <p:spPr>
          <a:xfrm>
            <a:off x="784080" y="1773360"/>
            <a:ext cx="6258240" cy="4546440"/>
          </a:xfrm>
          <a:prstGeom prst="rect">
            <a:avLst/>
          </a:prstGeom>
          <a:ln w="0">
            <a:noFill/>
          </a:ln>
        </p:spPr>
      </p:pic>
      <p:sp>
        <p:nvSpPr>
          <p:cNvPr id="1245" name="Text Box 4"/>
          <p:cNvSpPr/>
          <p:nvPr/>
        </p:nvSpPr>
        <p:spPr>
          <a:xfrm>
            <a:off x="692280" y="123336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Double click on a Button creates an event handler in the code beh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5"/>
          <p:cNvSpPr/>
          <p:nvPr/>
        </p:nvSpPr>
        <p:spPr>
          <a:xfrm>
            <a:off x="1770120" y="4587840"/>
            <a:ext cx="3774960" cy="81288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6"/>
          <p:cNvSpPr/>
          <p:nvPr/>
        </p:nvSpPr>
        <p:spPr>
          <a:xfrm>
            <a:off x="2120400" y="535932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5050"/>
                </a:solidFill>
                <a:latin typeface="Times New Roman"/>
              </a:rPr>
              <a:t>event handler for Click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7"/>
          <p:cNvSpPr/>
          <p:nvPr/>
        </p:nvSpPr>
        <p:spPr>
          <a:xfrm>
            <a:off x="2452680" y="2293920"/>
            <a:ext cx="987480" cy="260280"/>
          </a:xfrm>
          <a:prstGeom prst="ellipse">
            <a:avLst/>
          </a:prstGeom>
          <a:noFill/>
          <a:ln w="64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9ED5-E74C-4B88-8EEC-3F968E24C0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ecuting the P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672120" y="140976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Menu: Debug |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2" name="Picture 4" descr=""/>
          <p:cNvPicPr/>
          <p:nvPr/>
        </p:nvPicPr>
        <p:blipFill>
          <a:blip r:embed="rId1"/>
          <a:stretch/>
        </p:blipFill>
        <p:spPr>
          <a:xfrm>
            <a:off x="758880" y="2131920"/>
            <a:ext cx="464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4"/>
          <p:cNvSpPr/>
          <p:nvPr/>
        </p:nvSpPr>
        <p:spPr>
          <a:xfrm>
            <a:off x="723960" y="2641680"/>
            <a:ext cx="4927680" cy="35568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0000"/>
                </a:solidFill>
                <a:latin typeface="Times New Roman"/>
              </a:rPr>
              <a:t>New Features in ASP.NET 2.0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737640" y="2604960"/>
            <a:ext cx="44082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5050"/>
                </a:solidFill>
                <a:latin typeface="Times New Roman"/>
              </a:rPr>
              <a:t>Mas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Themes and s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Person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Authentication and membership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ew Controls for databas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E12A-E416-47AB-92FA-3CAD424270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026"/>
          <p:cNvSpPr/>
          <p:nvPr/>
        </p:nvSpPr>
        <p:spPr>
          <a:xfrm>
            <a:off x="1150920" y="2946240"/>
            <a:ext cx="1962000" cy="9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9" name="Text Box 1028"/>
          <p:cNvSpPr/>
          <p:nvPr/>
        </p:nvSpPr>
        <p:spPr>
          <a:xfrm>
            <a:off x="667080" y="119376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form layout for all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029"/>
          <p:cNvSpPr/>
          <p:nvPr/>
        </p:nvSpPr>
        <p:spPr>
          <a:xfrm>
            <a:off x="424080" y="205740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%@ </a:t>
            </a:r>
            <a:r>
              <a:rPr b="0" lang="de-AT" sz="1200" spc="-1" strike="noStrike">
                <a:solidFill>
                  <a:srgbClr val="ff5050"/>
                </a:solidFill>
                <a:latin typeface="Arial"/>
              </a:rPr>
              <a:t>Master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030"/>
          <p:cNvSpPr/>
          <p:nvPr/>
        </p:nvSpPr>
        <p:spPr>
          <a:xfrm>
            <a:off x="542880" y="2452680"/>
            <a:ext cx="2556000" cy="37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031"/>
          <p:cNvSpPr/>
          <p:nvPr/>
        </p:nvSpPr>
        <p:spPr>
          <a:xfrm>
            <a:off x="542880" y="2844720"/>
            <a:ext cx="507960" cy="1089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1032"/>
          <p:cNvSpPr/>
          <p:nvPr/>
        </p:nvSpPr>
        <p:spPr>
          <a:xfrm>
            <a:off x="903600" y="25066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 title area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1033"/>
          <p:cNvSpPr/>
          <p:nvPr/>
        </p:nvSpPr>
        <p:spPr>
          <a:xfrm rot="16200000">
            <a:off x="364320" y="325656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 link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1034"/>
          <p:cNvSpPr/>
          <p:nvPr/>
        </p:nvSpPr>
        <p:spPr>
          <a:xfrm>
            <a:off x="1174680" y="2971800"/>
            <a:ext cx="192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asp:</a:t>
            </a:r>
            <a:r>
              <a:rPr b="0" lang="de-AT" sz="1200" spc="-1" strike="noStrike">
                <a:solidFill>
                  <a:srgbClr val="ff5050"/>
                </a:solidFill>
                <a:latin typeface="Arial"/>
              </a:rPr>
              <a:t>ContentPlaceH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d="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Stuff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runat="serve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1035"/>
          <p:cNvSpPr/>
          <p:nvPr/>
        </p:nvSpPr>
        <p:spPr>
          <a:xfrm>
            <a:off x="457200" y="2060640"/>
            <a:ext cx="27432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1040"/>
          <p:cNvSpPr/>
          <p:nvPr/>
        </p:nvSpPr>
        <p:spPr>
          <a:xfrm>
            <a:off x="2327040" y="179712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My.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Group 1070"/>
          <p:cNvGrpSpPr/>
          <p:nvPr/>
        </p:nvGrpSpPr>
        <p:grpSpPr>
          <a:xfrm>
            <a:off x="3208320" y="1792440"/>
            <a:ext cx="5718240" cy="1995480"/>
            <a:chOff x="3208320" y="1792440"/>
            <a:chExt cx="5718240" cy="1995480"/>
          </a:xfrm>
        </p:grpSpPr>
        <p:sp>
          <p:nvSpPr>
            <p:cNvPr id="1269" name="Rectangle 1036"/>
            <p:cNvSpPr/>
            <p:nvPr/>
          </p:nvSpPr>
          <p:spPr>
            <a:xfrm>
              <a:off x="3605040" y="2438280"/>
              <a:ext cx="2267280" cy="124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Text Box 1037"/>
            <p:cNvSpPr/>
            <p:nvPr/>
          </p:nvSpPr>
          <p:spPr>
            <a:xfrm>
              <a:off x="3543840" y="2057400"/>
              <a:ext cx="264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&lt;%@ </a:t>
              </a:r>
              <a:r>
                <a:rPr b="0" lang="de-AT" sz="1200" spc="-1" strike="noStrike">
                  <a:solidFill>
                    <a:srgbClr val="ff5050"/>
                  </a:solidFill>
                  <a:latin typeface="Arial"/>
                </a:rPr>
                <a:t>Page master="My.master"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%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Text Box 1038"/>
            <p:cNvSpPr/>
            <p:nvPr/>
          </p:nvSpPr>
          <p:spPr>
            <a:xfrm>
              <a:off x="3542400" y="2378160"/>
              <a:ext cx="2417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0" lang="de-AT" sz="1200" spc="-1" strike="noStrike">
                  <a:solidFill>
                    <a:srgbClr val="ff5050"/>
                  </a:solidFill>
                  <a:latin typeface="Arial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tentPlaceHolderId="</a:t>
              </a: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tuff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unat="server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Rectangle 1039"/>
            <p:cNvSpPr/>
            <p:nvPr/>
          </p:nvSpPr>
          <p:spPr>
            <a:xfrm>
              <a:off x="3535200" y="2060640"/>
              <a:ext cx="2613240" cy="17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1041"/>
            <p:cNvSpPr/>
            <p:nvPr/>
          </p:nvSpPr>
          <p:spPr>
            <a:xfrm>
              <a:off x="3545280" y="3379680"/>
              <a:ext cx="122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&lt;/asp:Content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Text Box 1042"/>
            <p:cNvSpPr/>
            <p:nvPr/>
          </p:nvSpPr>
          <p:spPr>
            <a:xfrm>
              <a:off x="5160600" y="1797120"/>
              <a:ext cx="99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Page1.asp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043"/>
            <p:cNvSpPr/>
            <p:nvPr/>
          </p:nvSpPr>
          <p:spPr>
            <a:xfrm>
              <a:off x="3824280" y="3005280"/>
              <a:ext cx="1871640" cy="361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1053"/>
            <p:cNvSpPr/>
            <p:nvPr/>
          </p:nvSpPr>
          <p:spPr>
            <a:xfrm>
              <a:off x="6618240" y="2104920"/>
              <a:ext cx="2017800" cy="14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1054"/>
            <p:cNvSpPr/>
            <p:nvPr/>
          </p:nvSpPr>
          <p:spPr>
            <a:xfrm>
              <a:off x="6748560" y="2206800"/>
              <a:ext cx="1698480" cy="347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Rectangle 1055"/>
            <p:cNvSpPr/>
            <p:nvPr/>
          </p:nvSpPr>
          <p:spPr>
            <a:xfrm>
              <a:off x="6748560" y="2570040"/>
              <a:ext cx="363600" cy="912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Rectangle 1056"/>
            <p:cNvSpPr/>
            <p:nvPr/>
          </p:nvSpPr>
          <p:spPr>
            <a:xfrm>
              <a:off x="7192800" y="2641680"/>
              <a:ext cx="1233720" cy="361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1063"/>
            <p:cNvSpPr/>
            <p:nvPr/>
          </p:nvSpPr>
          <p:spPr>
            <a:xfrm>
              <a:off x="3208320" y="2989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1064"/>
            <p:cNvSpPr/>
            <p:nvPr/>
          </p:nvSpPr>
          <p:spPr>
            <a:xfrm>
              <a:off x="6154560" y="297504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Text Box 1068"/>
            <p:cNvSpPr/>
            <p:nvPr/>
          </p:nvSpPr>
          <p:spPr>
            <a:xfrm>
              <a:off x="6389640" y="1792440"/>
              <a:ext cx="253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http://domain/virtualdir/Page1.asp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Group 1071"/>
          <p:cNvGrpSpPr/>
          <p:nvPr/>
        </p:nvGrpSpPr>
        <p:grpSpPr>
          <a:xfrm>
            <a:off x="1828800" y="3984480"/>
            <a:ext cx="7097760" cy="2038320"/>
            <a:chOff x="1828800" y="3984480"/>
            <a:chExt cx="7097760" cy="2038320"/>
          </a:xfrm>
        </p:grpSpPr>
        <p:sp>
          <p:nvSpPr>
            <p:cNvPr id="1284" name="Rectangle 1044"/>
            <p:cNvSpPr/>
            <p:nvPr/>
          </p:nvSpPr>
          <p:spPr>
            <a:xfrm>
              <a:off x="3605040" y="4673520"/>
              <a:ext cx="2267280" cy="124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Text Box 1045"/>
            <p:cNvSpPr/>
            <p:nvPr/>
          </p:nvSpPr>
          <p:spPr>
            <a:xfrm>
              <a:off x="3543840" y="4292640"/>
              <a:ext cx="264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&lt;%@ </a:t>
              </a:r>
              <a:r>
                <a:rPr b="0" lang="de-AT" sz="1200" spc="-1" strike="noStrike">
                  <a:solidFill>
                    <a:srgbClr val="ff5050"/>
                  </a:solidFill>
                  <a:latin typeface="Arial"/>
                </a:rPr>
                <a:t>Page master="My.master"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%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Text Box 1046"/>
            <p:cNvSpPr/>
            <p:nvPr/>
          </p:nvSpPr>
          <p:spPr>
            <a:xfrm>
              <a:off x="3542400" y="4613400"/>
              <a:ext cx="2417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&lt;asp:</a:t>
              </a:r>
              <a:r>
                <a:rPr b="0" lang="de-AT" sz="1200" spc="-1" strike="noStrike">
                  <a:solidFill>
                    <a:srgbClr val="ff5050"/>
                  </a:solidFill>
                  <a:latin typeface="Arial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tentPlaceHolderId="</a:t>
              </a: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tuff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unat="server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1047"/>
            <p:cNvSpPr/>
            <p:nvPr/>
          </p:nvSpPr>
          <p:spPr>
            <a:xfrm>
              <a:off x="3535200" y="4295880"/>
              <a:ext cx="2613240" cy="172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Text Box 1048"/>
            <p:cNvSpPr/>
            <p:nvPr/>
          </p:nvSpPr>
          <p:spPr>
            <a:xfrm>
              <a:off x="3545280" y="5614920"/>
              <a:ext cx="122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&lt;/asp:Content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Text Box 1049"/>
            <p:cNvSpPr/>
            <p:nvPr/>
          </p:nvSpPr>
          <p:spPr>
            <a:xfrm>
              <a:off x="5160600" y="4032360"/>
              <a:ext cx="99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Page2.asp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1050"/>
            <p:cNvSpPr/>
            <p:nvPr/>
          </p:nvSpPr>
          <p:spPr>
            <a:xfrm>
              <a:off x="3824280" y="5240160"/>
              <a:ext cx="347760" cy="362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1051"/>
            <p:cNvSpPr/>
            <p:nvPr/>
          </p:nvSpPr>
          <p:spPr>
            <a:xfrm>
              <a:off x="4287960" y="5240160"/>
              <a:ext cx="347400" cy="362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1052"/>
            <p:cNvSpPr/>
            <p:nvPr/>
          </p:nvSpPr>
          <p:spPr>
            <a:xfrm>
              <a:off x="4753080" y="5240160"/>
              <a:ext cx="361800" cy="362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057"/>
            <p:cNvSpPr/>
            <p:nvPr/>
          </p:nvSpPr>
          <p:spPr>
            <a:xfrm>
              <a:off x="6618240" y="4282920"/>
              <a:ext cx="2017800" cy="14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058"/>
            <p:cNvSpPr/>
            <p:nvPr/>
          </p:nvSpPr>
          <p:spPr>
            <a:xfrm>
              <a:off x="6748560" y="4384800"/>
              <a:ext cx="1698480" cy="347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1059"/>
            <p:cNvSpPr/>
            <p:nvPr/>
          </p:nvSpPr>
          <p:spPr>
            <a:xfrm>
              <a:off x="6748560" y="4748040"/>
              <a:ext cx="363600" cy="912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1060"/>
            <p:cNvSpPr/>
            <p:nvPr/>
          </p:nvSpPr>
          <p:spPr>
            <a:xfrm>
              <a:off x="7192800" y="4819680"/>
              <a:ext cx="347760" cy="361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Rectangle 1061"/>
            <p:cNvSpPr/>
            <p:nvPr/>
          </p:nvSpPr>
          <p:spPr>
            <a:xfrm>
              <a:off x="7642080" y="4819680"/>
              <a:ext cx="347760" cy="361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062"/>
            <p:cNvSpPr/>
            <p:nvPr/>
          </p:nvSpPr>
          <p:spPr>
            <a:xfrm>
              <a:off x="8091360" y="4819680"/>
              <a:ext cx="347760" cy="361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065"/>
            <p:cNvSpPr/>
            <p:nvPr/>
          </p:nvSpPr>
          <p:spPr>
            <a:xfrm>
              <a:off x="1828800" y="4005360"/>
              <a:ext cx="0" cy="9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1066"/>
            <p:cNvSpPr/>
            <p:nvPr/>
          </p:nvSpPr>
          <p:spPr>
            <a:xfrm>
              <a:off x="1828800" y="4992840"/>
              <a:ext cx="16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1067"/>
            <p:cNvSpPr/>
            <p:nvPr/>
          </p:nvSpPr>
          <p:spPr>
            <a:xfrm>
              <a:off x="6154560" y="499284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1069"/>
            <p:cNvSpPr/>
            <p:nvPr/>
          </p:nvSpPr>
          <p:spPr>
            <a:xfrm>
              <a:off x="6389640" y="3984480"/>
              <a:ext cx="253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http://domain/virtualdir/Page2.asp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31AC-4D20-40EC-9E65-17E2648613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haracteristics of Master P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686520" y="1219320"/>
            <a:ext cx="7012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y contain arbitrary HTML code and arbitrary ASP.NET web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May have a code beh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anbe n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552680" y="2341440"/>
            <a:ext cx="53845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Mas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language="C#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ContentPlaceHolder id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ubmas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5"/>
          <p:cNvSpPr/>
          <p:nvPr/>
        </p:nvSpPr>
        <p:spPr>
          <a:xfrm>
            <a:off x="1536120" y="3170160"/>
            <a:ext cx="542628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Mas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language="C#" master="Main.master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Content ContentPlaceHolderId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ubmas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ContentPlaceHolder id="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MyCont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runat="server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sp:Cont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6"/>
          <p:cNvSpPr/>
          <p:nvPr/>
        </p:nvSpPr>
        <p:spPr>
          <a:xfrm>
            <a:off x="1536120" y="4648320"/>
            <a:ext cx="542628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@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language="C#" master="Sub.master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asp:Content ContentPlaceHolderId="</a:t>
            </a:r>
            <a:r>
              <a:rPr b="0" lang="de-AT" sz="1400" spc="-1" strike="noStrike">
                <a:solidFill>
                  <a:srgbClr val="009900"/>
                </a:solidFill>
                <a:latin typeface="Arial"/>
              </a:rPr>
              <a:t>MyCont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runat="serv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 is th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asp:Cont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7"/>
          <p:cNvSpPr/>
          <p:nvPr/>
        </p:nvSpPr>
        <p:spPr>
          <a:xfrm>
            <a:off x="7130520" y="229068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ain.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8"/>
          <p:cNvSpPr/>
          <p:nvPr/>
        </p:nvSpPr>
        <p:spPr>
          <a:xfrm>
            <a:off x="7129440" y="315756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ub.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9"/>
          <p:cNvSpPr/>
          <p:nvPr/>
        </p:nvSpPr>
        <p:spPr>
          <a:xfrm>
            <a:off x="7130520" y="466740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yPage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AutoShape 10"/>
          <p:cNvSpPr/>
          <p:nvPr/>
        </p:nvSpPr>
        <p:spPr>
          <a:xfrm>
            <a:off x="1262160" y="3705120"/>
            <a:ext cx="117360" cy="739800"/>
          </a:xfrm>
          <a:custGeom>
            <a:avLst/>
            <a:gdLst>
              <a:gd name="textAreaLeft" fmla="*/ 74880 w 117360"/>
              <a:gd name="textAreaRight" fmla="*/ 117720 w 117360"/>
              <a:gd name="textAreaTop" fmla="*/ 19080 h 739800"/>
              <a:gd name="textAreaBottom" fmla="*/ 720720 h 7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11"/>
          <p:cNvSpPr/>
          <p:nvPr/>
        </p:nvSpPr>
        <p:spPr>
          <a:xfrm flipH="1">
            <a:off x="1131840" y="406872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12"/>
          <p:cNvSpPr/>
          <p:nvPr/>
        </p:nvSpPr>
        <p:spPr>
          <a:xfrm flipV="1">
            <a:off x="1117440" y="2906640"/>
            <a:ext cx="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1117440" y="2906640"/>
            <a:ext cx="39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AutoShape 14"/>
          <p:cNvSpPr/>
          <p:nvPr/>
        </p:nvSpPr>
        <p:spPr>
          <a:xfrm>
            <a:off x="1262160" y="5213520"/>
            <a:ext cx="117360" cy="493560"/>
          </a:xfrm>
          <a:custGeom>
            <a:avLst/>
            <a:gdLst>
              <a:gd name="textAreaLeft" fmla="*/ 74880 w 117360"/>
              <a:gd name="textAreaRight" fmla="*/ 117720 w 117360"/>
              <a:gd name="textAreaTop" fmla="*/ 12600 h 493560"/>
              <a:gd name="textAreaBottom" fmla="*/ 480960 h 4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15"/>
          <p:cNvSpPr/>
          <p:nvPr/>
        </p:nvSpPr>
        <p:spPr>
          <a:xfrm flipH="1">
            <a:off x="1044720" y="546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16"/>
          <p:cNvSpPr/>
          <p:nvPr/>
        </p:nvSpPr>
        <p:spPr>
          <a:xfrm flipV="1">
            <a:off x="1044720" y="4198680"/>
            <a:ext cx="0" cy="12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1044720" y="419904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8"/>
          <p:cNvSpPr/>
          <p:nvPr/>
        </p:nvSpPr>
        <p:spPr>
          <a:xfrm>
            <a:off x="735120" y="6073920"/>
            <a:ext cx="638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ster can be assigned to all pages of a site by specifying it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b.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s can define different master pages fr different browser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C61-98A5-43C4-8E81-31EC4A4103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Behind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3" name="Text Box 3"/>
          <p:cNvSpPr/>
          <p:nvPr/>
        </p:nvSpPr>
        <p:spPr>
          <a:xfrm>
            <a:off x="800640" y="1781280"/>
            <a:ext cx="57312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 Master language="C#"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herits="MyBase" src="My.master.cs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819000" y="2317680"/>
            <a:ext cx="5722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yB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System.Web.UI.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MasterPag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"/>
          <p:cNvSpPr/>
          <p:nvPr/>
        </p:nvSpPr>
        <p:spPr>
          <a:xfrm>
            <a:off x="6598800" y="177156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y.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6"/>
          <p:cNvSpPr/>
          <p:nvPr/>
        </p:nvSpPr>
        <p:spPr>
          <a:xfrm>
            <a:off x="6599520" y="22654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y.master.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7"/>
          <p:cNvSpPr/>
          <p:nvPr/>
        </p:nvSpPr>
        <p:spPr>
          <a:xfrm>
            <a:off x="671400" y="1276200"/>
            <a:ext cx="50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As a base class of the page clas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s it was so f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8"/>
          <p:cNvSpPr/>
          <p:nvPr/>
        </p:nvSpPr>
        <p:spPr>
          <a:xfrm>
            <a:off x="799200" y="3551400"/>
            <a:ext cx="6720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% Master language="C#"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pilewith="My.master.cs" classname="MyLogic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%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9"/>
          <p:cNvSpPr/>
          <p:nvPr/>
        </p:nvSpPr>
        <p:spPr>
          <a:xfrm>
            <a:off x="819000" y="4087800"/>
            <a:ext cx="6694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de-AT" sz="1400" spc="-1" strike="noStrike">
                <a:solidFill>
                  <a:srgbClr val="ff3300"/>
                </a:solidFill>
                <a:latin typeface="Arial"/>
              </a:rPr>
              <a:t>parti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yLog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0"/>
          <p:cNvSpPr/>
          <p:nvPr/>
        </p:nvSpPr>
        <p:spPr>
          <a:xfrm>
            <a:off x="7556040" y="354168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y.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11"/>
          <p:cNvSpPr/>
          <p:nvPr/>
        </p:nvSpPr>
        <p:spPr>
          <a:xfrm>
            <a:off x="7556760" y="403560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y.master.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2"/>
          <p:cNvSpPr/>
          <p:nvPr/>
        </p:nvSpPr>
        <p:spPr>
          <a:xfrm>
            <a:off x="671400" y="304632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As a partial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13"/>
          <p:cNvSpPr/>
          <p:nvPr/>
        </p:nvSpPr>
        <p:spPr>
          <a:xfrm>
            <a:off x="851400" y="4430880"/>
            <a:ext cx="72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b controls of a page need not be declared as fields any more in the code behind fil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2"/>
          <p:cNvSpPr/>
          <p:nvPr/>
        </p:nvSpPr>
        <p:spPr>
          <a:xfrm>
            <a:off x="723960" y="2997360"/>
            <a:ext cx="4927680" cy="355320"/>
          </a:xfrm>
          <a:prstGeom prst="rect">
            <a:avLst/>
          </a:prstGeom>
          <a:solidFill>
            <a:srgbClr val="ccccff"/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New Features in ASP.NET 2.0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6" name="Text Box 4"/>
          <p:cNvSpPr/>
          <p:nvPr/>
        </p:nvSpPr>
        <p:spPr>
          <a:xfrm>
            <a:off x="737640" y="2604960"/>
            <a:ext cx="44082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Mas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5050"/>
                </a:solidFill>
                <a:latin typeface="Times New Roman"/>
              </a:rPr>
              <a:t>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Themes and s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Person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Authentication and membership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New Controls for databas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CADC-4F4F-4FDD-81AD-18C23313EA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te Ma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9" name="Text Box 1027"/>
          <p:cNvSpPr/>
          <p:nvPr/>
        </p:nvSpPr>
        <p:spPr>
          <a:xfrm>
            <a:off x="680040" y="117936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age hierarchy of an application is described in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028"/>
          <p:cNvSpPr/>
          <p:nvPr/>
        </p:nvSpPr>
        <p:spPr>
          <a:xfrm>
            <a:off x="801360" y="1816200"/>
            <a:ext cx="593820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?xml version="1.0" encoding="utf-8" 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itle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rticl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description="Home" url="Articles.aspx"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itle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pute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url="Computers.aspx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itle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C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url="PCs.aspx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itle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otebook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url="Notebooks.aspx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itle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rinte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url="Printers.aspx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itle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La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url="Laser.aspx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itle="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kJe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 url="InkJet.aspx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N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37476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de-AT" sz="1400" spc="-1" strike="noStrike">
                <a:solidFill>
                  <a:srgbClr val="ff5050"/>
                </a:solidFill>
                <a:latin typeface="Arial"/>
              </a:rPr>
              <a:t>siteMa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Group 1032"/>
          <p:cNvGrpSpPr/>
          <p:nvPr/>
        </p:nvGrpSpPr>
        <p:grpSpPr>
          <a:xfrm>
            <a:off x="5500800" y="2279520"/>
            <a:ext cx="3456720" cy="1797480"/>
            <a:chOff x="5500800" y="2279520"/>
            <a:chExt cx="3456720" cy="1797480"/>
          </a:xfrm>
        </p:grpSpPr>
        <p:sp>
          <p:nvSpPr>
            <p:cNvPr id="1342" name="Text Box 1033"/>
            <p:cNvSpPr/>
            <p:nvPr/>
          </p:nvSpPr>
          <p:spPr>
            <a:xfrm>
              <a:off x="6998400" y="2279520"/>
              <a:ext cx="19591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ach of these 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s the same Mas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Master cont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reeView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ontro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us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reeView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-displayed on e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1034"/>
            <p:cNvSpPr/>
            <p:nvPr/>
          </p:nvSpPr>
          <p:spPr>
            <a:xfrm flipH="1" flipV="1">
              <a:off x="6067440" y="2449080"/>
              <a:ext cx="90000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1035"/>
            <p:cNvSpPr/>
            <p:nvPr/>
          </p:nvSpPr>
          <p:spPr>
            <a:xfrm flipH="1" flipV="1">
              <a:off x="5500800" y="2696760"/>
              <a:ext cx="149544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1036"/>
            <p:cNvSpPr/>
            <p:nvPr/>
          </p:nvSpPr>
          <p:spPr>
            <a:xfrm flipH="1" flipV="1">
              <a:off x="5790960" y="3044520"/>
              <a:ext cx="11602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Text Box 1037"/>
          <p:cNvSpPr/>
          <p:nvPr/>
        </p:nvSpPr>
        <p:spPr>
          <a:xfrm>
            <a:off x="5569200" y="154296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pp.site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1039"/>
          <p:cNvGrpSpPr/>
          <p:nvPr/>
        </p:nvGrpSpPr>
        <p:grpSpPr>
          <a:xfrm>
            <a:off x="681120" y="4816440"/>
            <a:ext cx="6843600" cy="1793880"/>
            <a:chOff x="681120" y="4816440"/>
            <a:chExt cx="6843600" cy="1793880"/>
          </a:xfrm>
        </p:grpSpPr>
        <p:sp>
          <p:nvSpPr>
            <p:cNvPr id="1348" name="Text Box 1029"/>
            <p:cNvSpPr/>
            <p:nvPr/>
          </p:nvSpPr>
          <p:spPr>
            <a:xfrm>
              <a:off x="681120" y="4816440"/>
              <a:ext cx="508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2000" spc="-1" strike="noStrike">
                  <a:solidFill>
                    <a:srgbClr val="000000"/>
                  </a:solidFill>
                  <a:latin typeface="Times New Roman"/>
                </a:rPr>
                <a:t>TreeView</a:t>
              </a:r>
              <a:r>
                <a:rPr b="0" lang="de-AT" sz="2000" spc="-1" strike="noStrike">
                  <a:solidFill>
                    <a:srgbClr val="000000"/>
                  </a:solidFill>
                  <a:latin typeface="Times New Roman"/>
                </a:rPr>
                <a:t> control can be bound to this hier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Text Box 1030"/>
            <p:cNvSpPr/>
            <p:nvPr/>
          </p:nvSpPr>
          <p:spPr>
            <a:xfrm>
              <a:off x="818280" y="5295960"/>
              <a:ext cx="4672080" cy="580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&lt;asp:</a:t>
              </a:r>
              <a:r>
                <a:rPr b="0" lang="de-AT" sz="1600" spc="-1" strike="noStrike">
                  <a:solidFill>
                    <a:srgbClr val="ff5050"/>
                  </a:solidFill>
                  <a:latin typeface="Times New Roman"/>
                </a:rPr>
                <a:t>SiteMapDataSour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D="data" runat="server"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&lt;asp:</a:t>
              </a:r>
              <a:r>
                <a:rPr b="0" lang="de-AT" sz="1600" spc="-1" strike="noStrike">
                  <a:solidFill>
                    <a:srgbClr val="ff5050"/>
                  </a:solidFill>
                  <a:latin typeface="Times New Roman"/>
                </a:rPr>
                <a:t>TreeView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DataSourceID="data" runat="server"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0" name="Picture 1031" descr=""/>
            <p:cNvPicPr/>
            <p:nvPr/>
          </p:nvPicPr>
          <p:blipFill>
            <a:blip r:embed="rId1"/>
            <a:stretch/>
          </p:blipFill>
          <p:spPr>
            <a:xfrm>
              <a:off x="6305400" y="5305320"/>
              <a:ext cx="1219320" cy="1305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351" name="Text Box 1038"/>
            <p:cNvSpPr/>
            <p:nvPr/>
          </p:nvSpPr>
          <p:spPr>
            <a:xfrm>
              <a:off x="826560" y="6119640"/>
              <a:ext cx="300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connects to </a:t>
              </a:r>
              <a:r>
                <a:rPr b="0" i="1" lang="de-AT" sz="1600" spc="-1" strike="noStrike">
                  <a:solidFill>
                    <a:srgbClr val="808080"/>
                  </a:solidFill>
                  <a:latin typeface="Times New Roman"/>
                </a:rPr>
                <a:t>app.sitemap</a:t>
              </a: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 by de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Giuseppe Attardi</cp:lastModifiedBy>
  <cp:lastPrinted>2001-09-21T08:42:52Z</cp:lastPrinted>
  <dcterms:modified xsi:type="dcterms:W3CDTF">2011-12-07T08:42:59Z</dcterms:modified>
  <cp:revision>271</cp:revision>
  <dc:subject/>
  <dc:title>Javascript-Anweisungen</dc:title>
</cp:coreProperties>
</file>